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73A2-10F0-404B-A08A-BC5118056F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E602-1AB3-4C5F-B6FE-410929BD09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BC7A-72BD-46E6-B0EA-4C8EE6A4ED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3424-4DBB-4254-AC1B-E3BEE620A4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907B-15EB-453D-8FDB-0A2A4E8EC0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328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9D8AB-45B9-487F-9D39-AD3371E5E1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A0CA-4CB6-4177-B1BF-8C61F5C4DE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DB53-05BE-42EA-8D9B-282FDAA667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FD27-6C03-4F36-A092-239E1F13C5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41B1-DFB8-4F58-86D6-D25019396E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0673-254A-4FE1-9B6E-DBC63FB7A7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06CC2-754E-4DBF-9C38-85BC17F83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328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6666"/>
                </a:solidFill>
                <a:latin typeface="Trebuchet MS"/>
              </a:rPr>
              <a:t>Click to edit the title text format</a:t>
            </a: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68000" y="6248520"/>
            <a:ext cx="64198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Pasi Kaipainen / paanka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Arial"/>
              </a:rPr>
              <a:t>@cc.jyu.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2050920" cy="2051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31D8-FD57-417B-951F-083F090A0A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47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2268000" y="6248520"/>
            <a:ext cx="64198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paanka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Arial"/>
              </a:rPr>
              <a:t>@cc.jyu.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700" spc="-1" strike="noStrike">
                <a:solidFill>
                  <a:srgbClr val="003366"/>
                </a:solidFill>
                <a:latin typeface="Trebuchet MS"/>
              </a:rPr>
              <a:t>Pasi Kaipainen</a:t>
            </a:r>
            <a:endParaRPr b="1" lang="en-US" sz="47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6666"/>
                </a:solidFill>
                <a:latin typeface="Arial"/>
              </a:rPr>
              <a:t>paanka@cc.jyu.f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6666"/>
                </a:solidFill>
                <a:latin typeface="Arial"/>
              </a:rPr>
              <a:t>Tietokone ja tietoverkot työvälineenä –kurss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6666"/>
                </a:solidFill>
                <a:latin typeface="Arial"/>
              </a:rPr>
              <a:t>Tekijän pääaine!!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173B-0541-4A50-999B-92955AAE47A6}" type="datetime">
              <a:rPr b="0" lang="fi-FI" sz="2400" spc="-1" strike="noStrike">
                <a:solidFill>
                  <a:srgbClr val="006666"/>
                </a:solidFill>
                <a:latin typeface="Arial"/>
              </a:rPr>
              <a:t>30.7.2026</a:t>
            </a:fld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A51D-7A96-4104-8CA7-C58B2FB3B60B}" type="slidenum">
              <a:t>1</a:t>
            </a:fld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300" spc="-1" strike="noStrike">
                <a:solidFill>
                  <a:srgbClr val="006666"/>
                </a:solidFill>
                <a:latin typeface="Trebuchet MS"/>
              </a:rPr>
              <a:t>1.8</a:t>
            </a:r>
            <a:r>
              <a:rPr b="1" lang="fi-FI" sz="4300" spc="-1" strike="noStrike">
                <a:solidFill>
                  <a:srgbClr val="006666"/>
                </a:solidFill>
                <a:latin typeface="Trebuchet MS"/>
              </a:rPr>
              <a:t>	</a:t>
            </a:r>
            <a:r>
              <a:rPr b="1" lang="fi-FI" sz="4300" spc="-1" strike="noStrike">
                <a:solidFill>
                  <a:srgbClr val="006666"/>
                </a:solidFill>
                <a:latin typeface="Trebuchet MS"/>
              </a:rPr>
              <a:t>Matematiikan perusopinnot sivuaineena, 25 opintopistettä</a:t>
            </a:r>
            <a:endParaRPr b="1" lang="en-US" sz="4300" spc="-1" strike="noStrike">
              <a:solidFill>
                <a:srgbClr val="006666"/>
              </a:solidFill>
              <a:latin typeface="Trebuchet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16000" y="2349360"/>
          <a:ext cx="6480000" cy="3724560"/>
        </p:xfrm>
        <a:graphic>
          <a:graphicData uri="http://schemas.openxmlformats.org/drawingml/2006/table">
            <a:tbl>
              <a:tblPr/>
              <a:tblGrid>
                <a:gridCol w="5591520"/>
                <a:gridCol w="8884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Kurssi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Op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MATA111 Analyysi 1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MATA112 Analyysi 2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MATA121 Lineaarinen algebra ja geometria 1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8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Yksi opintojakso seuraavista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588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MATA113 Analyysi 3, 4 op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588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MATA114 Differentiaaliyhtälöt, 3 op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588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MATA130 Euklidiset avaruudet, 5 op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588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HOPS:n mukaan muu vastaava väh. 3 op:n kurssi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Yhteensä vähintää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366"/>
                          </a:solidFill>
                          <a:latin typeface="Georgia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42920" y="981000"/>
            <a:ext cx="2158920" cy="287280"/>
          </a:xfrm>
          <a:prstGeom prst="flowChartAlternateProcess">
            <a:avLst/>
          </a:prstGeom>
          <a:noFill/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3366"/>
                </a:solidFill>
                <a:latin typeface="Arial"/>
              </a:rPr>
              <a:t>Dokumentin pääotsikk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1557360"/>
            <a:ext cx="2158920" cy="287280"/>
          </a:xfrm>
          <a:prstGeom prst="flowChartAlternateProcess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6666"/>
                </a:solidFill>
                <a:latin typeface="Arial"/>
              </a:rPr>
              <a:t>Tekstikappa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038400"/>
            <a:ext cx="2158920" cy="287280"/>
          </a:xfrm>
          <a:prstGeom prst="flowChartAlternateProcess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3366"/>
                </a:solidFill>
                <a:latin typeface="Arial"/>
              </a:rPr>
              <a:t>Kolmannen tason otsikk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1989000"/>
            <a:ext cx="2158920" cy="287640"/>
          </a:xfrm>
          <a:prstGeom prst="flowChartAlternateProcess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6666"/>
                </a:solidFill>
                <a:latin typeface="Arial"/>
              </a:rPr>
              <a:t>Toisen tason otsikk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3444840"/>
            <a:ext cx="2158920" cy="287280"/>
          </a:xfrm>
          <a:prstGeom prst="flowChartAlternateProcess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3366"/>
                </a:solidFill>
                <a:latin typeface="Arial"/>
              </a:rPr>
              <a:t>Tekstikappa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3916440"/>
            <a:ext cx="2158920" cy="287280"/>
          </a:xfrm>
          <a:prstGeom prst="flowChartAlternateProcess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3366"/>
                </a:solidFill>
                <a:latin typeface="Arial"/>
              </a:rPr>
              <a:t>Tekstikappa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4925880"/>
            <a:ext cx="2159280" cy="287640"/>
          </a:xfrm>
          <a:prstGeom prst="flowChartAlternateProcess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3366"/>
                </a:solidFill>
                <a:latin typeface="Arial"/>
              </a:rPr>
              <a:t>Tekstikappa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9080" y="5870520"/>
            <a:ext cx="2158920" cy="287280"/>
          </a:xfrm>
          <a:prstGeom prst="flowChartAlternateProcess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3366"/>
                </a:solidFill>
                <a:latin typeface="Arial"/>
              </a:rPr>
              <a:t>Tekstikappa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5373720"/>
            <a:ext cx="2158920" cy="287280"/>
          </a:xfrm>
          <a:prstGeom prst="flowChartAlternateProcess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6666"/>
                </a:solidFill>
                <a:latin typeface="Arial"/>
              </a:rPr>
              <a:t>Toisen tason otsikk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4365720"/>
            <a:ext cx="2158920" cy="287280"/>
          </a:xfrm>
          <a:prstGeom prst="flowChartAlternateProcess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6666"/>
                </a:solidFill>
                <a:latin typeface="Arial"/>
              </a:rPr>
              <a:t>Toisen tason otsikk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2565360"/>
            <a:ext cx="2158920" cy="287280"/>
          </a:xfrm>
          <a:prstGeom prst="flowChartAlternateProcess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3366"/>
                </a:solidFill>
                <a:latin typeface="Arial"/>
              </a:rPr>
              <a:t>Tekstikappa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1" idx="2"/>
            <a:endCxn id="112" idx="1"/>
          </p:cNvCxnSpPr>
          <p:nvPr/>
        </p:nvCxnSpPr>
        <p:spPr>
          <a:xfrm flipH="1" rot="16200000">
            <a:off x="2124720" y="1284480"/>
            <a:ext cx="415080" cy="419760"/>
          </a:xfrm>
          <a:prstGeom prst="bentConnector2">
            <a:avLst/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23" name=""/>
          <p:cNvCxnSpPr>
            <a:stCxn id="114" idx="1"/>
            <a:endCxn id="111" idx="2"/>
          </p:cNvCxnSpPr>
          <p:nvPr/>
        </p:nvCxnSpPr>
        <p:spPr>
          <a:xfrm rot="10800000">
            <a:off x="2121840" y="1286640"/>
            <a:ext cx="419760" cy="847080"/>
          </a:xfrm>
          <a:prstGeom prst="bentConnector2">
            <a:avLst/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24" name=""/>
          <p:cNvCxnSpPr/>
          <p:nvPr/>
        </p:nvCxnSpPr>
        <p:spPr>
          <a:xfrm>
            <a:off x="2123640" y="1483920"/>
            <a:ext cx="108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25" name=""/>
          <p:cNvCxnSpPr>
            <a:stCxn id="114" idx="2"/>
            <a:endCxn id="113" idx="1"/>
          </p:cNvCxnSpPr>
          <p:nvPr/>
        </p:nvCxnSpPr>
        <p:spPr>
          <a:xfrm flipH="1" rot="16200000">
            <a:off x="3650400" y="2275200"/>
            <a:ext cx="892800" cy="923040"/>
          </a:xfrm>
          <a:prstGeom prst="bentConnector2">
            <a:avLst/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26" name=""/>
          <p:cNvCxnSpPr>
            <a:stCxn id="114" idx="2"/>
            <a:endCxn id="121" idx="1"/>
          </p:cNvCxnSpPr>
          <p:nvPr/>
        </p:nvCxnSpPr>
        <p:spPr>
          <a:xfrm flipH="1" rot="16200000">
            <a:off x="3851280" y="2074320"/>
            <a:ext cx="419760" cy="851760"/>
          </a:xfrm>
          <a:prstGeom prst="bentConnector2">
            <a:avLst/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27" name=""/>
          <p:cNvCxnSpPr>
            <a:stCxn id="113" idx="2"/>
            <a:endCxn id="116" idx="1"/>
          </p:cNvCxnSpPr>
          <p:nvPr/>
        </p:nvCxnSpPr>
        <p:spPr>
          <a:xfrm flipH="1" rot="16200000">
            <a:off x="5859360" y="3131280"/>
            <a:ext cx="721440" cy="1138680"/>
          </a:xfrm>
          <a:prstGeom prst="bentConnector2">
            <a:avLst/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28" name=""/>
          <p:cNvCxnSpPr>
            <a:stCxn id="113" idx="2"/>
            <a:endCxn id="115" idx="1"/>
          </p:cNvCxnSpPr>
          <p:nvPr/>
        </p:nvCxnSpPr>
        <p:spPr>
          <a:xfrm flipH="1" rot="16200000">
            <a:off x="6095160" y="2895480"/>
            <a:ext cx="249840" cy="1138680"/>
          </a:xfrm>
          <a:prstGeom prst="bentConnector2">
            <a:avLst/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29" name=""/>
          <p:cNvCxnSpPr>
            <a:stCxn id="120" idx="2"/>
            <a:endCxn id="117" idx="1"/>
          </p:cNvCxnSpPr>
          <p:nvPr/>
        </p:nvCxnSpPr>
        <p:spPr>
          <a:xfrm flipH="1" rot="16200000">
            <a:off x="3786120" y="4515480"/>
            <a:ext cx="403920" cy="707400"/>
          </a:xfrm>
          <a:prstGeom prst="bentConnector2">
            <a:avLst/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30" name=""/>
          <p:cNvCxnSpPr>
            <a:stCxn id="119" idx="2"/>
            <a:endCxn id="118" idx="1"/>
          </p:cNvCxnSpPr>
          <p:nvPr/>
        </p:nvCxnSpPr>
        <p:spPr>
          <a:xfrm flipH="1" rot="16200000">
            <a:off x="3854160" y="5455080"/>
            <a:ext cx="340200" cy="780120"/>
          </a:xfrm>
          <a:prstGeom prst="bentConnector2">
            <a:avLst/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31" name=""/>
          <p:cNvCxnSpPr>
            <a:stCxn id="111" idx="2"/>
            <a:endCxn id="119" idx="1"/>
          </p:cNvCxnSpPr>
          <p:nvPr/>
        </p:nvCxnSpPr>
        <p:spPr>
          <a:xfrm flipH="1" rot="16200000">
            <a:off x="216720" y="3192840"/>
            <a:ext cx="4231440" cy="419760"/>
          </a:xfrm>
          <a:prstGeom prst="bentConnector2">
            <a:avLst/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32" name=""/>
          <p:cNvCxnSpPr>
            <a:stCxn id="111" idx="2"/>
            <a:endCxn id="120" idx="1"/>
          </p:cNvCxnSpPr>
          <p:nvPr/>
        </p:nvCxnSpPr>
        <p:spPr>
          <a:xfrm flipH="1" rot="16200000">
            <a:off x="720720" y="2688840"/>
            <a:ext cx="3223440" cy="419760"/>
          </a:xfrm>
          <a:prstGeom prst="bentConnector2">
            <a:avLst/>
          </a:prstGeom>
          <a:ln w="9360">
            <a:solidFill>
              <a:srgbClr val="003366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7956720" y="4510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85080" y="486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85080" y="5229360"/>
            <a:ext cx="91440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28000" y="4653000"/>
            <a:ext cx="72072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700" spc="-1" strike="noStrike">
                <a:solidFill>
                  <a:srgbClr val="006666"/>
                </a:solidFill>
                <a:latin typeface="Trebuchet MS"/>
              </a:rPr>
              <a:t>Miksi opiskella matematiikkaa?</a:t>
            </a: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106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Matemaattisen ajattelun hallinta antaa hyvät eväät tulla taitavaksi ohjelmoijak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Perinteinen ohjelmistotuotanto jakaa ohjelmisto kehityksen työtehtävät eri vaiheisiin suunnittelusta toteutukseen ja ylläpito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Tiivistämällä ja fokusoimalla tekemistä varsinaisen ongelman ratkaisemisen ympärille tuote voidaan tehdä suoraan siellä, missä on paras ymmärrys sen sisällöst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300" spc="-1" strike="noStrike">
                <a:solidFill>
                  <a:srgbClr val="006666"/>
                </a:solidFill>
                <a:latin typeface="Trebuchet MS"/>
              </a:rPr>
              <a:t>1.1</a:t>
            </a:r>
            <a:r>
              <a:rPr b="1" lang="fi-FI" sz="4300" spc="-1" strike="noStrike">
                <a:solidFill>
                  <a:srgbClr val="006666"/>
                </a:solidFill>
                <a:latin typeface="Trebuchet MS"/>
              </a:rPr>
              <a:t>	</a:t>
            </a:r>
            <a:r>
              <a:rPr b="1" lang="fi-FI" sz="4300" spc="-1" strike="noStrike">
                <a:solidFill>
                  <a:srgbClr val="006666"/>
                </a:solidFill>
                <a:latin typeface="Trebuchet MS"/>
              </a:rPr>
              <a:t>Tietokonegrafiikka ja lineaarikuvaukset </a:t>
            </a:r>
            <a:endParaRPr b="1" lang="en-US" sz="43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76628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Perusongelma on tuoda 3-ulotteisen maailman kohteet kuvaruudun 2-ulotteiselle pinnal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Tarvitaan perspektiivimuunnosta, kuvan kiertoa, siirtoa ja projisiointi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Tarvittavat kuvamuunnokset voidaan tehdä lineaarikuvauksina tai kuvauksia sopivasti yhdistelemäll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700" spc="-1" strike="noStrike">
                <a:solidFill>
                  <a:srgbClr val="006666"/>
                </a:solidFill>
                <a:latin typeface="Trebuchet MS"/>
              </a:rPr>
              <a:t>1.2</a:t>
            </a:r>
            <a:r>
              <a:rPr b="1" lang="fi-FI" sz="4700" spc="-1" strike="noStrike">
                <a:solidFill>
                  <a:srgbClr val="006666"/>
                </a:solidFill>
                <a:latin typeface="Trebuchet MS"/>
              </a:rPr>
              <a:t>	</a:t>
            </a:r>
            <a:r>
              <a:rPr b="1" lang="fi-FI" sz="4700" spc="-1" strike="noStrike">
                <a:solidFill>
                  <a:srgbClr val="006666"/>
                </a:solidFill>
                <a:latin typeface="Trebuchet MS"/>
              </a:rPr>
              <a:t>Todistaa ja ohjelmoida</a:t>
            </a: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Ohjelmointi on hyvin lähellä matematiikasta tuttua väittämien ja lauseiden todistamist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Lopullinen todistus muotoutuu alkutilasta, aksioomista ja jo todistetuista lauseista lähtien, lemma lemmalta, vaihe vaiheelta,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Kasaamalla osakokonaisuuksia yhteen tunnistaen niiden ominaisuudet muodostuu niin ohjelma kuin todistu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300" spc="-1" strike="noStrike">
                <a:solidFill>
                  <a:srgbClr val="006666"/>
                </a:solidFill>
                <a:latin typeface="Trebuchet MS"/>
              </a:rPr>
              <a:t>1.3</a:t>
            </a:r>
            <a:r>
              <a:rPr b="1" lang="fi-FI" sz="4300" spc="-1" strike="noStrike">
                <a:solidFill>
                  <a:srgbClr val="006666"/>
                </a:solidFill>
                <a:latin typeface="Trebuchet MS"/>
              </a:rPr>
              <a:t>	</a:t>
            </a:r>
            <a:r>
              <a:rPr b="1" lang="fi-FI" sz="4300" spc="-1" strike="noStrike">
                <a:solidFill>
                  <a:srgbClr val="006666"/>
                </a:solidFill>
                <a:latin typeface="Trebuchet MS"/>
              </a:rPr>
              <a:t>Yleistäminen ja analyysi sekä topologia</a:t>
            </a:r>
            <a:endParaRPr b="1" lang="en-US" sz="43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Sekä matematiikassa että ohjelmoinnissa pyritään löytämään mahdollisimman yleinen ratkais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Matematiikka tarjoaa harjoitteluun oivan apuvälin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Yleistämään kykenevä henkilö pystyy tekemään ohjelmia, jotka koostuvat osi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700" spc="-1" strike="noStrike">
                <a:solidFill>
                  <a:srgbClr val="006666"/>
                </a:solidFill>
                <a:latin typeface="Trebuchet MS"/>
              </a:rPr>
              <a:t>1.4</a:t>
            </a:r>
            <a:r>
              <a:rPr b="1" lang="fi-FI" sz="4700" spc="-1" strike="noStrike">
                <a:solidFill>
                  <a:srgbClr val="006666"/>
                </a:solidFill>
                <a:latin typeface="Trebuchet MS"/>
              </a:rPr>
              <a:t>	</a:t>
            </a:r>
            <a:r>
              <a:rPr b="1" lang="fi-FI" sz="4700" spc="-1" strike="noStrike">
                <a:solidFill>
                  <a:srgbClr val="006666"/>
                </a:solidFill>
                <a:latin typeface="Trebuchet MS"/>
              </a:rPr>
              <a:t>Algoritmit ja laskettavuus</a:t>
            </a: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Pelkkä tietokoneen tehon nostaminen ei riitä tekemään hitaista ohjelmista nopei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jakeluauton reitin löytämi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Algoritmien analysointiin ja oikeaksi todistamiseen tarvitaan matematiikka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Ohjelma on vähintään yhtä hidas kuin sen hitain os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700" spc="-1" strike="noStrike">
                <a:solidFill>
                  <a:srgbClr val="006666"/>
                </a:solidFill>
                <a:latin typeface="Trebuchet MS"/>
              </a:rPr>
              <a:t>1.5</a:t>
            </a:r>
            <a:r>
              <a:rPr b="1" lang="fi-FI" sz="4700" spc="-1" strike="noStrike">
                <a:solidFill>
                  <a:srgbClr val="006666"/>
                </a:solidFill>
                <a:latin typeface="Trebuchet MS"/>
              </a:rPr>
              <a:t>	</a:t>
            </a:r>
            <a:r>
              <a:rPr b="1" lang="fi-FI" sz="4700" spc="-1" strike="noStrike">
                <a:solidFill>
                  <a:srgbClr val="006666"/>
                </a:solidFill>
                <a:latin typeface="Trebuchet MS"/>
              </a:rPr>
              <a:t>Testaaminen ja kombinaatiot </a:t>
            </a: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Miksi nykyiset ohjelmat ovat niin epäluotettavi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Ohjelman koon kasvaessa erilaisten kombinaatioiden määrä kasvaa. Matemaattinen ajattelutapa auttaa löytämään oikeita testitapauks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Ohjelmoijan on testattava osakokonaisuuksia alusta alka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700" spc="-1" strike="noStrike">
                <a:solidFill>
                  <a:srgbClr val="006666"/>
                </a:solidFill>
                <a:latin typeface="Trebuchet MS"/>
              </a:rPr>
              <a:t>1.6</a:t>
            </a:r>
            <a:r>
              <a:rPr b="1" lang="fi-FI" sz="4700" spc="-1" strike="noStrike">
                <a:solidFill>
                  <a:srgbClr val="006666"/>
                </a:solidFill>
                <a:latin typeface="Trebuchet MS"/>
              </a:rPr>
              <a:t>	</a:t>
            </a:r>
            <a:r>
              <a:rPr b="1" lang="fi-FI" sz="4700" spc="-1" strike="noStrike">
                <a:solidFill>
                  <a:srgbClr val="006666"/>
                </a:solidFill>
                <a:latin typeface="Trebuchet MS"/>
              </a:rPr>
              <a:t>Matemaattinen formalismi </a:t>
            </a:r>
            <a:endParaRPr b="1" lang="en-US" sz="47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Kun tietotekniikassa mennään pitemmälle, lausutaan asiat samankaltaisella formaalilla kielellä, jota matematiikassa käytetää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Matemaattisen merkintätavan tunteminen jo etukäteen helpottaa asioiden seuraami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Työ ei saa kuitenkaan mennä liian kaavamaiseksi - luomisen ilo on aina säilytettävä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328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300" spc="-1" strike="noStrike">
                <a:solidFill>
                  <a:srgbClr val="006666"/>
                </a:solidFill>
                <a:latin typeface="Trebuchet MS"/>
              </a:rPr>
              <a:t>1.7</a:t>
            </a:r>
            <a:r>
              <a:rPr b="1" lang="fi-FI" sz="4300" spc="-1" strike="noStrike">
                <a:solidFill>
                  <a:srgbClr val="006666"/>
                </a:solidFill>
                <a:latin typeface="Trebuchet MS"/>
              </a:rPr>
              <a:t>	</a:t>
            </a:r>
            <a:r>
              <a:rPr b="1" lang="fi-FI" sz="4300" spc="-1" strike="noStrike">
                <a:solidFill>
                  <a:srgbClr val="006666"/>
                </a:solidFill>
                <a:latin typeface="Trebuchet MS"/>
              </a:rPr>
              <a:t>Perinteisemmät matematiikkaa vaativat ongelmat </a:t>
            </a:r>
            <a:endParaRPr b="1" lang="en-US" sz="43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Simulointi ja optimointi - numeerien analyy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Tietoliikenne - signaalinkäsitt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Tietoturva ja salaus - algebra ja suurien alkulukujen käyttö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Hahmontunnistuksen - tilastolliset menetelmä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3366"/>
                </a:solidFill>
                <a:latin typeface="Arial"/>
              </a:rPr>
              <a:t>Tietoliikenneverkot - toiminnan optimointi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9:13:54Z</dcterms:created>
  <dc:creator>Kaipainen Pasi</dc:creator>
  <dc:description/>
  <dc:language>en-US</dc:language>
  <cp:lastModifiedBy>Kaipainen Pasi</cp:lastModifiedBy>
  <dcterms:modified xsi:type="dcterms:W3CDTF">2006-11-21T20:14:09Z</dcterms:modified>
  <cp:revision>21</cp:revision>
  <dc:subject/>
  <dc:title>Miksi tietotekniikan opiskelijan kannattaa opiskella matematiikkaa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