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8.gif" ContentType="image/gi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7.gif" ContentType="image/gif"/>
  <Override PartName="/ppt/media/image1.jpeg" ContentType="image/jpeg"/>
  <Override PartName="/ppt/media/image47.png" ContentType="image/png"/>
  <Override PartName="/ppt/media/image4.wmf" ContentType="image/x-wmf"/>
  <Override PartName="/ppt/media/image38.gif" ContentType="image/gif"/>
  <Override PartName="/ppt/media/image33.gif" ContentType="image/gif"/>
  <Override PartName="/ppt/media/image35.png" ContentType="image/png"/>
  <Override PartName="/ppt/media/image37.gif" ContentType="image/gif"/>
  <Override PartName="/ppt/media/image42.png" ContentType="image/png"/>
  <Override PartName="/ppt/media/image39.png" ContentType="image/png"/>
  <Override PartName="/ppt/media/image30.wmf" ContentType="image/x-wmf"/>
  <Override PartName="/ppt/media/image45.png" ContentType="image/png"/>
  <Override PartName="/ppt/media/image5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34.png" ContentType="image/png"/>
  <Override PartName="/ppt/media/image48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40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000" spc="-1" strike="noStrike">
                <a:solidFill>
                  <a:srgbClr val="e87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e87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C0AC-5948-417D-9B38-A51795C3C7B0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947880" y="35100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96960" y="4568760"/>
            <a:ext cx="5425920" cy="3889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Yksittäiset ratkais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optimoitu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y-paste työt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el integraati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Yksi yhteen-integra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keminen ja ylläpito hankalaa, vaatii syvällistä osaamista järjestelmist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iketoimintaprosessit kirjoitettu kiv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hittaa sovelluslogiik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äajopohjai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integra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keminen helpottu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skittyy tiedon tarkoitukseen (esim. erilaiset koodit tai termit samalla asial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hittaa sovelluslogiik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ovellusintegra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velluslogiikka huomoi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iketoimintaprosessit edelleen kirjoitettu kiv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 olla reaaliaikai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Prosessi-integra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llittavat, muutettavat liiketoimintaprosess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aliaikai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i-integra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ajennettu yrit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usia liiketoimintamahdollisuuk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attinen, reaaliaikainen tiedonsii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ällä kalvolla asemoidaan WM-data Novo (siis WM-datan Suomen toiminta) WM-data-konsernin sisällä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lemme markkinoiden toiseksi suurin pohjoismainen yritys. WM-datan koko toiminnasta Suomen osuus on noussut yli kolmannek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Nimi WM tulee perustajien sukunimien alkukirjaimista: Thord Wilkne ja Hans Mellström. Yritys aloitti toimintansa vuonna 196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Wilkne on toiminut hallituksen puheenjohtajana ja Mellström hallituksen jäsenenä WM-data AB:ssä. Wilke on nykyisin WM-data AB:n hallituksen puheenjohtaj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uurimmat omistajat ovat Investor ja Thord Wilk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rganisaatiomalli kuvastaa WM-data Novon toimintatapaa - talossa on toimialaosaamista sekä tietotekniikan taitoa; nuoli osoittaa kohti asiakkaita. Asiakkaat keskiössä – perustana tieto-tekniikan osaaminen ja toimialatunt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WM-data Novon toiminnot on organisoitu asiakastoimialan mukaisiin ja toimialariippumattomiin yksiköihin. Näin varmistetaan yhtäältä toimialaosaamisen kertyminen ja asiakaslähtöinen toimintatapa ja toisaalta saavutetaan mittakaavaedut ja erikoisosaaminen toimialariippumattomissa toiminnois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oimialayksikkö vastaa asiakassuhteesta WM-data Novon osalta ja integroi sisäisesti sekä toimialariippumattomat että kolmansien osapuolten palvelut yhdeksi kokonaisuudeksi asiakkaalle. Toimialayksikössä on WM-datan asiakasvastuulliset henkilöt (esim.myyjät, projektipäälliköt, asiakasvastaava), siten kuin tästä asiakkaan kanssa sovitaa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oimialariippumattomat yksiköt tuottavat ratkaisuja, jotka eivät ole suoraan sidoksissa yksittäisen toimialan tarpeisiin, vaan ovat hyödynnettävissä esim. pk-toimialan it-ratkaisuss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oiminnasta tulee järjestelmällisempää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muodostuu toimintamalli järjestelmäintegraatioiden toteuttamiseen (hankkeistus, projektointi, toteutus, testaus, tuotantoonvienti, halli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Projektiyllätykset vähenevä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ntegraation tarve on tunnistettu ja se tuodaan esille hanke- ja projektisuunnitelmien aikatauluissa ja budjete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Pyörän uudelleen keksiminen vähene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projektien käyttöön voidaan antaa ohjeistus integraatioiden toteuttamiseen (integraatioarkkitehtuuri, tietoarkkitehtuu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ntegraation toteutuksen työmäärät pienevät ja kustannukset alenev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projekteissa ei jouduta toteuttamaan integraation infrastruktuuritoiminnallisuutta vaan käytössä on valmis ympärist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Henkilösidonnaisuus ja manuaalinen integraatiotyö vähen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ntegraatioiden luotettavuus ja laatu paranev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F765-F057-4BCD-96F2-B8D250962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280" y="4218840"/>
            <a:ext cx="804240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AF1F-D383-4D09-97BA-C13DA356F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200" y="198900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0280" y="421884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200" y="421884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821F-261E-4579-B00B-A2855E9CE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258948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9720" y="1989000"/>
            <a:ext cx="258948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8800" y="1989000"/>
            <a:ext cx="258948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0280" y="4218840"/>
            <a:ext cx="258948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9720" y="4218840"/>
            <a:ext cx="258948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8800" y="4218840"/>
            <a:ext cx="258948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9526-3CA8-4E6F-9A3F-A6C62F710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392436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200" y="1989000"/>
            <a:ext cx="392436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29920" y="630000"/>
            <a:ext cx="8032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200" y="1989000"/>
            <a:ext cx="392436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0280" y="421884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9C65-A3E9-4147-A930-0DF91C9CA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392436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200" y="198900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200" y="421884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200" y="198900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0280" y="4218840"/>
            <a:ext cx="804240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280" y="4218840"/>
            <a:ext cx="804240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200" y="198900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0280" y="421884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200" y="421884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258948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9720" y="1989000"/>
            <a:ext cx="258948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8800" y="1989000"/>
            <a:ext cx="258948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0280" y="4218840"/>
            <a:ext cx="258948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9720" y="4218840"/>
            <a:ext cx="258948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8800" y="4218840"/>
            <a:ext cx="258948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0960-7D8D-4B3A-A68E-BDA2F420B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392436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200" y="1989000"/>
            <a:ext cx="392436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FB73-6A9D-446C-93B2-7D8A60649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11F0-8FE3-42A3-8F40-8AB1D6E18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29920" y="630000"/>
            <a:ext cx="8032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DBEA-F58B-495C-905C-8FFB618D6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200" y="1989000"/>
            <a:ext cx="392436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0280" y="421884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139A-D5B7-4768-BCA6-6385B79E9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392436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200" y="198900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200" y="421884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EE8D-CA76-42DB-8BA0-B0C1EA98F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200" y="1989000"/>
            <a:ext cx="392436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0280" y="4218840"/>
            <a:ext cx="8042400" cy="203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4A21-1ED5-4398-AD13-5A09C6D6E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solidFill>
            <a:srgbClr val="c7c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712800"/>
            <a:ext cx="9032760" cy="5985000"/>
          </a:xfrm>
          <a:custGeom>
            <a:avLst/>
            <a:gdLst/>
            <a:ahLst/>
            <a:rect l="l" t="t" r="r" b="b"/>
            <a:pathLst>
              <a:path w="6174" h="3762">
                <a:moveTo>
                  <a:pt x="0" y="0"/>
                </a:moveTo>
                <a:lnTo>
                  <a:pt x="6174" y="0"/>
                </a:lnTo>
                <a:lnTo>
                  <a:pt x="6174" y="3666"/>
                </a:lnTo>
                <a:lnTo>
                  <a:pt x="4562" y="3666"/>
                </a:lnTo>
                <a:lnTo>
                  <a:pt x="4470" y="3762"/>
                </a:lnTo>
                <a:lnTo>
                  <a:pt x="0" y="376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9440"/>
            <a:ext cx="91440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52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3040" indent="-28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06480" indent="-24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240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240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240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80280" y="6578280"/>
            <a:ext cx="175896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9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F85A-F7F7-4E51-A45B-8B4985E7C094}" type="slidenum">
              <a:rPr b="0" lang="sv-SE" sz="9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362720" y="74520"/>
            <a:ext cx="147960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52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9440"/>
            <a:ext cx="9144000" cy="620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62720" y="74520"/>
            <a:ext cx="1479600" cy="468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000" spc="-1" strike="noStrike">
                <a:solidFill>
                  <a:srgbClr val="e87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87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287280" indent="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289080" algn="ctr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76200" indent="287640" algn="ctr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287280" algn="ctr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e87000"/>
                </a:solidFill>
                <a:latin typeface="Arial"/>
              </a:rPr>
              <a:t>Sovellusintegraatio</a:t>
            </a:r>
            <a:endParaRPr b="1" lang="en-US" sz="3000" spc="-1" strike="noStrike">
              <a:solidFill>
                <a:srgbClr val="e87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31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b2b2b2"/>
                </a:solidFill>
                <a:latin typeface="Arial"/>
              </a:rPr>
              <a:t>Joose Niemistö, WM-data Oy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b2b2b2"/>
                </a:solidFill>
                <a:latin typeface="Arial"/>
              </a:rPr>
              <a:t>&lt;joose.niemisto@wmdata.fi&gt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b2b2b2"/>
                </a:solidFill>
                <a:latin typeface="Arial"/>
              </a:rPr>
              <a:t>+358405965972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Mitä sovellusintegraatiolla tarkoitetaan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ellusintegraatioon voidaan ottaa monia erilaisia näkökulmia sen mukaan mitä tavoitteita integraatiolla on ja millainen teknologialähestymistapa valita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TL – Tietovarastojen (DW) koostamisessa hajanaisista tietokanno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II – Virtuaalisten yhtenäisten näkymien rakentaminen yli useamman tietokan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AI – Reaaliaikainen, sanomapohjainen sovellusintegraat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2A – Sovellusten välinen integra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B2B – Yritysten välinen integra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Yleisesti käytettyjä integraatiomallej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461808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dostosiirr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japintana tiedostomu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aetut tietokan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japintana kannan rak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aetut rajapin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japintana API (natiivi tai wrap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Sanomien välittä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japintana sanoma/dokumen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anomaväylä siirtotien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724360" y="1844640"/>
            <a:ext cx="2880000" cy="913680"/>
            <a:chOff x="5724360" y="1844640"/>
            <a:chExt cx="2880000" cy="913680"/>
          </a:xfrm>
        </p:grpSpPr>
        <p:sp>
          <p:nvSpPr>
            <p:cNvPr id="230" name=""/>
            <p:cNvSpPr/>
            <p:nvPr/>
          </p:nvSpPr>
          <p:spPr>
            <a:xfrm>
              <a:off x="5724360" y="2104920"/>
              <a:ext cx="762120" cy="46044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Ap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2240" y="2104920"/>
              <a:ext cx="762120" cy="46044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Ap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21440" y="2133720"/>
              <a:ext cx="287280" cy="431640"/>
            </a:xfrm>
            <a:prstGeom prst="foldedCorner">
              <a:avLst>
                <a:gd name="adj" fmla="val 50000"/>
              </a:avLst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88000" y="234936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80360" y="234936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19160" y="184464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65080" y="24210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897520" y="5229360"/>
            <a:ext cx="762120" cy="46008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Ap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96360" y="5229360"/>
            <a:ext cx="761760" cy="46008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Ap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651640" y="3068640"/>
            <a:ext cx="2952720" cy="576000"/>
            <a:chOff x="5651640" y="3068640"/>
            <a:chExt cx="2952720" cy="576000"/>
          </a:xfrm>
        </p:grpSpPr>
        <p:sp>
          <p:nvSpPr>
            <p:cNvPr id="240" name=""/>
            <p:cNvSpPr/>
            <p:nvPr/>
          </p:nvSpPr>
          <p:spPr>
            <a:xfrm>
              <a:off x="5651640" y="3112920"/>
              <a:ext cx="761760" cy="46044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Ap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42240" y="3111480"/>
              <a:ext cx="762120" cy="46008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Ap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77080" y="3068640"/>
              <a:ext cx="504720" cy="576000"/>
            </a:xfrm>
            <a:prstGeom prst="can">
              <a:avLst>
                <a:gd name="adj" fmla="val 25000"/>
              </a:avLst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3" name=""/>
            <p:cNvCxnSpPr>
              <a:stCxn id="240" idx="3"/>
              <a:endCxn id="242" idx="2"/>
            </p:cNvCxnSpPr>
            <p:nvPr/>
          </p:nvCxnSpPr>
          <p:spPr>
            <a:xfrm>
              <a:off x="6413400" y="3342960"/>
              <a:ext cx="464400" cy="15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4" name=""/>
            <p:cNvCxnSpPr>
              <a:stCxn id="242" idx="4"/>
              <a:endCxn id="241" idx="1"/>
            </p:cNvCxnSpPr>
            <p:nvPr/>
          </p:nvCxnSpPr>
          <p:spPr>
            <a:xfrm flipV="1">
              <a:off x="7381440" y="3341160"/>
              <a:ext cx="461160" cy="16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45" name=""/>
          <p:cNvGrpSpPr/>
          <p:nvPr/>
        </p:nvGrpSpPr>
        <p:grpSpPr>
          <a:xfrm>
            <a:off x="5651640" y="3884760"/>
            <a:ext cx="2952720" cy="1033920"/>
            <a:chOff x="5651640" y="3884760"/>
            <a:chExt cx="2952720" cy="1033920"/>
          </a:xfrm>
        </p:grpSpPr>
        <p:sp>
          <p:nvSpPr>
            <p:cNvPr id="246" name=""/>
            <p:cNvSpPr/>
            <p:nvPr/>
          </p:nvSpPr>
          <p:spPr>
            <a:xfrm>
              <a:off x="5651640" y="4192560"/>
              <a:ext cx="761760" cy="46044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Ap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42240" y="4192560"/>
              <a:ext cx="762120" cy="46044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Ap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02240" y="4192560"/>
              <a:ext cx="185760" cy="460440"/>
            </a:xfrm>
            <a:prstGeom prst="rect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99320" y="4192560"/>
              <a:ext cx="185760" cy="460440"/>
            </a:xfrm>
            <a:prstGeom prst="rect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27640" y="38847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50920" y="4581360"/>
              <a:ext cx="93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skele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59640" y="42926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59640" y="458136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0200" y="40053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i-FI" sz="1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85360" y="45640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i-FI" sz="14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724360" y="5896080"/>
            <a:ext cx="2808360" cy="485640"/>
          </a:xfrm>
          <a:prstGeom prst="leftRightArrow">
            <a:avLst>
              <a:gd name="adj1" fmla="val 55556"/>
              <a:gd name="adj2" fmla="val 49689"/>
            </a:avLst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essag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566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28000" y="566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400" spc="-1" strike="noStrike">
                <a:solidFill>
                  <a:srgbClr val="000000"/>
                </a:solidFill>
                <a:latin typeface="Arial"/>
              </a:rPr>
              <a:t>Integraation loogiset taso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29240" y="1906560"/>
            <a:ext cx="4046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Kumppani-integra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umppaneiden liittäminen omiin järjestelmiin ja toimintamalleih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Prosessi-integra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oimintamallien ja sovelluskokonai-suuksien integraat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Sovellusintegra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eri sovellusten tarjoamien toiminnallisuuksien koostami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eknologiaintegra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eri teknologioilla toteutettujen sovellusten kommunikoinnin mahdollistami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ietointegra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eri lähteistä olevien tietojen yhdistely tietovarastojen kes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3080" y="5300640"/>
            <a:ext cx="3311640" cy="531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ietointegra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4508640"/>
            <a:ext cx="3311280" cy="53172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eknologiaintegra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3645000"/>
            <a:ext cx="3311280" cy="53172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Sovellusintegra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71640" y="2852640"/>
            <a:ext cx="3311280" cy="532080"/>
          </a:xfrm>
          <a:prstGeom prst="rect">
            <a:avLst/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Prosessi-integra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2033640"/>
            <a:ext cx="3311280" cy="531720"/>
          </a:xfrm>
          <a:prstGeom prst="rect">
            <a:avLst/>
          </a:prstGeom>
          <a:solidFill>
            <a:srgbClr val="4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ffffff"/>
                </a:solidFill>
                <a:latin typeface="Arial"/>
              </a:rPr>
              <a:t>Kumppani-integra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Miksi integraatio on tärkeää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92400" y="2913120"/>
            <a:ext cx="6505560" cy="26366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6672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tegraatio on kallista – jopa 60% järjestelmän toteutus ja ylläpitokustannuksista ja 35% IT-budjet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tegraatio pyritään lakaisemaan maton alle – suurin yksittäinen syy projektien viivästymiseen ja kustannusten ylittymis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Integraatio on kriittinen järjestelmäprojektin onnistumistekijä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– suurin projektien epäonnistumisen aiheuttaja on integraatioiden unohtam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Integraatiotarpeen on aina oltava lähtöisin toiminnan asettamista tietovaatimuksist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Integraationratkaisun taloudellinen arvolupa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22200" y="4745160"/>
            <a:ext cx="1225800" cy="119988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et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21080" y="4321080"/>
            <a:ext cx="1225440" cy="162396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knologi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07280" y="3046320"/>
            <a:ext cx="1225440" cy="289872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umppani- 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16000" y="602136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89240" y="569016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strak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116000" y="2378160"/>
            <a:ext cx="0" cy="36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9080" y="201672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ödy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16360" y="3897360"/>
            <a:ext cx="1225440" cy="204768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vellus-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11640" y="3471840"/>
            <a:ext cx="1225800" cy="247320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sessi- 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60360" y="1946160"/>
            <a:ext cx="6553800" cy="3751200"/>
            <a:chOff x="1260360" y="1946160"/>
            <a:chExt cx="6553800" cy="3751200"/>
          </a:xfrm>
        </p:grpSpPr>
        <p:sp>
          <p:nvSpPr>
            <p:cNvPr id="280" name=""/>
            <p:cNvSpPr/>
            <p:nvPr/>
          </p:nvSpPr>
          <p:spPr>
            <a:xfrm>
              <a:off x="1765440" y="1946160"/>
              <a:ext cx="360036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46800" bIns="46800" anchor="t">
              <a:normAutofit/>
            </a:bodyPr>
            <a:p>
              <a:pPr marL="287280" indent="-2872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fi-FI" sz="1700" spc="-1" strike="noStrike">
                  <a:solidFill>
                    <a:srgbClr val="ff0000"/>
                  </a:solidFill>
                  <a:latin typeface="Arial"/>
                </a:rPr>
                <a:t>Hallitsemattomat, näkymättömät integraatiokustannuk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/>
            <p:nvPr/>
          </p:nvCxnSpPr>
          <p:spPr>
            <a:xfrm>
              <a:off x="1260360" y="2817360"/>
              <a:ext cx="6554160" cy="2880360"/>
            </a:xfrm>
            <a:prstGeom prst="curvedConnector5">
              <a:avLst>
                <a:gd name="adj1" fmla="val 49997"/>
                <a:gd name="adj2" fmla="val 50000"/>
                <a:gd name="adj3" fmla="val 49997"/>
              </a:avLst>
            </a:prstGeom>
            <a:ln w="28440">
              <a:solidFill>
                <a:srgbClr val="ff0000"/>
              </a:solidFill>
              <a:miter/>
            </a:ln>
          </p:spPr>
        </p:cxnSp>
      </p:grpSp>
      <p:grpSp>
        <p:nvGrpSpPr>
          <p:cNvPr id="282" name=""/>
          <p:cNvGrpSpPr/>
          <p:nvPr/>
        </p:nvGrpSpPr>
        <p:grpSpPr>
          <a:xfrm>
            <a:off x="1260360" y="2482560"/>
            <a:ext cx="7157160" cy="3076200"/>
            <a:chOff x="1260360" y="2482560"/>
            <a:chExt cx="7157160" cy="3076200"/>
          </a:xfrm>
        </p:grpSpPr>
        <p:sp>
          <p:nvSpPr>
            <p:cNvPr id="283" name=""/>
            <p:cNvSpPr/>
            <p:nvPr/>
          </p:nvSpPr>
          <p:spPr>
            <a:xfrm>
              <a:off x="5735880" y="2482560"/>
              <a:ext cx="26816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Hallitut, näkyv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integraatiokustannuk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/>
            <p:nvPr/>
          </p:nvCxnSpPr>
          <p:spPr>
            <a:xfrm flipV="1">
              <a:off x="1260360" y="3258360"/>
              <a:ext cx="6459840" cy="2300760"/>
            </a:xfrm>
            <a:prstGeom prst="curvedConnector5">
              <a:avLst>
                <a:gd name="adj1" fmla="val 49997"/>
                <a:gd name="adj2" fmla="val 50000"/>
                <a:gd name="adj3" fmla="val 49997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Integraatio on käytännön välttämättömy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siasio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76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udelleenkäyttö on turvallisempaa, nopeampaa ja edullisempaa kun järjestelmien uusiminen ja korva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76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a aina on tulossa uusi teknologia-aalto, jonka pitäisi ratkaista kaikki integraatio-ongelmat ja tehdä integraatiosta tarpeeto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76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ksi järjestelmä kattaa harvoin yrityksen kaikki järjestelmätarp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76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ärjestelmien elinkaaret ja toteutusteknologiat poikkeavat toisi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ohtopäätö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76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vellusintegraatiota tehdään myös tulevaisuudess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e87000"/>
                </a:solidFill>
                <a:latin typeface="Arial"/>
              </a:rPr>
              <a:t>Miksi sovellusintegraatio on vaikeaa?</a:t>
            </a:r>
            <a:endParaRPr b="1" lang="en-US" sz="3000" spc="-1" strike="noStrike">
              <a:solidFill>
                <a:srgbClr val="e87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361800" y="1341360"/>
            <a:ext cx="8458200" cy="5354640"/>
            <a:chOff x="361800" y="1341360"/>
            <a:chExt cx="8458200" cy="535464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rcRect l="0" t="473" r="0" b="0"/>
            <a:stretch/>
          </p:blipFill>
          <p:spPr>
            <a:xfrm>
              <a:off x="361800" y="1341360"/>
              <a:ext cx="8458200" cy="53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342880" y="1541520"/>
              <a:ext cx="87660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50640" y="4011480"/>
              <a:ext cx="100512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1188720" y="4062240"/>
              <a:ext cx="114156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616440" y="4451400"/>
              <a:ext cx="100512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6710040" y="4344840"/>
              <a:ext cx="9464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444840" y="1396800"/>
              <a:ext cx="220824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51160" y="5251320"/>
              <a:ext cx="29196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4"/>
            <a:stretch/>
          </p:blipFill>
          <p:spPr>
            <a:xfrm>
              <a:off x="2388960" y="1761840"/>
              <a:ext cx="797040" cy="1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270320" y="3537000"/>
              <a:ext cx="43812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5"/>
            <a:stretch/>
          </p:blipFill>
          <p:spPr>
            <a:xfrm>
              <a:off x="4313160" y="3560760"/>
              <a:ext cx="377640" cy="31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146560" y="4647960"/>
              <a:ext cx="43812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5168880" y="4735440"/>
              <a:ext cx="3855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152600" y="2151000"/>
              <a:ext cx="857520" cy="50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7"/>
            <a:stretch/>
          </p:blipFill>
          <p:spPr>
            <a:xfrm>
              <a:off x="4335480" y="2185920"/>
              <a:ext cx="4921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956360" y="2868480"/>
              <a:ext cx="8319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6" name="" descr=""/>
            <p:cNvPicPr/>
            <p:nvPr/>
          </p:nvPicPr>
          <p:blipFill>
            <a:blip r:embed="rId8"/>
            <a:stretch/>
          </p:blipFill>
          <p:spPr>
            <a:xfrm>
              <a:off x="8028000" y="2979720"/>
              <a:ext cx="70776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860560" y="4025880"/>
              <a:ext cx="55224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885760" y="4100400"/>
              <a:ext cx="507960" cy="422280"/>
              <a:chOff x="2885760" y="4100400"/>
              <a:chExt cx="507960" cy="422280"/>
            </a:xfrm>
          </p:grpSpPr>
          <p:sp>
            <p:nvSpPr>
              <p:cNvPr id="309" name=""/>
              <p:cNvSpPr/>
              <p:nvPr/>
            </p:nvSpPr>
            <p:spPr>
              <a:xfrm>
                <a:off x="3000600" y="4121280"/>
                <a:ext cx="278280" cy="25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885760" y="4100400"/>
                <a:ext cx="507960" cy="42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1" name=""/>
            <p:cNvSpPr/>
            <p:nvPr/>
          </p:nvSpPr>
          <p:spPr>
            <a:xfrm>
              <a:off x="4047840" y="5211720"/>
              <a:ext cx="1022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10"/>
            <a:stretch/>
          </p:blipFill>
          <p:spPr>
            <a:xfrm>
              <a:off x="4100400" y="5295960"/>
              <a:ext cx="919080" cy="19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213240" y="2886120"/>
              <a:ext cx="60336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11"/>
            <a:stretch/>
          </p:blipFill>
          <p:spPr>
            <a:xfrm>
              <a:off x="6270480" y="2921040"/>
              <a:ext cx="48276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/>
          <p:cNvSpPr/>
          <p:nvPr/>
        </p:nvSpPr>
        <p:spPr>
          <a:xfrm>
            <a:off x="7739640" y="1455840"/>
            <a:ext cx="125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Lähde: SeeBeyo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29920" y="630360"/>
            <a:ext cx="8032680" cy="100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Integraation ongelmakenttä – Tekninen näkökulm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Integraation ongelmakenttä - Teknisest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61800" y="1341360"/>
            <a:ext cx="8458200" cy="5354640"/>
            <a:chOff x="361800" y="1341360"/>
            <a:chExt cx="8458200" cy="535464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rcRect l="0" t="473" r="0" b="0"/>
            <a:stretch/>
          </p:blipFill>
          <p:spPr>
            <a:xfrm>
              <a:off x="361800" y="1341360"/>
              <a:ext cx="8458200" cy="53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342880" y="1541520"/>
              <a:ext cx="87660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50640" y="4011480"/>
              <a:ext cx="100512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1188720" y="4062240"/>
              <a:ext cx="114156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6616440" y="4451400"/>
              <a:ext cx="100512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6710040" y="4344840"/>
              <a:ext cx="9464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444840" y="1396800"/>
              <a:ext cx="220824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51160" y="5251320"/>
              <a:ext cx="29196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4"/>
            <a:stretch/>
          </p:blipFill>
          <p:spPr>
            <a:xfrm>
              <a:off x="2388960" y="1761840"/>
              <a:ext cx="797040" cy="1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270320" y="3537000"/>
              <a:ext cx="43812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5"/>
            <a:stretch/>
          </p:blipFill>
          <p:spPr>
            <a:xfrm>
              <a:off x="4313160" y="3560760"/>
              <a:ext cx="377640" cy="31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146560" y="4647960"/>
              <a:ext cx="43812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5168880" y="4735440"/>
              <a:ext cx="3855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152600" y="2151000"/>
              <a:ext cx="857520" cy="50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3" name="" descr=""/>
            <p:cNvPicPr/>
            <p:nvPr/>
          </p:nvPicPr>
          <p:blipFill>
            <a:blip r:embed="rId7"/>
            <a:stretch/>
          </p:blipFill>
          <p:spPr>
            <a:xfrm>
              <a:off x="4335480" y="2185920"/>
              <a:ext cx="4921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7956360" y="2868480"/>
              <a:ext cx="8319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8028000" y="2979720"/>
              <a:ext cx="70776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860560" y="4025880"/>
              <a:ext cx="55224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885760" y="4100400"/>
              <a:ext cx="507960" cy="422280"/>
              <a:chOff x="2885760" y="4100400"/>
              <a:chExt cx="507960" cy="422280"/>
            </a:xfrm>
          </p:grpSpPr>
          <p:sp>
            <p:nvSpPr>
              <p:cNvPr id="338" name=""/>
              <p:cNvSpPr/>
              <p:nvPr/>
            </p:nvSpPr>
            <p:spPr>
              <a:xfrm>
                <a:off x="3000600" y="4121280"/>
                <a:ext cx="278280" cy="25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3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885760" y="4100400"/>
                <a:ext cx="507960" cy="42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0" name=""/>
            <p:cNvSpPr/>
            <p:nvPr/>
          </p:nvSpPr>
          <p:spPr>
            <a:xfrm>
              <a:off x="4047840" y="5211720"/>
              <a:ext cx="1022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0"/>
            <a:stretch/>
          </p:blipFill>
          <p:spPr>
            <a:xfrm>
              <a:off x="4100400" y="5295960"/>
              <a:ext cx="919080" cy="19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213240" y="2886120"/>
              <a:ext cx="60336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6270480" y="2921040"/>
              <a:ext cx="48276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0280" y="1773360"/>
            <a:ext cx="8042400" cy="32860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47880" bIns="478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ärjestelmäkir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ovellukset - räätälöidyt, paketoidut, toimivat (”legacy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lu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kkitehtuu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okan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ransaktionkäsittelij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ovellusprotokol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hjelmointikie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oläht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seita versioita samasta tied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aditaan osaamista useista teknologio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Integraation ongelmakenttä – Toiminnallinen näkökulm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49440" y="2214720"/>
            <a:ext cx="7665480" cy="3085200"/>
            <a:chOff x="649440" y="2214720"/>
            <a:chExt cx="7665480" cy="3085200"/>
          </a:xfrm>
        </p:grpSpPr>
        <p:grpSp>
          <p:nvGrpSpPr>
            <p:cNvPr id="347" name=""/>
            <p:cNvGrpSpPr/>
            <p:nvPr/>
          </p:nvGrpSpPr>
          <p:grpSpPr>
            <a:xfrm>
              <a:off x="1267200" y="4859280"/>
              <a:ext cx="6609600" cy="351000"/>
              <a:chOff x="1267200" y="4859280"/>
              <a:chExt cx="6609600" cy="351000"/>
            </a:xfrm>
          </p:grpSpPr>
          <p:sp>
            <p:nvSpPr>
              <p:cNvPr id="348" name=""/>
              <p:cNvSpPr/>
              <p:nvPr/>
            </p:nvSpPr>
            <p:spPr>
              <a:xfrm>
                <a:off x="6289560" y="4859280"/>
                <a:ext cx="1587240" cy="351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267200" y="4859280"/>
                <a:ext cx="1587240" cy="351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940120" y="4859280"/>
              <a:ext cx="3349440" cy="3535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2642400" y="2214720"/>
              <a:ext cx="3858480" cy="2381760"/>
              <a:chOff x="2642400" y="2214720"/>
              <a:chExt cx="3858480" cy="2381760"/>
            </a:xfrm>
          </p:grpSpPr>
          <p:sp>
            <p:nvSpPr>
              <p:cNvPr id="352" name=""/>
              <p:cNvSpPr/>
              <p:nvPr/>
            </p:nvSpPr>
            <p:spPr>
              <a:xfrm rot="5400000">
                <a:off x="1733760" y="3123000"/>
                <a:ext cx="2379960" cy="563400"/>
              </a:xfrm>
              <a:prstGeom prst="rect">
                <a:avLst/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</a:rPr>
                  <a:t>Toiminto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400000">
                <a:off x="2561040" y="3124440"/>
                <a:ext cx="2380320" cy="563400"/>
              </a:xfrm>
              <a:prstGeom prst="rect">
                <a:avLst/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</a:rPr>
                  <a:t>Toiminto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5400000">
                <a:off x="3407040" y="3124800"/>
                <a:ext cx="2380320" cy="563040"/>
              </a:xfrm>
              <a:prstGeom prst="rect">
                <a:avLst/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</a:rPr>
                  <a:t>Toiminto 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5400000">
                <a:off x="4233960" y="3124440"/>
                <a:ext cx="2380320" cy="563400"/>
              </a:xfrm>
              <a:prstGeom prst="rect">
                <a:avLst/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</a:rPr>
                  <a:t>Toiminto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5400000">
                <a:off x="5028840" y="3124440"/>
                <a:ext cx="2380320" cy="563400"/>
              </a:xfrm>
              <a:prstGeom prst="rect">
                <a:avLst/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</a:rPr>
                  <a:t>Toiminto 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736200" y="2216880"/>
              <a:ext cx="7491960" cy="2379960"/>
              <a:chOff x="736200" y="2216880"/>
              <a:chExt cx="7491960" cy="2379960"/>
            </a:xfrm>
          </p:grpSpPr>
          <p:sp>
            <p:nvSpPr>
              <p:cNvPr id="358" name=""/>
              <p:cNvSpPr/>
              <p:nvPr/>
            </p:nvSpPr>
            <p:spPr>
              <a:xfrm rot="5400000">
                <a:off x="6756480" y="3125160"/>
                <a:ext cx="2379960" cy="563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</a:rPr>
                  <a:t>Asiak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5400000">
                <a:off x="-172080" y="3125160"/>
                <a:ext cx="2379960" cy="563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</a:rPr>
                  <a:t>Kumppan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675880" y="4772160"/>
              <a:ext cx="3792600" cy="527760"/>
              <a:chOff x="2675880" y="4772160"/>
              <a:chExt cx="3792600" cy="527760"/>
            </a:xfrm>
          </p:grpSpPr>
          <p:sp>
            <p:nvSpPr>
              <p:cNvPr id="361" name=""/>
              <p:cNvSpPr/>
              <p:nvPr/>
            </p:nvSpPr>
            <p:spPr>
              <a:xfrm>
                <a:off x="2675880" y="4772160"/>
                <a:ext cx="530280" cy="5277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470040" y="4772160"/>
                <a:ext cx="530280" cy="5277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348800" y="4772160"/>
                <a:ext cx="529920" cy="5277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43320" y="4772160"/>
                <a:ext cx="530280" cy="5277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938200" y="4772160"/>
                <a:ext cx="530280" cy="5277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49440" y="4772160"/>
              <a:ext cx="7665480" cy="527400"/>
              <a:chOff x="649440" y="4772160"/>
              <a:chExt cx="7665480" cy="52740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7521480" y="4772160"/>
                <a:ext cx="793440" cy="527400"/>
                <a:chOff x="7521480" y="4772160"/>
                <a:chExt cx="793440" cy="5274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521480" y="4772160"/>
                  <a:ext cx="530280" cy="52740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7604640" y="4772160"/>
                  <a:ext cx="710280" cy="527040"/>
                  <a:chOff x="7604640" y="4772160"/>
                  <a:chExt cx="710280" cy="52704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7604640" y="4772160"/>
                    <a:ext cx="529560" cy="52704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7695720" y="4772160"/>
                    <a:ext cx="619200" cy="526680"/>
                    <a:chOff x="7695720" y="4772160"/>
                    <a:chExt cx="619200" cy="52668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7695720" y="4772160"/>
                      <a:ext cx="529920" cy="52668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7785000" y="4772160"/>
                      <a:ext cx="529920" cy="52668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74" name=""/>
              <p:cNvGrpSpPr/>
              <p:nvPr/>
            </p:nvGrpSpPr>
            <p:grpSpPr>
              <a:xfrm>
                <a:off x="649440" y="4772160"/>
                <a:ext cx="793440" cy="527400"/>
                <a:chOff x="649440" y="4772160"/>
                <a:chExt cx="793440" cy="5274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49440" y="4772160"/>
                  <a:ext cx="530280" cy="52740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732600" y="4772160"/>
                  <a:ext cx="710280" cy="527040"/>
                  <a:chOff x="732600" y="4772160"/>
                  <a:chExt cx="710280" cy="5270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732600" y="4772160"/>
                    <a:ext cx="529560" cy="52704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823680" y="4772160"/>
                    <a:ext cx="619200" cy="526680"/>
                    <a:chOff x="823680" y="4772160"/>
                    <a:chExt cx="619200" cy="52668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823680" y="4772160"/>
                      <a:ext cx="529920" cy="52668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912960" y="4772160"/>
                      <a:ext cx="529920" cy="52668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81" name=""/>
            <p:cNvGrpSpPr/>
            <p:nvPr/>
          </p:nvGrpSpPr>
          <p:grpSpPr>
            <a:xfrm>
              <a:off x="2501280" y="2832840"/>
              <a:ext cx="4462560" cy="1056600"/>
              <a:chOff x="2501280" y="2832840"/>
              <a:chExt cx="4462560" cy="1056600"/>
            </a:xfrm>
          </p:grpSpPr>
          <p:sp>
            <p:nvSpPr>
              <p:cNvPr id="382" name=""/>
              <p:cNvSpPr/>
              <p:nvPr/>
            </p:nvSpPr>
            <p:spPr>
              <a:xfrm>
                <a:off x="2501280" y="2832840"/>
                <a:ext cx="4377240" cy="440640"/>
              </a:xfrm>
              <a:custGeom>
                <a:avLst/>
                <a:gdLst>
                  <a:gd name="textAreaLeft" fmla="*/ 0 w 4377240"/>
                  <a:gd name="textAreaRight" fmla="*/ 4377600 w 43772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915" y="0"/>
                    </a:lnTo>
                    <a:lnTo>
                      <a:pt x="21600" y="10800"/>
                    </a:lnTo>
                    <a:lnTo>
                      <a:pt x="1991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800" spc="-1" strike="noStrike">
                    <a:solidFill>
                      <a:srgbClr val="000000"/>
                    </a:solidFill>
                    <a:latin typeface="Arial"/>
                  </a:rPr>
                  <a:t>Toimintaproses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586600" y="3097080"/>
                <a:ext cx="4377240" cy="440640"/>
              </a:xfrm>
              <a:custGeom>
                <a:avLst/>
                <a:gdLst>
                  <a:gd name="textAreaLeft" fmla="*/ 0 w 4377240"/>
                  <a:gd name="textAreaRight" fmla="*/ 4377600 w 43772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915" y="0"/>
                    </a:lnTo>
                    <a:lnTo>
                      <a:pt x="21600" y="10800"/>
                    </a:lnTo>
                    <a:lnTo>
                      <a:pt x="1991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800" spc="-1" strike="noStrike">
                    <a:solidFill>
                      <a:srgbClr val="000000"/>
                    </a:solidFill>
                    <a:latin typeface="Arial"/>
                  </a:rPr>
                  <a:t>Toimintaproses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557520" y="3450240"/>
                <a:ext cx="2995920" cy="439200"/>
              </a:xfrm>
              <a:custGeom>
                <a:avLst/>
                <a:gdLst>
                  <a:gd name="textAreaLeft" fmla="*/ 0 w 2995920"/>
                  <a:gd name="textAreaRight" fmla="*/ 2996280 w 299592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915" y="0"/>
                    </a:lnTo>
                    <a:lnTo>
                      <a:pt x="21600" y="10800"/>
                    </a:lnTo>
                    <a:lnTo>
                      <a:pt x="1991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800" spc="-1" strike="noStrike">
                    <a:solidFill>
                      <a:srgbClr val="000000"/>
                    </a:solidFill>
                    <a:latin typeface="Arial"/>
                  </a:rPr>
                  <a:t>Toimintaproses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913680" y="2568240"/>
              <a:ext cx="7227720" cy="1410120"/>
              <a:chOff x="913680" y="2568240"/>
              <a:chExt cx="7227720" cy="1410120"/>
            </a:xfrm>
          </p:grpSpPr>
          <p:sp>
            <p:nvSpPr>
              <p:cNvPr id="386" name=""/>
              <p:cNvSpPr/>
              <p:nvPr/>
            </p:nvSpPr>
            <p:spPr>
              <a:xfrm>
                <a:off x="913680" y="2568240"/>
                <a:ext cx="4377600" cy="429120"/>
              </a:xfrm>
              <a:custGeom>
                <a:avLst/>
                <a:gdLst>
                  <a:gd name="textAreaLeft" fmla="*/ 0 w 4377600"/>
                  <a:gd name="textAreaRight" fmla="*/ 4377960 w 437760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915" y="0"/>
                    </a:lnTo>
                    <a:lnTo>
                      <a:pt x="21600" y="10800"/>
                    </a:lnTo>
                    <a:lnTo>
                      <a:pt x="1991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800" spc="-1" strike="noStrike">
                    <a:solidFill>
                      <a:srgbClr val="000000"/>
                    </a:solidFill>
                    <a:latin typeface="Arial"/>
                  </a:rPr>
                  <a:t>Toimintaproses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42480" y="3185640"/>
                <a:ext cx="7198560" cy="440640"/>
              </a:xfrm>
              <a:custGeom>
                <a:avLst/>
                <a:gdLst>
                  <a:gd name="textAreaLeft" fmla="*/ 0 w 7198560"/>
                  <a:gd name="textAreaRight" fmla="*/ 7198920 w 719856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915" y="0"/>
                    </a:lnTo>
                    <a:lnTo>
                      <a:pt x="21600" y="10800"/>
                    </a:lnTo>
                    <a:lnTo>
                      <a:pt x="1991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800" spc="-1" strike="noStrike">
                    <a:solidFill>
                      <a:srgbClr val="000000"/>
                    </a:solidFill>
                    <a:latin typeface="Arial"/>
                  </a:rPr>
                  <a:t>Toimintaproses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763800" y="3537720"/>
                <a:ext cx="4377600" cy="440640"/>
              </a:xfrm>
              <a:custGeom>
                <a:avLst/>
                <a:gdLst>
                  <a:gd name="textAreaLeft" fmla="*/ 0 w 4377600"/>
                  <a:gd name="textAreaRight" fmla="*/ 4377960 w 43776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915" y="0"/>
                    </a:lnTo>
                    <a:lnTo>
                      <a:pt x="21600" y="10800"/>
                    </a:lnTo>
                    <a:lnTo>
                      <a:pt x="1991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800" spc="-1" strike="noStrike">
                    <a:solidFill>
                      <a:srgbClr val="000000"/>
                    </a:solidFill>
                    <a:latin typeface="Arial"/>
                  </a:rPr>
                  <a:t>Toimintaproses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0280" y="1773000"/>
            <a:ext cx="8042400" cy="4484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t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ä sovellusintegraatio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si sovellusintegraatio on vaikea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ellusintegraatioratkaisun ja -tuotteiden ominaisuk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llaisia sovellusintegraatiotuotteet ov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vellusintegraation teknologioita ja standard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netelmänäkökulma sovellusintegraati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782800" y="2708280"/>
            <a:ext cx="3195720" cy="27432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Integraation ongelmakenttä – hankejohdollinen näkökulm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40200" y="3284640"/>
            <a:ext cx="13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ietohall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88120" y="53974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Asiakka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21800" y="609300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Kumppa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01800" y="3068640"/>
            <a:ext cx="136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Järjestelmä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oimittaj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65720" y="4221000"/>
            <a:ext cx="12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Integraati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ratkais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oimitt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6720" y="19162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Käyttöpalvelui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oimitt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99240" y="208440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Liiketoimi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9800" y="27082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Portaa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61440" y="446076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Raportoi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75600" y="3860640"/>
            <a:ext cx="14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B2B -liittym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38320" y="3789360"/>
            <a:ext cx="14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A2A -liittym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46880" y="503712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IT -projekt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41240" y="25653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Prosess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64080" y="1628640"/>
            <a:ext cx="11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Työnkul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26520" y="582948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Tietovarast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39720" y="515772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Tuott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18880" y="59720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Järjestelm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0200" y="55897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IT Strate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e87000"/>
                </a:solidFill>
                <a:latin typeface="Arial"/>
              </a:rPr>
              <a:t>Sovellusintegraatioratkaisun ja tuotteiden ominaisuuksista</a:t>
            </a:r>
            <a:endParaRPr b="1" lang="en-US" sz="3000" spc="-1" strike="noStrike">
              <a:solidFill>
                <a:srgbClr val="e87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Integraatioratkaisun tavoitetil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328840" y="1773360"/>
            <a:ext cx="514440" cy="5364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08000" y="3970440"/>
            <a:ext cx="514440" cy="5382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H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15" idx="0"/>
            <a:endCxn id="412" idx="6"/>
          </p:cNvCxnSpPr>
          <p:nvPr/>
        </p:nvCxnSpPr>
        <p:spPr>
          <a:xfrm flipH="1" flipV="1">
            <a:off x="2842560" y="2041200"/>
            <a:ext cx="392760" cy="667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17" idx="7"/>
            <a:endCxn id="412" idx="3"/>
          </p:cNvCxnSpPr>
          <p:nvPr/>
        </p:nvCxnSpPr>
        <p:spPr>
          <a:xfrm flipV="1">
            <a:off x="1123920" y="2231640"/>
            <a:ext cx="128016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900000" y="3754440"/>
            <a:ext cx="514440" cy="5382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78280" y="2708280"/>
            <a:ext cx="514080" cy="5364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5" idx="2"/>
            <a:endCxn id="417" idx="6"/>
          </p:cNvCxnSpPr>
          <p:nvPr/>
        </p:nvCxnSpPr>
        <p:spPr>
          <a:xfrm flipH="1">
            <a:off x="1198080" y="2976120"/>
            <a:ext cx="1780560" cy="3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8" idx="0"/>
            <a:endCxn id="417" idx="4"/>
          </p:cNvCxnSpPr>
          <p:nvPr/>
        </p:nvCxnSpPr>
        <p:spPr>
          <a:xfrm flipH="1" flipV="1">
            <a:off x="941040" y="3278880"/>
            <a:ext cx="216720" cy="475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684360" y="2743200"/>
            <a:ext cx="514080" cy="5364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15" idx="3"/>
            <a:endCxn id="418" idx="7"/>
          </p:cNvCxnSpPr>
          <p:nvPr/>
        </p:nvCxnSpPr>
        <p:spPr>
          <a:xfrm flipH="1">
            <a:off x="1339560" y="3166920"/>
            <a:ext cx="1713600" cy="667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13" idx="1"/>
            <a:endCxn id="417" idx="5"/>
          </p:cNvCxnSpPr>
          <p:nvPr/>
        </p:nvCxnSpPr>
        <p:spPr>
          <a:xfrm flipH="1" flipV="1">
            <a:off x="1123560" y="3201120"/>
            <a:ext cx="859680" cy="84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2762280" y="3754440"/>
            <a:ext cx="514440" cy="5382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3" idx="1"/>
            <a:endCxn id="417" idx="5"/>
          </p:cNvCxnSpPr>
          <p:nvPr/>
        </p:nvCxnSpPr>
        <p:spPr>
          <a:xfrm flipH="1" flipV="1">
            <a:off x="1123560" y="3201120"/>
            <a:ext cx="171360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23" idx="1"/>
            <a:endCxn id="412" idx="4"/>
          </p:cNvCxnSpPr>
          <p:nvPr/>
        </p:nvCxnSpPr>
        <p:spPr>
          <a:xfrm flipH="1" flipV="1">
            <a:off x="2585160" y="2309040"/>
            <a:ext cx="251640" cy="15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1258920" y="1773360"/>
            <a:ext cx="514440" cy="5382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6" idx="3"/>
            <a:endCxn id="417" idx="0"/>
          </p:cNvCxnSpPr>
          <p:nvPr/>
        </p:nvCxnSpPr>
        <p:spPr>
          <a:xfrm flipH="1">
            <a:off x="940680" y="2232000"/>
            <a:ext cx="392760" cy="511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18" idx="7"/>
            <a:endCxn id="426" idx="4"/>
          </p:cNvCxnSpPr>
          <p:nvPr/>
        </p:nvCxnSpPr>
        <p:spPr>
          <a:xfrm flipV="1">
            <a:off x="1339560" y="2311200"/>
            <a:ext cx="176760" cy="1522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13" idx="0"/>
            <a:endCxn id="426" idx="5"/>
          </p:cNvCxnSpPr>
          <p:nvPr/>
        </p:nvCxnSpPr>
        <p:spPr>
          <a:xfrm flipH="1" flipV="1">
            <a:off x="1697760" y="2231280"/>
            <a:ext cx="467640" cy="1739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12" idx="2"/>
            <a:endCxn id="426" idx="6"/>
          </p:cNvCxnSpPr>
          <p:nvPr/>
        </p:nvCxnSpPr>
        <p:spPr>
          <a:xfrm flipH="1">
            <a:off x="1772640" y="2041560"/>
            <a:ext cx="556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3" idx="0"/>
            <a:endCxn id="415" idx="4"/>
          </p:cNvCxnSpPr>
          <p:nvPr/>
        </p:nvCxnSpPr>
        <p:spPr>
          <a:xfrm flipV="1">
            <a:off x="3019320" y="3244320"/>
            <a:ext cx="216720" cy="510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15" idx="1"/>
            <a:endCxn id="426" idx="5"/>
          </p:cNvCxnSpPr>
          <p:nvPr/>
        </p:nvCxnSpPr>
        <p:spPr>
          <a:xfrm flipH="1" flipV="1">
            <a:off x="1698120" y="2231280"/>
            <a:ext cx="1355040" cy="55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7153200" y="1773360"/>
            <a:ext cx="514440" cy="5364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16720" y="3860640"/>
            <a:ext cx="514440" cy="5382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H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6" idx="7"/>
            <a:endCxn id="433" idx="3"/>
          </p:cNvCxnSpPr>
          <p:nvPr/>
        </p:nvCxnSpPr>
        <p:spPr>
          <a:xfrm flipV="1">
            <a:off x="6945480" y="2231280"/>
            <a:ext cx="282960" cy="55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"/>
          <p:cNvSpPr/>
          <p:nvPr/>
        </p:nvSpPr>
        <p:spPr>
          <a:xfrm>
            <a:off x="5580000" y="3645000"/>
            <a:ext cx="514440" cy="5382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58280" y="2708280"/>
            <a:ext cx="514080" cy="5364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6" idx="2"/>
            <a:endCxn id="440" idx="6"/>
          </p:cNvCxnSpPr>
          <p:nvPr/>
        </p:nvCxnSpPr>
        <p:spPr>
          <a:xfrm flipH="1">
            <a:off x="5878080" y="2978280"/>
            <a:ext cx="627840" cy="33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5364000" y="2743200"/>
            <a:ext cx="514440" cy="5364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6" idx="3"/>
            <a:endCxn id="437" idx="7"/>
          </p:cNvCxnSpPr>
          <p:nvPr/>
        </p:nvCxnSpPr>
        <p:spPr>
          <a:xfrm flipH="1">
            <a:off x="6019560" y="3166920"/>
            <a:ext cx="560880" cy="55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2" name=""/>
          <p:cNvSpPr/>
          <p:nvPr/>
        </p:nvSpPr>
        <p:spPr>
          <a:xfrm>
            <a:off x="7442280" y="3645000"/>
            <a:ext cx="514440" cy="5382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2" idx="1"/>
            <a:endCxn id="436" idx="5"/>
          </p:cNvCxnSpPr>
          <p:nvPr/>
        </p:nvCxnSpPr>
        <p:spPr>
          <a:xfrm flipH="1" flipV="1">
            <a:off x="6944760" y="3166560"/>
            <a:ext cx="572040" cy="55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5867280" y="1773360"/>
            <a:ext cx="514440" cy="5382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36" idx="1"/>
            <a:endCxn id="444" idx="5"/>
          </p:cNvCxnSpPr>
          <p:nvPr/>
        </p:nvCxnSpPr>
        <p:spPr>
          <a:xfrm flipH="1" flipV="1">
            <a:off x="6307200" y="2231280"/>
            <a:ext cx="273240" cy="55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6" idx="6"/>
            <a:endCxn id="438" idx="2"/>
          </p:cNvCxnSpPr>
          <p:nvPr/>
        </p:nvCxnSpPr>
        <p:spPr>
          <a:xfrm flipV="1">
            <a:off x="7019640" y="2975760"/>
            <a:ext cx="639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6505560" y="2708280"/>
            <a:ext cx="514440" cy="538200"/>
          </a:xfrm>
          <a:prstGeom prst="flowChartConnector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36" idx="4"/>
            <a:endCxn id="434" idx="0"/>
          </p:cNvCxnSpPr>
          <p:nvPr/>
        </p:nvCxnSpPr>
        <p:spPr>
          <a:xfrm>
            <a:off x="6762240" y="3246480"/>
            <a:ext cx="11880" cy="614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7240" y="494172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d hoc –toteutuksista järjestelmille yhteiseen integraatiojärjestelmään! (Tekninen näkökul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d hoc -toiminnasta järjestelmällisyyteen! (Menetelmänäkökul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67280" y="2727360"/>
            <a:ext cx="647640" cy="557280"/>
          </a:xfrm>
          <a:prstGeom prst="rightArrow">
            <a:avLst>
              <a:gd name="adj1" fmla="val 50000"/>
              <a:gd name="adj2" fmla="val 29054"/>
            </a:avLst>
          </a:prstGeom>
          <a:solidFill>
            <a:srgbClr val="4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65720" y="2693880"/>
            <a:ext cx="128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808080"/>
                </a:solidFill>
                <a:latin typeface="Arial"/>
              </a:rPr>
              <a:t>Integraati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808080"/>
                </a:solidFill>
                <a:latin typeface="Arial"/>
              </a:rPr>
              <a:t>ympärist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1547640" y="4149720"/>
            <a:ext cx="6481800" cy="1295280"/>
            <a:chOff x="1547640" y="4149720"/>
            <a:chExt cx="6481800" cy="1295280"/>
          </a:xfrm>
        </p:grpSpPr>
        <p:grpSp>
          <p:nvGrpSpPr>
            <p:cNvPr id="452" name=""/>
            <p:cNvGrpSpPr/>
            <p:nvPr/>
          </p:nvGrpSpPr>
          <p:grpSpPr>
            <a:xfrm>
              <a:off x="1547640" y="4149720"/>
              <a:ext cx="6481800" cy="1295280"/>
              <a:chOff x="1547640" y="4149720"/>
              <a:chExt cx="6481800" cy="1295280"/>
            </a:xfrm>
          </p:grpSpPr>
          <p:sp>
            <p:nvSpPr>
              <p:cNvPr id="453" name=""/>
              <p:cNvSpPr/>
              <p:nvPr/>
            </p:nvSpPr>
            <p:spPr>
              <a:xfrm>
                <a:off x="1547640" y="4149720"/>
                <a:ext cx="6481800" cy="1295280"/>
              </a:xfrm>
              <a:prstGeom prst="rect">
                <a:avLst/>
              </a:prstGeom>
              <a:solidFill>
                <a:srgbClr val="dfe9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763640" y="4294080"/>
                <a:ext cx="358560" cy="431640"/>
              </a:xfrm>
              <a:prstGeom prst="irregularSeal1">
                <a:avLst/>
              </a:prstGeom>
              <a:solidFill>
                <a:srgbClr val="cfdf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339640" y="4367160"/>
                <a:ext cx="576360" cy="287280"/>
              </a:xfrm>
              <a:prstGeom prst="flowChartProcess">
                <a:avLst/>
              </a:prstGeom>
              <a:solidFill>
                <a:srgbClr val="cfdf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205080" y="4367160"/>
                <a:ext cx="431640" cy="287280"/>
              </a:xfrm>
              <a:prstGeom prst="flowChartDecision">
                <a:avLst/>
              </a:prstGeom>
              <a:solidFill>
                <a:srgbClr val="cfdf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24000" y="4365360"/>
                <a:ext cx="576360" cy="287640"/>
              </a:xfrm>
              <a:prstGeom prst="flowChartProcess">
                <a:avLst/>
              </a:prstGeom>
              <a:solidFill>
                <a:srgbClr val="cfdf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32000" y="4941720"/>
                <a:ext cx="647640" cy="287280"/>
              </a:xfrm>
              <a:prstGeom prst="flowChartAlternateProcess">
                <a:avLst/>
              </a:prstGeom>
              <a:solidFill>
                <a:srgbClr val="cfdf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068720" y="4941720"/>
                <a:ext cx="360360" cy="287280"/>
              </a:xfrm>
              <a:prstGeom prst="flowChartDocument">
                <a:avLst/>
              </a:prstGeom>
              <a:solidFill>
                <a:srgbClr val="cfdf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787640" y="4365360"/>
                <a:ext cx="432000" cy="287640"/>
              </a:xfrm>
              <a:prstGeom prst="flowChartDecision">
                <a:avLst/>
              </a:prstGeom>
              <a:solidFill>
                <a:srgbClr val="cfdf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24000" y="4510080"/>
                <a:ext cx="215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16000" y="4510080"/>
                <a:ext cx="2872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420720" y="4654440"/>
                <a:ext cx="0" cy="216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779640" y="5086080"/>
                <a:ext cx="2872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636720" y="4510080"/>
                <a:ext cx="2872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00360" y="4510080"/>
                <a:ext cx="2872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508360" y="4365360"/>
                <a:ext cx="647640" cy="287640"/>
              </a:xfrm>
              <a:prstGeom prst="flowChartAlternateProcess">
                <a:avLst/>
              </a:prstGeom>
              <a:solidFill>
                <a:srgbClr val="cfdf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221080" y="4510080"/>
                <a:ext cx="2872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44720" y="4941720"/>
                <a:ext cx="647640" cy="287280"/>
              </a:xfrm>
              <a:prstGeom prst="flowChartAlternateProcess">
                <a:avLst/>
              </a:prstGeom>
              <a:solidFill>
                <a:srgbClr val="cfdf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05080" y="4654440"/>
                <a:ext cx="0" cy="287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235640" y="5013360"/>
                <a:ext cx="649440" cy="215640"/>
              </a:xfrm>
              <a:prstGeom prst="flowChartTerminator">
                <a:avLst/>
              </a:prstGeom>
              <a:solidFill>
                <a:srgbClr val="cfdf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80000" y="4870440"/>
                <a:ext cx="502920" cy="358560"/>
              </a:xfrm>
              <a:prstGeom prst="flowChartInputOutput">
                <a:avLst/>
              </a:prstGeom>
              <a:solidFill>
                <a:srgbClr val="cfdf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292360" y="5086080"/>
                <a:ext cx="28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237080" y="4365360"/>
                <a:ext cx="576360" cy="287640"/>
              </a:xfrm>
              <a:prstGeom prst="flowChartProcess">
                <a:avLst/>
              </a:prstGeom>
              <a:solidFill>
                <a:srgbClr val="cfdf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72000" y="4940280"/>
                <a:ext cx="503280" cy="288720"/>
              </a:xfrm>
              <a:prstGeom prst="flowChartManualInput">
                <a:avLst/>
              </a:prstGeom>
              <a:solidFill>
                <a:srgbClr val="cfdf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084720" y="5086080"/>
                <a:ext cx="2872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876720" y="5086080"/>
                <a:ext cx="287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524720" y="4654440"/>
                <a:ext cx="0" cy="287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57800" y="4510080"/>
                <a:ext cx="10792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4491000" y="50371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B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94560" y="1868400"/>
            <a:ext cx="3096360" cy="3110040"/>
            <a:chOff x="394560" y="1868400"/>
            <a:chExt cx="3096360" cy="3110040"/>
          </a:xfrm>
        </p:grpSpPr>
        <p:sp>
          <p:nvSpPr>
            <p:cNvPr id="482" name=""/>
            <p:cNvSpPr/>
            <p:nvPr/>
          </p:nvSpPr>
          <p:spPr>
            <a:xfrm>
              <a:off x="2556000" y="3214800"/>
              <a:ext cx="934920" cy="825480"/>
            </a:xfrm>
            <a:prstGeom prst="rect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Ext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05160" y="2421000"/>
              <a:ext cx="65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B2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B2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92320" y="4406760"/>
              <a:ext cx="606240" cy="571680"/>
            </a:xfrm>
            <a:prstGeom prst="flowChartMagneticDisk">
              <a:avLst/>
            </a:prstGeom>
            <a:solidFill>
              <a:srgbClr val="008f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5" name="" descr=""/>
            <p:cNvPicPr/>
            <p:nvPr/>
          </p:nvPicPr>
          <p:blipFill>
            <a:blip r:embed="rId1"/>
            <a:stretch/>
          </p:blipFill>
          <p:spPr>
            <a:xfrm>
              <a:off x="995400" y="2752560"/>
              <a:ext cx="78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874880" y="3551400"/>
              <a:ext cx="606240" cy="214200"/>
            </a:xfrm>
            <a:prstGeom prst="leftRightArrow">
              <a:avLst>
                <a:gd name="adj1" fmla="val 50000"/>
                <a:gd name="adj2" fmla="val 56343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19435800">
              <a:off x="1949400" y="4087440"/>
              <a:ext cx="606600" cy="214200"/>
            </a:xfrm>
            <a:prstGeom prst="leftRightArrow">
              <a:avLst>
                <a:gd name="adj1" fmla="val 50000"/>
                <a:gd name="adj2" fmla="val 56376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607000">
              <a:off x="1949040" y="2979360"/>
              <a:ext cx="606600" cy="214200"/>
            </a:xfrm>
            <a:prstGeom prst="leftRightArrow">
              <a:avLst>
                <a:gd name="adj1" fmla="val 50000"/>
                <a:gd name="adj2" fmla="val 56376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9" name="" descr=""/>
            <p:cNvPicPr/>
            <p:nvPr/>
          </p:nvPicPr>
          <p:blipFill>
            <a:blip r:embed="rId2"/>
            <a:stretch/>
          </p:blipFill>
          <p:spPr>
            <a:xfrm>
              <a:off x="846000" y="3511440"/>
              <a:ext cx="81936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394560" y="1868400"/>
              <a:ext cx="22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Asiakkaat, Työntekijät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Kumppan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037200" y="1868400"/>
            <a:ext cx="2565720" cy="2538360"/>
            <a:chOff x="6037200" y="1868400"/>
            <a:chExt cx="2565720" cy="2538360"/>
          </a:xfrm>
        </p:grpSpPr>
        <p:sp>
          <p:nvSpPr>
            <p:cNvPr id="492" name=""/>
            <p:cNvSpPr/>
            <p:nvPr/>
          </p:nvSpPr>
          <p:spPr>
            <a:xfrm>
              <a:off x="6037200" y="3214800"/>
              <a:ext cx="990720" cy="825480"/>
            </a:xfrm>
            <a:prstGeom prst="rect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49920" y="292428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10480" y="2979720"/>
              <a:ext cx="606600" cy="571680"/>
            </a:xfrm>
            <a:prstGeom prst="flowChartMagneticDisk">
              <a:avLst/>
            </a:prstGeom>
            <a:solidFill>
              <a:srgbClr val="008f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0553000">
              <a:off x="7027560" y="3265200"/>
              <a:ext cx="606240" cy="212760"/>
            </a:xfrm>
            <a:prstGeom prst="leftRightArrow">
              <a:avLst>
                <a:gd name="adj1" fmla="val 50000"/>
                <a:gd name="adj2" fmla="val 56724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758000">
              <a:off x="7027560" y="3765600"/>
              <a:ext cx="606240" cy="214200"/>
            </a:xfrm>
            <a:prstGeom prst="leftRightArrow">
              <a:avLst>
                <a:gd name="adj1" fmla="val 50000"/>
                <a:gd name="adj2" fmla="val 56343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10480" y="3836880"/>
              <a:ext cx="606600" cy="569880"/>
            </a:xfrm>
            <a:prstGeom prst="flowChartMagneticDisk">
              <a:avLst/>
            </a:prstGeom>
            <a:solidFill>
              <a:srgbClr val="008f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51280" y="1868400"/>
              <a:ext cx="11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Kumppan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Integraatiotuotteen ihannetil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575160" y="1868400"/>
            <a:ext cx="2377800" cy="2776680"/>
            <a:chOff x="3575160" y="1868400"/>
            <a:chExt cx="2377800" cy="2776680"/>
          </a:xfrm>
        </p:grpSpPr>
        <p:sp>
          <p:nvSpPr>
            <p:cNvPr id="501" name=""/>
            <p:cNvSpPr txBox="1"/>
            <p:nvPr/>
          </p:nvSpPr>
          <p:spPr>
            <a:xfrm>
              <a:off x="3757680" y="2950920"/>
              <a:ext cx="2002680" cy="1694160"/>
            </a:xfrm>
            <a:prstGeom prst="rect">
              <a:avLst/>
            </a:prstGeom>
            <a:solidFill>
              <a:srgbClr val="d2d8d8"/>
            </a:solidFill>
            <a:ln w="9360">
              <a:solidFill>
                <a:srgbClr val="000000"/>
              </a:solidFill>
              <a:miter/>
            </a:ln>
          </p:spPr>
          <p:txBody>
            <a:bodyPr lIns="72000" rIns="0" anchor="t">
              <a:normAutofit/>
            </a:bodyPr>
            <a:p>
              <a:pPr marL="295200" indent="-295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2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272200" y="3365640"/>
              <a:ext cx="680760" cy="599760"/>
            </a:xfrm>
            <a:prstGeom prst="flowChartMagneticDisk">
              <a:avLst/>
            </a:prstGeom>
            <a:solidFill>
              <a:srgbClr val="008f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75160" y="3365640"/>
              <a:ext cx="680760" cy="599760"/>
            </a:xfrm>
            <a:prstGeom prst="flowChartMagneticDisk">
              <a:avLst/>
            </a:prstGeom>
            <a:solidFill>
              <a:srgbClr val="008f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21120" y="4122720"/>
              <a:ext cx="1743120" cy="355680"/>
            </a:xfrm>
            <a:custGeom>
              <a:avLst/>
              <a:gdLst>
                <a:gd name="textAreaLeft" fmla="*/ 304920 w 1743120"/>
                <a:gd name="textAreaRight" fmla="*/ 1263960 w 1743120"/>
                <a:gd name="textAreaTop" fmla="*/ 47520 h 355680"/>
                <a:gd name="textAreaBottom" fmla="*/ 30816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3768120" y="2765520"/>
              <a:ext cx="1817640" cy="357120"/>
            </a:xfrm>
            <a:custGeom>
              <a:avLst/>
              <a:gdLst>
                <a:gd name="textAreaLeft" fmla="*/ 317520 w 1817640"/>
                <a:gd name="textAreaRight" fmla="*/ 1317600 w 1817640"/>
                <a:gd name="textAreaTop" fmla="*/ 47880 h 357120"/>
                <a:gd name="textAreaBottom" fmla="*/ 30924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84360" y="186840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Yrit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547640" y="5950080"/>
            <a:ext cx="6553440" cy="480240"/>
            <a:chOff x="1547640" y="5950080"/>
            <a:chExt cx="6553440" cy="480240"/>
          </a:xfrm>
        </p:grpSpPr>
        <p:sp>
          <p:nvSpPr>
            <p:cNvPr id="508" name=""/>
            <p:cNvSpPr/>
            <p:nvPr/>
          </p:nvSpPr>
          <p:spPr>
            <a:xfrm>
              <a:off x="1547640" y="595008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41800" y="6093000"/>
              <a:ext cx="136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EAI-ratkai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Tiedonsiirron mallej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29920" y="1989000"/>
            <a:ext cx="504972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n siirto järjestelmien välill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n esitystavan muuto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plik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don kopioiden ajantasaisu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jot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ähdetiedon muokkaaminen useaksi kohdetiedo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hdis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sean lähdetiedon yhdistäminen yhdeksi kohdetiedo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867280" y="2924280"/>
            <a:ext cx="2376360" cy="504720"/>
            <a:chOff x="5867280" y="2924280"/>
            <a:chExt cx="2376360" cy="504720"/>
          </a:xfrm>
        </p:grpSpPr>
        <p:sp>
          <p:nvSpPr>
            <p:cNvPr id="513" name=""/>
            <p:cNvSpPr/>
            <p:nvPr/>
          </p:nvSpPr>
          <p:spPr>
            <a:xfrm>
              <a:off x="5867280" y="2924280"/>
              <a:ext cx="630000" cy="504720"/>
            </a:xfrm>
            <a:prstGeom prst="ellipse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13640" y="2924280"/>
              <a:ext cx="630000" cy="504720"/>
            </a:xfrm>
            <a:prstGeom prst="ellipse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64960" y="2986560"/>
              <a:ext cx="979560" cy="314280"/>
            </a:xfrm>
            <a:prstGeom prst="leftRightArrow">
              <a:avLst>
                <a:gd name="adj1" fmla="val 50000"/>
                <a:gd name="adj2" fmla="val 62048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867280" y="2133720"/>
            <a:ext cx="2376360" cy="503280"/>
            <a:chOff x="5867280" y="2133720"/>
            <a:chExt cx="2376360" cy="503280"/>
          </a:xfrm>
        </p:grpSpPr>
        <p:sp>
          <p:nvSpPr>
            <p:cNvPr id="517" name=""/>
            <p:cNvSpPr/>
            <p:nvPr/>
          </p:nvSpPr>
          <p:spPr>
            <a:xfrm>
              <a:off x="5867280" y="2133720"/>
              <a:ext cx="630000" cy="503280"/>
            </a:xfrm>
            <a:prstGeom prst="ellipse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3640" y="2133720"/>
              <a:ext cx="630000" cy="503280"/>
            </a:xfrm>
            <a:prstGeom prst="ellipse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35880" y="2196000"/>
              <a:ext cx="839160" cy="314640"/>
            </a:xfrm>
            <a:prstGeom prst="rightArrow">
              <a:avLst>
                <a:gd name="adj1" fmla="val 50000"/>
                <a:gd name="adj2" fmla="val 66676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867280" y="3716280"/>
            <a:ext cx="2376360" cy="504720"/>
            <a:chOff x="5867280" y="3716280"/>
            <a:chExt cx="2376360" cy="504720"/>
          </a:xfrm>
        </p:grpSpPr>
        <p:grpSp>
          <p:nvGrpSpPr>
            <p:cNvPr id="521" name=""/>
            <p:cNvGrpSpPr/>
            <p:nvPr/>
          </p:nvGrpSpPr>
          <p:grpSpPr>
            <a:xfrm>
              <a:off x="5867280" y="3716280"/>
              <a:ext cx="2376360" cy="504720"/>
              <a:chOff x="5867280" y="3716280"/>
              <a:chExt cx="2376360" cy="504720"/>
            </a:xfrm>
          </p:grpSpPr>
          <p:sp>
            <p:nvSpPr>
              <p:cNvPr id="522" name=""/>
              <p:cNvSpPr/>
              <p:nvPr/>
            </p:nvSpPr>
            <p:spPr>
              <a:xfrm>
                <a:off x="5867280" y="3716280"/>
                <a:ext cx="630000" cy="504720"/>
              </a:xfrm>
              <a:prstGeom prst="ellipse">
                <a:avLst/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613640" y="3716280"/>
                <a:ext cx="630000" cy="504720"/>
              </a:xfrm>
              <a:prstGeom prst="ellipse">
                <a:avLst/>
              </a:pr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564960" y="3778560"/>
                <a:ext cx="979560" cy="314280"/>
              </a:xfrm>
              <a:prstGeom prst="leftRightArrow">
                <a:avLst>
                  <a:gd name="adj1" fmla="val 50000"/>
                  <a:gd name="adj2" fmla="val 62048"/>
                </a:avLst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6216840" y="3842640"/>
              <a:ext cx="280440" cy="253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13640" y="3842640"/>
              <a:ext cx="280440" cy="253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5940360" y="4437000"/>
            <a:ext cx="2303280" cy="1007640"/>
            <a:chOff x="5940360" y="4437000"/>
            <a:chExt cx="2303280" cy="1007640"/>
          </a:xfrm>
        </p:grpSpPr>
        <p:grpSp>
          <p:nvGrpSpPr>
            <p:cNvPr id="528" name=""/>
            <p:cNvGrpSpPr/>
            <p:nvPr/>
          </p:nvGrpSpPr>
          <p:grpSpPr>
            <a:xfrm>
              <a:off x="7614360" y="4437000"/>
              <a:ext cx="629280" cy="1007640"/>
              <a:chOff x="7614360" y="4437000"/>
              <a:chExt cx="629280" cy="1007640"/>
            </a:xfrm>
          </p:grpSpPr>
          <p:sp>
            <p:nvSpPr>
              <p:cNvPr id="529" name=""/>
              <p:cNvSpPr/>
              <p:nvPr/>
            </p:nvSpPr>
            <p:spPr>
              <a:xfrm>
                <a:off x="7614360" y="4906800"/>
                <a:ext cx="629280" cy="537840"/>
              </a:xfrm>
              <a:prstGeom prst="ellipse">
                <a:avLst/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14360" y="4437000"/>
                <a:ext cx="629280" cy="537840"/>
              </a:xfrm>
              <a:prstGeom prst="ellipse">
                <a:avLst/>
              </a:pr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5940360" y="4638600"/>
              <a:ext cx="629280" cy="537840"/>
            </a:xfrm>
            <a:prstGeom prst="ellipse">
              <a:avLst/>
            </a:prstGeom>
            <a:gradFill rotWithShape="0">
              <a:gsLst>
                <a:gs pos="0">
                  <a:srgbClr val="e87000"/>
                </a:gs>
                <a:gs pos="100000">
                  <a:srgbClr val="f0ab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809800">
              <a:off x="6707880" y="4638240"/>
              <a:ext cx="838440" cy="336240"/>
            </a:xfrm>
            <a:prstGeom prst="rightArrow">
              <a:avLst>
                <a:gd name="adj1" fmla="val 50000"/>
                <a:gd name="adj2" fmla="val 62339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860400">
              <a:off x="6708240" y="4839840"/>
              <a:ext cx="838440" cy="336240"/>
            </a:xfrm>
            <a:prstGeom prst="rightArrow">
              <a:avLst>
                <a:gd name="adj1" fmla="val 50000"/>
                <a:gd name="adj2" fmla="val 62339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940360" y="5445000"/>
            <a:ext cx="2231640" cy="1008000"/>
            <a:chOff x="5940360" y="5445000"/>
            <a:chExt cx="2231640" cy="1008000"/>
          </a:xfrm>
        </p:grpSpPr>
        <p:sp>
          <p:nvSpPr>
            <p:cNvPr id="535" name=""/>
            <p:cNvSpPr/>
            <p:nvPr/>
          </p:nvSpPr>
          <p:spPr>
            <a:xfrm>
              <a:off x="5940360" y="5915880"/>
              <a:ext cx="628920" cy="537120"/>
            </a:xfrm>
            <a:prstGeom prst="ellipse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40360" y="5445000"/>
              <a:ext cx="628920" cy="537480"/>
            </a:xfrm>
            <a:prstGeom prst="ellipse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543080" y="5713200"/>
              <a:ext cx="628920" cy="537120"/>
            </a:xfrm>
            <a:prstGeom prst="ellipse">
              <a:avLst/>
            </a:prstGeom>
            <a:gradFill rotWithShape="0">
              <a:gsLst>
                <a:gs pos="0">
                  <a:srgbClr val="e87000"/>
                </a:gs>
                <a:gs pos="100000">
                  <a:srgbClr val="f0ab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860400">
              <a:off x="6636960" y="5645880"/>
              <a:ext cx="838080" cy="335880"/>
            </a:xfrm>
            <a:prstGeom prst="rightArrow">
              <a:avLst>
                <a:gd name="adj1" fmla="val 50000"/>
                <a:gd name="adj2" fmla="val 62379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809800">
              <a:off x="6636600" y="5913720"/>
              <a:ext cx="838080" cy="335880"/>
            </a:xfrm>
            <a:prstGeom prst="rightArrow">
              <a:avLst>
                <a:gd name="adj1" fmla="val 50000"/>
                <a:gd name="adj2" fmla="val 62379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Sovellusliittymä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067280" y="1915920"/>
            <a:ext cx="4752720" cy="434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ovarastojen kautta toteutetut liittym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iukat ajantasaisuusvaatimukset ongelmallis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ovellusten versiovaihdot vaikeutuv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ovellusmuutoksina toteutetut liittym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aditaan sovellusräätälöitiprojekte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ovellustenversiovaihdot ongelmalli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ovellusadapterien avulla toteutetut liittym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atii integraatioalustan olemassaol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daptereita voidaan toteuttaa itse tai teettää, ostaa tuotetoimittajalta tai  kolmansilta osapuolilta (adapteritoimittaj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993600" y="1700280"/>
            <a:ext cx="2282760" cy="1183680"/>
            <a:chOff x="993600" y="1700280"/>
            <a:chExt cx="2282760" cy="1183680"/>
          </a:xfrm>
        </p:grpSpPr>
        <p:sp>
          <p:nvSpPr>
            <p:cNvPr id="543" name=""/>
            <p:cNvSpPr/>
            <p:nvPr/>
          </p:nvSpPr>
          <p:spPr>
            <a:xfrm>
              <a:off x="1035000" y="1700280"/>
              <a:ext cx="726120" cy="465120"/>
            </a:xfrm>
            <a:prstGeom prst="rect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292929"/>
                  </a:solidFill>
                  <a:latin typeface="Arial"/>
                </a:rPr>
                <a:t>Ap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93600" y="2490480"/>
              <a:ext cx="768960" cy="393480"/>
            </a:xfrm>
            <a:prstGeom prst="flowChartMagneticDisk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99320" y="221184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2507400" y="1700280"/>
              <a:ext cx="768960" cy="1183680"/>
              <a:chOff x="2507400" y="1700280"/>
              <a:chExt cx="768960" cy="1183680"/>
            </a:xfrm>
          </p:grpSpPr>
          <p:sp>
            <p:nvSpPr>
              <p:cNvPr id="547" name=""/>
              <p:cNvSpPr/>
              <p:nvPr/>
            </p:nvSpPr>
            <p:spPr>
              <a:xfrm>
                <a:off x="2548800" y="1700280"/>
                <a:ext cx="726120" cy="465120"/>
              </a:xfrm>
              <a:prstGeom prst="rect">
                <a:avLst/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292929"/>
                    </a:solidFill>
                    <a:latin typeface="Arial"/>
                  </a:rPr>
                  <a:t>App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507400" y="2490480"/>
                <a:ext cx="768960" cy="393480"/>
              </a:xfrm>
              <a:prstGeom prst="flowChartMagneticDisk">
                <a:avLst/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"/>
                  </a:rPr>
                  <a:t>D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913120" y="2211840"/>
                <a:ext cx="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1822680" y="2536560"/>
              <a:ext cx="605880" cy="313560"/>
            </a:xfrm>
            <a:prstGeom prst="leftRightArrow">
              <a:avLst>
                <a:gd name="adj1" fmla="val 33333"/>
                <a:gd name="adj2" fmla="val 5489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044720" y="3500280"/>
            <a:ext cx="2231640" cy="649440"/>
            <a:chOff x="1044720" y="3500280"/>
            <a:chExt cx="2231640" cy="649440"/>
          </a:xfrm>
        </p:grpSpPr>
        <p:sp>
          <p:nvSpPr>
            <p:cNvPr id="552" name=""/>
            <p:cNvSpPr/>
            <p:nvPr/>
          </p:nvSpPr>
          <p:spPr>
            <a:xfrm>
              <a:off x="1044720" y="3500280"/>
              <a:ext cx="744120" cy="649440"/>
            </a:xfrm>
            <a:prstGeom prst="rect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292929"/>
                  </a:solidFill>
                  <a:latin typeface="Arial"/>
                </a:rPr>
                <a:t>Ap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75000" y="3501360"/>
              <a:ext cx="801360" cy="648360"/>
            </a:xfrm>
            <a:prstGeom prst="rect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292929"/>
                  </a:solidFill>
                  <a:latin typeface="Arial"/>
                </a:rPr>
                <a:t>Ap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4" name=""/>
            <p:cNvCxnSpPr/>
            <p:nvPr/>
          </p:nvCxnSpPr>
          <p:spPr>
            <a:xfrm>
              <a:off x="1617480" y="3609360"/>
              <a:ext cx="972000" cy="271080"/>
            </a:xfrm>
            <a:prstGeom prst="bentConnector3">
              <a:avLst>
                <a:gd name="adj1" fmla="val 49981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55" name=""/>
            <p:cNvCxnSpPr/>
            <p:nvPr/>
          </p:nvCxnSpPr>
          <p:spPr>
            <a:xfrm>
              <a:off x="1560240" y="3717000"/>
              <a:ext cx="1373400" cy="324720"/>
            </a:xfrm>
            <a:prstGeom prst="bentConnector3">
              <a:avLst>
                <a:gd name="adj1" fmla="val 24803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56" name=""/>
            <p:cNvCxnSpPr/>
            <p:nvPr/>
          </p:nvCxnSpPr>
          <p:spPr>
            <a:xfrm flipV="1">
              <a:off x="1330920" y="3661560"/>
              <a:ext cx="1374480" cy="326160"/>
            </a:xfrm>
            <a:prstGeom prst="bentConnector3">
              <a:avLst>
                <a:gd name="adj1" fmla="val 48022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682560" y="5013360"/>
            <a:ext cx="3097440" cy="1294560"/>
            <a:chOff x="682560" y="5013360"/>
            <a:chExt cx="3097440" cy="1294560"/>
          </a:xfrm>
        </p:grpSpPr>
        <p:grpSp>
          <p:nvGrpSpPr>
            <p:cNvPr id="558" name=""/>
            <p:cNvGrpSpPr/>
            <p:nvPr/>
          </p:nvGrpSpPr>
          <p:grpSpPr>
            <a:xfrm>
              <a:off x="1039680" y="5013360"/>
              <a:ext cx="2322360" cy="748440"/>
              <a:chOff x="1039680" y="5013360"/>
              <a:chExt cx="2322360" cy="74844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039680" y="5013360"/>
                <a:ext cx="833400" cy="746640"/>
                <a:chOff x="1039680" y="5013360"/>
                <a:chExt cx="833400" cy="74664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039680" y="5013360"/>
                  <a:ext cx="833400" cy="598680"/>
                </a:xfrm>
                <a:prstGeom prst="rect">
                  <a:avLst/>
                </a:prstGeom>
                <a:solidFill>
                  <a:srgbClr val="b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292929"/>
                      </a:solidFill>
                      <a:latin typeface="Arial"/>
                    </a:rPr>
                    <a:t>App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039680" y="5561280"/>
                  <a:ext cx="833400" cy="198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000" spc="-1" strike="noStrike">
                      <a:solidFill>
                        <a:srgbClr val="ffffff"/>
                      </a:solidFill>
                      <a:latin typeface="Arial"/>
                    </a:rPr>
                    <a:t>Adapter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2528640" y="5014080"/>
                <a:ext cx="833400" cy="747720"/>
                <a:chOff x="2528640" y="5014080"/>
                <a:chExt cx="833400" cy="7477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2528640" y="5014080"/>
                  <a:ext cx="833400" cy="597600"/>
                </a:xfrm>
                <a:prstGeom prst="rect">
                  <a:avLst/>
                </a:prstGeom>
                <a:solidFill>
                  <a:srgbClr val="b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292929"/>
                      </a:solidFill>
                      <a:latin typeface="Arial"/>
                    </a:rPr>
                    <a:t>App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528640" y="5560920"/>
                  <a:ext cx="833400" cy="200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000" spc="-1" strike="noStrike">
                      <a:solidFill>
                        <a:srgbClr val="ffffff"/>
                      </a:solidFill>
                      <a:latin typeface="Arial"/>
                    </a:rPr>
                    <a:t>Adapter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5" name=""/>
            <p:cNvGrpSpPr/>
            <p:nvPr/>
          </p:nvGrpSpPr>
          <p:grpSpPr>
            <a:xfrm>
              <a:off x="682560" y="5760000"/>
              <a:ext cx="3097440" cy="547920"/>
              <a:chOff x="682560" y="5760000"/>
              <a:chExt cx="3097440" cy="547920"/>
            </a:xfrm>
          </p:grpSpPr>
          <p:sp>
            <p:nvSpPr>
              <p:cNvPr id="566" name=""/>
              <p:cNvSpPr/>
              <p:nvPr/>
            </p:nvSpPr>
            <p:spPr>
              <a:xfrm>
                <a:off x="682560" y="5972040"/>
                <a:ext cx="3097440" cy="335880"/>
              </a:xfrm>
              <a:prstGeom prst="leftRightArrow">
                <a:avLst>
                  <a:gd name="adj1" fmla="val 58167"/>
                  <a:gd name="adj2" fmla="val 11506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600" spc="-1" strike="noStrike">
                    <a:solidFill>
                      <a:srgbClr val="ffffff"/>
                    </a:solidFill>
                    <a:latin typeface="Arial"/>
                  </a:rPr>
                  <a:t>Integraatioratkais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456920" y="5760000"/>
                <a:ext cx="0" cy="24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46240" y="5760000"/>
                <a:ext cx="0" cy="24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e87000"/>
                </a:solidFill>
                <a:latin typeface="Arial"/>
              </a:rPr>
              <a:t>Sovellusintegraatiotuotteista</a:t>
            </a:r>
            <a:endParaRPr b="1" lang="en-US" sz="3000" spc="-1" strike="noStrike">
              <a:solidFill>
                <a:srgbClr val="e87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403280" y="2486160"/>
            <a:ext cx="3024360" cy="863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00400" y="218124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ovelluk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71640" y="3932280"/>
            <a:ext cx="7129440" cy="1368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788000" y="290196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35280" y="3046320"/>
            <a:ext cx="2233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00720" y="2901960"/>
            <a:ext cx="12956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21520" y="53341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Sanomavälitysratkai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8000" y="4437000"/>
            <a:ext cx="1872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16000" y="4005360"/>
            <a:ext cx="6840720" cy="1224000"/>
            <a:chOff x="1116000" y="4005360"/>
            <a:chExt cx="6840720" cy="1224000"/>
          </a:xfrm>
        </p:grpSpPr>
        <p:grpSp>
          <p:nvGrpSpPr>
            <p:cNvPr id="580" name=""/>
            <p:cNvGrpSpPr/>
            <p:nvPr/>
          </p:nvGrpSpPr>
          <p:grpSpPr>
            <a:xfrm>
              <a:off x="1116000" y="4005360"/>
              <a:ext cx="6840720" cy="1224000"/>
              <a:chOff x="1116000" y="4005360"/>
              <a:chExt cx="6840720" cy="1224000"/>
            </a:xfrm>
          </p:grpSpPr>
          <p:sp>
            <p:nvSpPr>
              <p:cNvPr id="581" name=""/>
              <p:cNvSpPr/>
              <p:nvPr/>
            </p:nvSpPr>
            <p:spPr>
              <a:xfrm>
                <a:off x="1116000" y="4005360"/>
                <a:ext cx="6840720" cy="863640"/>
              </a:xfrm>
              <a:prstGeom prst="leftRightArrow">
                <a:avLst>
                  <a:gd name="adj1" fmla="val 65074"/>
                  <a:gd name="adj2" fmla="val 79795"/>
                </a:avLst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anomaväylä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24360" y="4581720"/>
                <a:ext cx="1224000" cy="647640"/>
              </a:xfrm>
              <a:prstGeom prst="rect">
                <a:avLst/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Sanoma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muokka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292720" y="4581720"/>
              <a:ext cx="1224000" cy="647640"/>
            </a:xfrm>
            <a:prstGeom prst="rect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Sanoma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reitit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Integraatioratkaisun osat - Teknisest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2124000" y="4579920"/>
            <a:ext cx="1511280" cy="1512720"/>
            <a:chOff x="2124000" y="4579920"/>
            <a:chExt cx="1511280" cy="1512720"/>
          </a:xfrm>
        </p:grpSpPr>
        <p:sp>
          <p:nvSpPr>
            <p:cNvPr id="586" name=""/>
            <p:cNvSpPr/>
            <p:nvPr/>
          </p:nvSpPr>
          <p:spPr>
            <a:xfrm>
              <a:off x="2268360" y="4579920"/>
              <a:ext cx="1224000" cy="64764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Prosessi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ohja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2124000" y="5300640"/>
              <a:ext cx="1511280" cy="792000"/>
              <a:chOff x="2124000" y="5300640"/>
              <a:chExt cx="1511280" cy="792000"/>
            </a:xfrm>
          </p:grpSpPr>
          <p:sp>
            <p:nvSpPr>
              <p:cNvPr id="588" name=""/>
              <p:cNvSpPr/>
              <p:nvPr/>
            </p:nvSpPr>
            <p:spPr>
              <a:xfrm>
                <a:off x="2124000" y="5300640"/>
                <a:ext cx="1511280" cy="792000"/>
              </a:xfrm>
              <a:prstGeom prst="rect">
                <a:avLst/>
              </a:pr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Prosessie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mallinn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2266560" y="5375160"/>
                <a:ext cx="1168200" cy="214200"/>
                <a:chOff x="2266560" y="5375160"/>
                <a:chExt cx="1168200" cy="21420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22665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4789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69100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9037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161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5" name=""/>
          <p:cNvSpPr/>
          <p:nvPr/>
        </p:nvSpPr>
        <p:spPr>
          <a:xfrm>
            <a:off x="2048040" y="6219720"/>
            <a:ext cx="16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rosessienhalli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79640" y="3549600"/>
            <a:ext cx="720720" cy="2160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203640" y="3549600"/>
            <a:ext cx="720720" cy="2160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692360" y="347832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ovellussovitti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3048120"/>
            <a:ext cx="865440" cy="574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Portaa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42200" y="3048120"/>
            <a:ext cx="1009440" cy="574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Ulkoi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Liittym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04000" y="2109960"/>
            <a:ext cx="432000" cy="43308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227640" y="2109960"/>
            <a:ext cx="432000" cy="43308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80360" y="2108160"/>
            <a:ext cx="431640" cy="43344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150960" y="182232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Ulkoiset järjestelm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35640" y="3693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516720" y="2614680"/>
            <a:ext cx="21600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020000" y="261468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235640" y="2614680"/>
            <a:ext cx="36036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207040" y="2138400"/>
            <a:ext cx="706320" cy="9000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4211640" y="154296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siakkaat, Kumppan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yöntekij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48360" y="3693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93120" y="311796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619280" y="2629080"/>
            <a:ext cx="2665440" cy="576000"/>
            <a:chOff x="1619280" y="2629080"/>
            <a:chExt cx="2665440" cy="576000"/>
          </a:xfrm>
        </p:grpSpPr>
        <p:sp>
          <p:nvSpPr>
            <p:cNvPr id="614" name=""/>
            <p:cNvSpPr/>
            <p:nvPr/>
          </p:nvSpPr>
          <p:spPr>
            <a:xfrm>
              <a:off x="1619280" y="2629080"/>
              <a:ext cx="79236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56000" y="2629080"/>
              <a:ext cx="79236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92720" y="2629080"/>
              <a:ext cx="79200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824040" y="339264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A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37120" y="340668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orta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40000" y="3191040"/>
            <a:ext cx="7128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76720" y="3189240"/>
            <a:ext cx="2156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3564000" y="3262320"/>
            <a:ext cx="287280" cy="21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64000" y="38368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11280" y="383868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403280" y="2486160"/>
            <a:ext cx="3024360" cy="863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00400" y="218124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ovelluk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71640" y="3932280"/>
            <a:ext cx="712944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88000" y="290196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35280" y="3046320"/>
            <a:ext cx="2233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00720" y="2901960"/>
            <a:ext cx="12956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221520" y="53341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Sanomavälitysratkai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8000" y="4437000"/>
            <a:ext cx="1872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116000" y="4005360"/>
            <a:ext cx="6840720" cy="1224000"/>
            <a:chOff x="1116000" y="4005360"/>
            <a:chExt cx="6840720" cy="1224000"/>
          </a:xfrm>
        </p:grpSpPr>
        <p:grpSp>
          <p:nvGrpSpPr>
            <p:cNvPr id="633" name=""/>
            <p:cNvGrpSpPr/>
            <p:nvPr/>
          </p:nvGrpSpPr>
          <p:grpSpPr>
            <a:xfrm>
              <a:off x="1116000" y="4005360"/>
              <a:ext cx="6840720" cy="1224000"/>
              <a:chOff x="1116000" y="4005360"/>
              <a:chExt cx="6840720" cy="1224000"/>
            </a:xfrm>
          </p:grpSpPr>
          <p:sp>
            <p:nvSpPr>
              <p:cNvPr id="634" name=""/>
              <p:cNvSpPr/>
              <p:nvPr/>
            </p:nvSpPr>
            <p:spPr>
              <a:xfrm>
                <a:off x="1116000" y="4005360"/>
                <a:ext cx="6840720" cy="863640"/>
              </a:xfrm>
              <a:prstGeom prst="leftRightArrow">
                <a:avLst>
                  <a:gd name="adj1" fmla="val 65074"/>
                  <a:gd name="adj2" fmla="val 79795"/>
                </a:avLst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anomaväylä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924360" y="4581720"/>
                <a:ext cx="1224000" cy="647640"/>
              </a:xfrm>
              <a:prstGeom prst="rect">
                <a:avLst/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Sanoma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muokka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5292720" y="4581720"/>
              <a:ext cx="1224000" cy="647640"/>
            </a:xfrm>
            <a:prstGeom prst="rect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Sanoma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reitit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Integraatioratkaisun osat - Sanomaväylä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124000" y="4579920"/>
            <a:ext cx="1511280" cy="1512720"/>
            <a:chOff x="2124000" y="4579920"/>
            <a:chExt cx="1511280" cy="1512720"/>
          </a:xfrm>
        </p:grpSpPr>
        <p:sp>
          <p:nvSpPr>
            <p:cNvPr id="639" name=""/>
            <p:cNvSpPr/>
            <p:nvPr/>
          </p:nvSpPr>
          <p:spPr>
            <a:xfrm>
              <a:off x="2268360" y="4579920"/>
              <a:ext cx="1224000" cy="64764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Prosessi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ohja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2124000" y="5300640"/>
              <a:ext cx="1511280" cy="792000"/>
              <a:chOff x="2124000" y="5300640"/>
              <a:chExt cx="1511280" cy="792000"/>
            </a:xfrm>
          </p:grpSpPr>
          <p:sp>
            <p:nvSpPr>
              <p:cNvPr id="641" name=""/>
              <p:cNvSpPr/>
              <p:nvPr/>
            </p:nvSpPr>
            <p:spPr>
              <a:xfrm>
                <a:off x="2124000" y="5300640"/>
                <a:ext cx="1511280" cy="792000"/>
              </a:xfrm>
              <a:prstGeom prst="rect">
                <a:avLst/>
              </a:pr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Prosessie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mallinn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2266560" y="5375160"/>
                <a:ext cx="1168200" cy="214200"/>
                <a:chOff x="2266560" y="5375160"/>
                <a:chExt cx="1168200" cy="2142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2665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4789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69100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9037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1161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8" name=""/>
          <p:cNvSpPr/>
          <p:nvPr/>
        </p:nvSpPr>
        <p:spPr>
          <a:xfrm>
            <a:off x="2048040" y="6219720"/>
            <a:ext cx="16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rosessienhalli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79640" y="3549600"/>
            <a:ext cx="720720" cy="2160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203640" y="3549600"/>
            <a:ext cx="720720" cy="2160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92360" y="347832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ovellussovitti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03640" y="3048120"/>
            <a:ext cx="865440" cy="574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Portaa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42200" y="3048120"/>
            <a:ext cx="1009440" cy="574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Ulkoi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Liittym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04000" y="2109960"/>
            <a:ext cx="432000" cy="43308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27640" y="2109960"/>
            <a:ext cx="432000" cy="43308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80360" y="2108160"/>
            <a:ext cx="431640" cy="43344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150960" y="182232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Ulkoiset järjestelm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35640" y="3693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516720" y="2614680"/>
            <a:ext cx="21600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020000" y="261468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35640" y="2614680"/>
            <a:ext cx="36036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5207040" y="2138400"/>
            <a:ext cx="706320" cy="9000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4211640" y="154296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siakkaat, Kumppan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yöntekij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948360" y="3693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593120" y="311796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619280" y="2629080"/>
            <a:ext cx="2665440" cy="576000"/>
            <a:chOff x="1619280" y="2629080"/>
            <a:chExt cx="2665440" cy="576000"/>
          </a:xfrm>
        </p:grpSpPr>
        <p:sp>
          <p:nvSpPr>
            <p:cNvPr id="667" name=""/>
            <p:cNvSpPr/>
            <p:nvPr/>
          </p:nvSpPr>
          <p:spPr>
            <a:xfrm>
              <a:off x="1619280" y="2629080"/>
              <a:ext cx="79236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56000" y="2629080"/>
              <a:ext cx="79236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92720" y="2629080"/>
              <a:ext cx="79200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824040" y="339264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A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137120" y="340668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orta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40000" y="3191040"/>
            <a:ext cx="7128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276720" y="3189240"/>
            <a:ext cx="2156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3564000" y="3262320"/>
            <a:ext cx="287280" cy="21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64000" y="38368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11280" y="383868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Sanomanvälit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anomaväyl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hdollistaa sovellusten löysän kytkenn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ähes yksinomaan asynkronisia publish-subscribe mallin toteuttavia middleware tuotte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anomamuokk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vitaan sovittamaan erilaisia tietojen esitysmuot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anomien yhdistäminen ja hajot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anomareiti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vitaan jottei sovellusten sijainteja jouduta kiinnittämään ja jotta reitityssääntöjä ei tarvitse ohjelmoida kä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äytännössä reititys tapahtuu usein sanomien sisältö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e87000"/>
                </a:solidFill>
                <a:latin typeface="Arial"/>
              </a:rPr>
              <a:t>Esittely</a:t>
            </a:r>
            <a:endParaRPr b="1" lang="en-US" sz="3000" spc="-1" strike="noStrike">
              <a:solidFill>
                <a:srgbClr val="e87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Sanomamuutoksist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104320" cy="4248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velluksilla on erilaisia esitystapoja tietokokonaisuuksille ja erilaisia näkemyksiä siitä mitä alkioita tietokokonaisuuksiin kuul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imi: Niemistö, J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tunimi: Joose; Sukunimi: Niemist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sitystapamuutosten hallinta ohjelmakoodilla on pitkällä tähtäimellä mahdoto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m: 150 järjestelmää -&gt; 149 muunnossäännöstöä/järjestelmä -&gt; yhteensä 11175 muunnossäännöstö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äytännössä muunnosten määrän rajoittaminen hallittavalle tasolle vaati aina jonkinlaisen väliesitysmuodon määrittelyä (Common Business 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tystapojen suurin yhteinen tekijä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m: 150 järjestelmää -&gt; 150 muunnossäännöstöä + väliesitysmuodon määrit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Common Business Ob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39640" y="2637000"/>
            <a:ext cx="1933560" cy="3240000"/>
          </a:xfrm>
          <a:prstGeom prst="rect">
            <a:avLst/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Appicatio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First-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Last-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Customer-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ddress-Lin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ddress-Lin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ddress-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ostal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86560" y="2637000"/>
            <a:ext cx="2017800" cy="31683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Applic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For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ur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Business_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treet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City_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Zi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0560" y="2365560"/>
            <a:ext cx="1847880" cy="3745800"/>
          </a:xfrm>
          <a:prstGeom prst="rect">
            <a:avLst/>
          </a:prstGeom>
          <a:gradFill rotWithShape="0">
            <a:gsLst>
              <a:gs pos="0">
                <a:srgbClr val="e87000"/>
              </a:gs>
              <a:gs pos="100000">
                <a:srgbClr val="f0ab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C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Customer-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First-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iddle-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Last-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Customer-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ddress-Lin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ddress-Lin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ddress-Lin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City-tow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tate-Provi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ostal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Business-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rot="5400000">
            <a:off x="1442520" y="3957840"/>
            <a:ext cx="3257640" cy="58068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Transformation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pplication1 to C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rot="5400000">
            <a:off x="4381560" y="3957840"/>
            <a:ext cx="3257640" cy="58068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Trans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pplication2 &lt;-&gt; C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Tietoturvast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30280" y="1988640"/>
            <a:ext cx="8042400" cy="4535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eknisesti tiedon salaaminen sanomaväylässä on triviaal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ysymyksiä tietoturvaan liitt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odostaisiko sanomavälitys todellakin tietoturvan heikoimman lenk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3040" indent="-285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ovellusten tietoturva (käyttäjien autentikointi ja autorisointi, sovellusprotokollat), varusohjelmien tietoturva (esim http-serverit, tietokannat), j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ikäli sanomat salataan, miten hoidetaan virhetilanteiden hallint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iten sanomien sisältöpohjainen reititys voidaan järjestää salattujen sanomien yhteydessä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illaisia tietoturvavaatimuksia ratkaisuun kohdistuu? Mitä niiden kustannusvaikutukset ov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tegraatioratkaisu on aina sisäverkoss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rsin yleisesti jopa erillään toimistoverk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B2B liittymät hoidetaan tavallisesti erillisessä instanssissa, monikerroksisen DMZ:n sisällä; tavallisesti HTTPS:ää, usein käytetään myös VPN yhteyksiä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403280" y="2486160"/>
            <a:ext cx="3024360" cy="863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00400" y="218124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ovelluk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971640" y="3932280"/>
            <a:ext cx="7129440" cy="1368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88000" y="290196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835280" y="3046320"/>
            <a:ext cx="2233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00720" y="2901960"/>
            <a:ext cx="12956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1520" y="53341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Sanomavälitysratkai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908000" y="4437000"/>
            <a:ext cx="187200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116000" y="4005360"/>
            <a:ext cx="6840720" cy="1224000"/>
            <a:chOff x="1116000" y="4005360"/>
            <a:chExt cx="6840720" cy="1224000"/>
          </a:xfrm>
        </p:grpSpPr>
        <p:grpSp>
          <p:nvGrpSpPr>
            <p:cNvPr id="699" name=""/>
            <p:cNvGrpSpPr/>
            <p:nvPr/>
          </p:nvGrpSpPr>
          <p:grpSpPr>
            <a:xfrm>
              <a:off x="1116000" y="4005360"/>
              <a:ext cx="6840720" cy="1224000"/>
              <a:chOff x="1116000" y="4005360"/>
              <a:chExt cx="6840720" cy="1224000"/>
            </a:xfrm>
          </p:grpSpPr>
          <p:sp>
            <p:nvSpPr>
              <p:cNvPr id="700" name=""/>
              <p:cNvSpPr/>
              <p:nvPr/>
            </p:nvSpPr>
            <p:spPr>
              <a:xfrm>
                <a:off x="1116000" y="4005360"/>
                <a:ext cx="6840720" cy="863640"/>
              </a:xfrm>
              <a:prstGeom prst="leftRightArrow">
                <a:avLst>
                  <a:gd name="adj1" fmla="val 65074"/>
                  <a:gd name="adj2" fmla="val 79795"/>
                </a:avLst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anomaväylä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924360" y="4581720"/>
                <a:ext cx="1224000" cy="647640"/>
              </a:xfrm>
              <a:prstGeom prst="rect">
                <a:avLst/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Sanoma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muokka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5292720" y="4581720"/>
              <a:ext cx="1224000" cy="647640"/>
            </a:xfrm>
            <a:prstGeom prst="rect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Sanoma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reitit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Integraatioratkaisun osat - Prosessienhallint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124000" y="4579920"/>
            <a:ext cx="1511280" cy="1512720"/>
            <a:chOff x="2124000" y="4579920"/>
            <a:chExt cx="1511280" cy="1512720"/>
          </a:xfrm>
        </p:grpSpPr>
        <p:sp>
          <p:nvSpPr>
            <p:cNvPr id="705" name=""/>
            <p:cNvSpPr/>
            <p:nvPr/>
          </p:nvSpPr>
          <p:spPr>
            <a:xfrm>
              <a:off x="2268360" y="4579920"/>
              <a:ext cx="1224000" cy="64764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Prosessi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ohja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2124000" y="5300640"/>
              <a:ext cx="1511280" cy="792000"/>
              <a:chOff x="2124000" y="5300640"/>
              <a:chExt cx="1511280" cy="792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124000" y="5300640"/>
                <a:ext cx="1511280" cy="792000"/>
              </a:xfrm>
              <a:prstGeom prst="rect">
                <a:avLst/>
              </a:pr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Prosessie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mallinn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2266560" y="5375160"/>
                <a:ext cx="1168200" cy="214200"/>
                <a:chOff x="2266560" y="5375160"/>
                <a:chExt cx="1168200" cy="214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22665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4789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69100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9037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1161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14" name=""/>
          <p:cNvSpPr/>
          <p:nvPr/>
        </p:nvSpPr>
        <p:spPr>
          <a:xfrm>
            <a:off x="2048040" y="6219720"/>
            <a:ext cx="16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rosessienhalli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79640" y="3549600"/>
            <a:ext cx="720720" cy="2160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03640" y="3549600"/>
            <a:ext cx="720720" cy="2160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92360" y="347832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ovellussovitti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03640" y="3048120"/>
            <a:ext cx="865440" cy="574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Portaa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442200" y="3048120"/>
            <a:ext cx="1009440" cy="574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Ulkoi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Liittym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04000" y="2109960"/>
            <a:ext cx="432000" cy="43308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227640" y="2109960"/>
            <a:ext cx="432000" cy="43308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80360" y="2108160"/>
            <a:ext cx="431640" cy="43344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150960" y="182232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Ulkoiset järjestelm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35640" y="3693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16720" y="2614680"/>
            <a:ext cx="21600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020000" y="261468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7235640" y="2614680"/>
            <a:ext cx="36036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5207040" y="2138400"/>
            <a:ext cx="706320" cy="90000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4211640" y="154296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siakkaat, Kumppan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yöntekij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948360" y="3693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593120" y="311796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619280" y="2629080"/>
            <a:ext cx="2665440" cy="576000"/>
            <a:chOff x="1619280" y="2629080"/>
            <a:chExt cx="2665440" cy="576000"/>
          </a:xfrm>
        </p:grpSpPr>
        <p:sp>
          <p:nvSpPr>
            <p:cNvPr id="733" name=""/>
            <p:cNvSpPr/>
            <p:nvPr/>
          </p:nvSpPr>
          <p:spPr>
            <a:xfrm>
              <a:off x="1619280" y="2629080"/>
              <a:ext cx="79236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56000" y="2629080"/>
              <a:ext cx="79236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92720" y="2629080"/>
              <a:ext cx="79200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824040" y="339264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A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37120" y="340668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orta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340000" y="3191040"/>
            <a:ext cx="7128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276720" y="3189240"/>
            <a:ext cx="2156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3564000" y="3262320"/>
            <a:ext cx="287280" cy="21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64000" y="38368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11280" y="383868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Prosessienhallint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sessien mallin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rosessien ja työnkulkujen mallinnus, simulointi, optimointi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sessien ohj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ääntömoottori, jolla mallinnettua työnkulkua suorite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ekninen (esim sanomien reititys) vs. toiminnallinen (työnkulut)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iminnallinen workflow vs. prosessinohj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ro abstraktiotasossa -&gt; työkaluvaatimukset muuttuv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BO:n käyttö mahdollistaa prosessien mallintamisen ilman että niitä tarvitsee kiinnittää sovellusten käyttämiin tietomalleihin/esitystapoi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vainasemassa muutosnopeuden mahdollistaj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1403280" y="2486160"/>
            <a:ext cx="3024360" cy="863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400400" y="218124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ovelluk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71640" y="3932280"/>
            <a:ext cx="7129440" cy="1368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88000" y="290196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835280" y="3046320"/>
            <a:ext cx="223344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300720" y="2901960"/>
            <a:ext cx="12956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21520" y="53341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Sanomavälitysratkai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08000" y="4437000"/>
            <a:ext cx="1872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116000" y="4005360"/>
            <a:ext cx="6840720" cy="1224000"/>
            <a:chOff x="1116000" y="4005360"/>
            <a:chExt cx="6840720" cy="1224000"/>
          </a:xfrm>
        </p:grpSpPr>
        <p:grpSp>
          <p:nvGrpSpPr>
            <p:cNvPr id="754" name=""/>
            <p:cNvGrpSpPr/>
            <p:nvPr/>
          </p:nvGrpSpPr>
          <p:grpSpPr>
            <a:xfrm>
              <a:off x="1116000" y="4005360"/>
              <a:ext cx="6840720" cy="1224000"/>
              <a:chOff x="1116000" y="4005360"/>
              <a:chExt cx="6840720" cy="1224000"/>
            </a:xfrm>
          </p:grpSpPr>
          <p:sp>
            <p:nvSpPr>
              <p:cNvPr id="755" name=""/>
              <p:cNvSpPr/>
              <p:nvPr/>
            </p:nvSpPr>
            <p:spPr>
              <a:xfrm>
                <a:off x="1116000" y="4005360"/>
                <a:ext cx="6840720" cy="863640"/>
              </a:xfrm>
              <a:prstGeom prst="leftRightArrow">
                <a:avLst>
                  <a:gd name="adj1" fmla="val 65074"/>
                  <a:gd name="adj2" fmla="val 79795"/>
                </a:avLst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anomaväylä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924360" y="4581720"/>
                <a:ext cx="1224000" cy="647640"/>
              </a:xfrm>
              <a:prstGeom prst="rect">
                <a:avLst/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Sanoma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muokka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5292720" y="4581720"/>
              <a:ext cx="1224000" cy="647640"/>
            </a:xfrm>
            <a:prstGeom prst="rect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Sanoma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reitit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Integraatioratkaisun osat - Sovittim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2124000" y="4579920"/>
            <a:ext cx="1511280" cy="1512720"/>
            <a:chOff x="2124000" y="4579920"/>
            <a:chExt cx="1511280" cy="1512720"/>
          </a:xfrm>
        </p:grpSpPr>
        <p:sp>
          <p:nvSpPr>
            <p:cNvPr id="760" name=""/>
            <p:cNvSpPr/>
            <p:nvPr/>
          </p:nvSpPr>
          <p:spPr>
            <a:xfrm>
              <a:off x="2268360" y="4579920"/>
              <a:ext cx="1224000" cy="64764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Prosessi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ohja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2124000" y="5300640"/>
              <a:ext cx="1511280" cy="792000"/>
              <a:chOff x="2124000" y="5300640"/>
              <a:chExt cx="1511280" cy="792000"/>
            </a:xfrm>
          </p:grpSpPr>
          <p:sp>
            <p:nvSpPr>
              <p:cNvPr id="762" name=""/>
              <p:cNvSpPr/>
              <p:nvPr/>
            </p:nvSpPr>
            <p:spPr>
              <a:xfrm>
                <a:off x="2124000" y="5300640"/>
                <a:ext cx="1511280" cy="792000"/>
              </a:xfrm>
              <a:prstGeom prst="rect">
                <a:avLst/>
              </a:pr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Prosessie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mallinn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3" name=""/>
              <p:cNvGrpSpPr/>
              <p:nvPr/>
            </p:nvGrpSpPr>
            <p:grpSpPr>
              <a:xfrm>
                <a:off x="2266560" y="5375160"/>
                <a:ext cx="1168200" cy="214200"/>
                <a:chOff x="2266560" y="5375160"/>
                <a:chExt cx="1168200" cy="2142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22665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24789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69100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9037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1161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9" name=""/>
          <p:cNvSpPr/>
          <p:nvPr/>
        </p:nvSpPr>
        <p:spPr>
          <a:xfrm>
            <a:off x="2048040" y="6219720"/>
            <a:ext cx="16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rosessienhalli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79640" y="3549600"/>
            <a:ext cx="720720" cy="2160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03640" y="3549600"/>
            <a:ext cx="720720" cy="2160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92360" y="347832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ovellussovitti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003640" y="3048120"/>
            <a:ext cx="865440" cy="574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Portaa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442200" y="3048120"/>
            <a:ext cx="1009440" cy="574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Ulkoi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Liittym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04000" y="2109960"/>
            <a:ext cx="432000" cy="43308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227640" y="2109960"/>
            <a:ext cx="432000" cy="43308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380360" y="2108160"/>
            <a:ext cx="431640" cy="43344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150960" y="182232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Ulkoiset järjestelm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35640" y="3693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16720" y="2614680"/>
            <a:ext cx="21600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020000" y="261468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7235640" y="2614680"/>
            <a:ext cx="36036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5207040" y="2138400"/>
            <a:ext cx="706320" cy="9000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4211640" y="154296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siakkaat, Kumppan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yöntekij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948360" y="3693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593120" y="311796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619280" y="2629080"/>
            <a:ext cx="2665440" cy="576000"/>
            <a:chOff x="1619280" y="2629080"/>
            <a:chExt cx="2665440" cy="576000"/>
          </a:xfrm>
        </p:grpSpPr>
        <p:sp>
          <p:nvSpPr>
            <p:cNvPr id="788" name=""/>
            <p:cNvSpPr/>
            <p:nvPr/>
          </p:nvSpPr>
          <p:spPr>
            <a:xfrm>
              <a:off x="1619280" y="2629080"/>
              <a:ext cx="79236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56000" y="2629080"/>
              <a:ext cx="79236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92720" y="2629080"/>
              <a:ext cx="79200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824040" y="339264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A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137120" y="340668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orta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340000" y="3191040"/>
            <a:ext cx="7128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276720" y="3189240"/>
            <a:ext cx="2156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564000" y="3262320"/>
            <a:ext cx="287280" cy="21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64000" y="38368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411280" y="383868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Sovellussovittimet (Adapterit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vellusintegraation ’viimeinen maili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ojen siirto sovellukseen ja sen käyttämiin tietorakentei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ovellustason tapahtumien/muutosten havaitseminen ja niiden välittäminen sanomanvälityskerroks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vainasemassa kustannussääntöjen kannalta – poistaa tarpeen sovellusmuutoksista (tai ainakin minimoi muutostarpe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sein hankittava eriks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nkintamal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tse tehtyjä (muista myös ylläpitokustannu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ovellustoimittajan rakenta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ntegraatiotuotteen toimittajan rakenta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olmannen osapuolen rakenta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Adapterityypi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26720" y="1699920"/>
            <a:ext cx="4336920" cy="453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imiala-adapt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DI, RosettaNet, SWIFT, HL7,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ovellusadapt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AP, Siebel, PeopleSoft, eBS,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cy –adapt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CICS, 3270, 5250,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eknologia-adapt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COM, IIOP, RMI, WebServices,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ovarastoadapt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SAM, IMS, IDMS, DB2, Oracle,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18360" y="2421000"/>
            <a:ext cx="485640" cy="3313080"/>
          </a:xfrm>
          <a:prstGeom prst="upDownArrow">
            <a:avLst>
              <a:gd name="adj1" fmla="val 55556"/>
              <a:gd name="adj2" fmla="val 78454"/>
            </a:avLst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583600" y="5756400"/>
            <a:ext cx="18802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Ohuet” adapte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ei semanttista konteks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58240" y="1916280"/>
            <a:ext cx="23644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Rikkaat” adapte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semanttinen konteksti määritel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Adapteriarkkitehtuuri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AI-tuoteen omat adapteriarkkitehtuurit (tuotekohtaiset adapteri SDK:t/API: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ketti-tuotteen omat adapterit ja integraatioratkais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CA (Java Connector Architecture)-standar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äärittelee vakioidun rajapinnan (API) taustajärjestelmi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JCA-adapterit ovat käytettävissä kaikkien J2EE sovelluspalvelimien ja JCA:ta tukevien EAI tuotteiden kans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n Java-liittymä, vaatii palvelimeen J2EE-infrastruktuu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Yleisesti tuettu – vaatimus J2EE sertifioinnil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WebServices – rajapin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ahdollistaa kieli-, ja toteutusalusta-riippumattoman rajapinnan määrittelyn taustajärjestelmiin (protokollarajapin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i määrittele vakioitua liittymärajapintaa taustajärjestelmään – rajapinnat ovat sovelluskohtai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dapteri ei välttämättä kovinkaan hyvin siirrettävissä ympäristöstä toiseen (ei vakioitua toteutusmall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Java Connector Architecture (JCA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tandardi taustajärjestelmiin liittymiselle J2EE-ympäristös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nsimmäinen varsinainen adapteri-standar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168560" y="2997360"/>
            <a:ext cx="7092720" cy="3456000"/>
            <a:chOff x="1168560" y="2997360"/>
            <a:chExt cx="7092720" cy="3456000"/>
          </a:xfrm>
        </p:grpSpPr>
        <p:sp>
          <p:nvSpPr>
            <p:cNvPr id="810" name=""/>
            <p:cNvSpPr/>
            <p:nvPr/>
          </p:nvSpPr>
          <p:spPr>
            <a:xfrm>
              <a:off x="1168560" y="3357720"/>
              <a:ext cx="3332160" cy="2573280"/>
            </a:xfrm>
            <a:prstGeom prst="rect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000" spc="-1" strike="noStrike">
                  <a:solidFill>
                    <a:srgbClr val="ffffff"/>
                  </a:solidFill>
                  <a:latin typeface="Arial"/>
                </a:rPr>
                <a:t>Application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332000" y="3789360"/>
              <a:ext cx="1460520" cy="57636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95640" y="4437000"/>
              <a:ext cx="1460520" cy="57636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95480" y="5157720"/>
              <a:ext cx="1460520" cy="57636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96000" y="2997360"/>
              <a:ext cx="1944720" cy="914400"/>
            </a:xfrm>
            <a:prstGeom prst="ellipse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03840" y="4168800"/>
              <a:ext cx="2108160" cy="1060560"/>
            </a:xfrm>
            <a:prstGeom prst="rect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000" spc="-1" strike="noStrike">
                  <a:solidFill>
                    <a:srgbClr val="ffffff"/>
                  </a:solidFill>
                  <a:latin typeface="Arial"/>
                </a:rPr>
                <a:t>Resour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000" spc="-1" strike="noStrike">
                  <a:solidFill>
                    <a:srgbClr val="ffffff"/>
                  </a:solidFill>
                  <a:latin typeface="Arial"/>
                </a:rPr>
                <a:t>Adap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796000" y="5538960"/>
              <a:ext cx="1944720" cy="914400"/>
            </a:xfrm>
            <a:prstGeom prst="ellipse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E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572000" y="3500280"/>
              <a:ext cx="11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572000" y="4653000"/>
              <a:ext cx="11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732720" y="393372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732720" y="52293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59640" y="3716280"/>
              <a:ext cx="16016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mmon Client Interface (C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59640" y="5300640"/>
              <a:ext cx="16016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IS Specific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500720" y="3500280"/>
              <a:ext cx="13683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i-FI" sz="1200" spc="-1" strike="noStrike">
                  <a:solidFill>
                    <a:srgbClr val="000000"/>
                  </a:solidFill>
                  <a:latin typeface="Arial"/>
                </a:rPr>
                <a:t>Container-Compon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i-FI" sz="12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27640" y="4724280"/>
              <a:ext cx="13683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i-FI" sz="1200" spc="-1" strike="noStrike">
                  <a:solidFill>
                    <a:srgbClr val="000000"/>
                  </a:solidFill>
                  <a:latin typeface="Arial"/>
                </a:rPr>
                <a:t>System Con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-life cy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-work mng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-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-secu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-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M-data -konserni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0880" y="2060640"/>
            <a:ext cx="3238560" cy="410364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 marL="249120" indent="-249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 u="sng">
                <a:solidFill>
                  <a:srgbClr val="ffffff"/>
                </a:solidFill>
                <a:uFillTx/>
                <a:latin typeface="Arial"/>
              </a:rPr>
              <a:t>WM-data -kons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Pohjoismaiden toiseksi suurin tietotekniikan palveluta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602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Liikevaihto n. 880 milj. euro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602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Henkilöstön määrä n.  8 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 u="sng">
                <a:solidFill>
                  <a:srgbClr val="ffffff"/>
                </a:solidFill>
                <a:uFillTx/>
                <a:latin typeface="Arial"/>
              </a:rPr>
              <a:t>WM-data Suome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602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Liikevaihto n. 308 milj. euroa (n. 35 % konsernin liikevaihdos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602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Henkilöstön määrä n. 2 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447800" y="2205000"/>
            <a:ext cx="3941280" cy="3763800"/>
            <a:chOff x="4447800" y="2205000"/>
            <a:chExt cx="3941280" cy="3763800"/>
          </a:xfrm>
        </p:grpSpPr>
        <p:sp>
          <p:nvSpPr>
            <p:cNvPr id="101" name=""/>
            <p:cNvSpPr/>
            <p:nvPr/>
          </p:nvSpPr>
          <p:spPr>
            <a:xfrm>
              <a:off x="5319720" y="5468760"/>
              <a:ext cx="357120" cy="457200"/>
            </a:xfrm>
            <a:custGeom>
              <a:avLst/>
              <a:gdLst/>
              <a:ahLst/>
              <a:rect l="l" t="t" r="r" b="b"/>
              <a:pathLst>
                <a:path w="140" h="178">
                  <a:moveTo>
                    <a:pt x="22" y="165"/>
                  </a:moveTo>
                  <a:lnTo>
                    <a:pt x="30" y="165"/>
                  </a:lnTo>
                  <a:lnTo>
                    <a:pt x="39" y="174"/>
                  </a:lnTo>
                  <a:lnTo>
                    <a:pt x="56" y="174"/>
                  </a:lnTo>
                  <a:lnTo>
                    <a:pt x="56" y="178"/>
                  </a:lnTo>
                  <a:lnTo>
                    <a:pt x="51" y="178"/>
                  </a:lnTo>
                  <a:lnTo>
                    <a:pt x="60" y="174"/>
                  </a:lnTo>
                  <a:lnTo>
                    <a:pt x="68" y="174"/>
                  </a:lnTo>
                  <a:lnTo>
                    <a:pt x="60" y="165"/>
                  </a:lnTo>
                  <a:lnTo>
                    <a:pt x="51" y="157"/>
                  </a:lnTo>
                  <a:lnTo>
                    <a:pt x="60" y="148"/>
                  </a:lnTo>
                  <a:lnTo>
                    <a:pt x="68" y="148"/>
                  </a:lnTo>
                  <a:lnTo>
                    <a:pt x="60" y="140"/>
                  </a:lnTo>
                  <a:lnTo>
                    <a:pt x="60" y="131"/>
                  </a:lnTo>
                  <a:lnTo>
                    <a:pt x="68" y="131"/>
                  </a:lnTo>
                  <a:lnTo>
                    <a:pt x="68" y="127"/>
                  </a:lnTo>
                  <a:lnTo>
                    <a:pt x="68" y="119"/>
                  </a:lnTo>
                  <a:lnTo>
                    <a:pt x="77" y="119"/>
                  </a:lnTo>
                  <a:lnTo>
                    <a:pt x="85" y="110"/>
                  </a:lnTo>
                  <a:lnTo>
                    <a:pt x="94" y="110"/>
                  </a:lnTo>
                  <a:lnTo>
                    <a:pt x="94" y="102"/>
                  </a:lnTo>
                  <a:lnTo>
                    <a:pt x="111" y="93"/>
                  </a:lnTo>
                  <a:lnTo>
                    <a:pt x="115" y="76"/>
                  </a:lnTo>
                  <a:lnTo>
                    <a:pt x="111" y="72"/>
                  </a:lnTo>
                  <a:lnTo>
                    <a:pt x="115" y="64"/>
                  </a:lnTo>
                  <a:lnTo>
                    <a:pt x="123" y="64"/>
                  </a:lnTo>
                  <a:lnTo>
                    <a:pt x="123" y="72"/>
                  </a:lnTo>
                  <a:lnTo>
                    <a:pt x="132" y="72"/>
                  </a:lnTo>
                  <a:lnTo>
                    <a:pt x="140" y="64"/>
                  </a:lnTo>
                  <a:lnTo>
                    <a:pt x="140" y="55"/>
                  </a:lnTo>
                  <a:lnTo>
                    <a:pt x="140" y="47"/>
                  </a:lnTo>
                  <a:lnTo>
                    <a:pt x="132" y="38"/>
                  </a:lnTo>
                  <a:lnTo>
                    <a:pt x="123" y="38"/>
                  </a:lnTo>
                  <a:lnTo>
                    <a:pt x="115" y="38"/>
                  </a:lnTo>
                  <a:lnTo>
                    <a:pt x="115" y="30"/>
                  </a:lnTo>
                  <a:lnTo>
                    <a:pt x="111" y="30"/>
                  </a:lnTo>
                  <a:lnTo>
                    <a:pt x="111" y="21"/>
                  </a:lnTo>
                  <a:lnTo>
                    <a:pt x="115" y="17"/>
                  </a:lnTo>
                  <a:lnTo>
                    <a:pt x="123" y="17"/>
                  </a:lnTo>
                  <a:lnTo>
                    <a:pt x="115" y="9"/>
                  </a:lnTo>
                  <a:lnTo>
                    <a:pt x="115" y="0"/>
                  </a:lnTo>
                  <a:lnTo>
                    <a:pt x="111" y="0"/>
                  </a:lnTo>
                  <a:lnTo>
                    <a:pt x="102" y="0"/>
                  </a:lnTo>
                  <a:lnTo>
                    <a:pt x="102" y="9"/>
                  </a:lnTo>
                  <a:lnTo>
                    <a:pt x="85" y="9"/>
                  </a:lnTo>
                  <a:lnTo>
                    <a:pt x="77" y="9"/>
                  </a:lnTo>
                  <a:lnTo>
                    <a:pt x="68" y="17"/>
                  </a:lnTo>
                  <a:lnTo>
                    <a:pt x="77" y="21"/>
                  </a:lnTo>
                  <a:lnTo>
                    <a:pt x="77" y="30"/>
                  </a:lnTo>
                  <a:lnTo>
                    <a:pt x="77" y="38"/>
                  </a:lnTo>
                  <a:lnTo>
                    <a:pt x="77" y="30"/>
                  </a:lnTo>
                  <a:lnTo>
                    <a:pt x="68" y="21"/>
                  </a:lnTo>
                  <a:lnTo>
                    <a:pt x="60" y="30"/>
                  </a:lnTo>
                  <a:lnTo>
                    <a:pt x="60" y="21"/>
                  </a:lnTo>
                  <a:lnTo>
                    <a:pt x="60" y="17"/>
                  </a:lnTo>
                  <a:lnTo>
                    <a:pt x="51" y="17"/>
                  </a:lnTo>
                  <a:lnTo>
                    <a:pt x="47" y="21"/>
                  </a:lnTo>
                  <a:lnTo>
                    <a:pt x="47" y="30"/>
                  </a:lnTo>
                  <a:lnTo>
                    <a:pt x="39" y="30"/>
                  </a:lnTo>
                  <a:lnTo>
                    <a:pt x="39" y="38"/>
                  </a:lnTo>
                  <a:lnTo>
                    <a:pt x="39" y="30"/>
                  </a:lnTo>
                  <a:lnTo>
                    <a:pt x="30" y="21"/>
                  </a:lnTo>
                  <a:lnTo>
                    <a:pt x="22" y="21"/>
                  </a:lnTo>
                  <a:lnTo>
                    <a:pt x="22" y="17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5" y="30"/>
                  </a:lnTo>
                  <a:lnTo>
                    <a:pt x="5" y="38"/>
                  </a:lnTo>
                  <a:lnTo>
                    <a:pt x="5" y="55"/>
                  </a:lnTo>
                  <a:lnTo>
                    <a:pt x="5" y="64"/>
                  </a:lnTo>
                  <a:lnTo>
                    <a:pt x="5" y="72"/>
                  </a:lnTo>
                  <a:lnTo>
                    <a:pt x="5" y="76"/>
                  </a:lnTo>
                  <a:lnTo>
                    <a:pt x="5" y="85"/>
                  </a:lnTo>
                  <a:lnTo>
                    <a:pt x="5" y="93"/>
                  </a:lnTo>
                  <a:lnTo>
                    <a:pt x="0" y="102"/>
                  </a:lnTo>
                  <a:lnTo>
                    <a:pt x="5" y="110"/>
                  </a:lnTo>
                  <a:lnTo>
                    <a:pt x="13" y="110"/>
                  </a:lnTo>
                  <a:lnTo>
                    <a:pt x="13" y="119"/>
                  </a:lnTo>
                  <a:lnTo>
                    <a:pt x="22" y="127"/>
                  </a:lnTo>
                  <a:lnTo>
                    <a:pt x="22" y="131"/>
                  </a:lnTo>
                  <a:lnTo>
                    <a:pt x="22" y="140"/>
                  </a:lnTo>
                  <a:lnTo>
                    <a:pt x="22" y="157"/>
                  </a:lnTo>
                  <a:lnTo>
                    <a:pt x="22" y="165"/>
                  </a:lnTo>
                  <a:lnTo>
                    <a:pt x="22" y="174"/>
                  </a:lnTo>
                  <a:lnTo>
                    <a:pt x="22" y="16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19720" y="5359320"/>
              <a:ext cx="324000" cy="206280"/>
            </a:xfrm>
            <a:custGeom>
              <a:avLst/>
              <a:gdLst/>
              <a:ahLst/>
              <a:rect l="l" t="t" r="r" b="b"/>
              <a:pathLst>
                <a:path w="127" h="81">
                  <a:moveTo>
                    <a:pt x="9" y="81"/>
                  </a:moveTo>
                  <a:lnTo>
                    <a:pt x="9" y="72"/>
                  </a:lnTo>
                  <a:lnTo>
                    <a:pt x="9" y="64"/>
                  </a:lnTo>
                  <a:lnTo>
                    <a:pt x="17" y="55"/>
                  </a:lnTo>
                  <a:lnTo>
                    <a:pt x="21" y="55"/>
                  </a:lnTo>
                  <a:lnTo>
                    <a:pt x="34" y="55"/>
                  </a:lnTo>
                  <a:lnTo>
                    <a:pt x="38" y="55"/>
                  </a:lnTo>
                  <a:lnTo>
                    <a:pt x="47" y="55"/>
                  </a:lnTo>
                  <a:lnTo>
                    <a:pt x="55" y="55"/>
                  </a:lnTo>
                  <a:lnTo>
                    <a:pt x="64" y="47"/>
                  </a:lnTo>
                  <a:lnTo>
                    <a:pt x="72" y="47"/>
                  </a:lnTo>
                  <a:lnTo>
                    <a:pt x="85" y="47"/>
                  </a:lnTo>
                  <a:lnTo>
                    <a:pt x="98" y="55"/>
                  </a:lnTo>
                  <a:lnTo>
                    <a:pt x="102" y="64"/>
                  </a:lnTo>
                  <a:lnTo>
                    <a:pt x="102" y="55"/>
                  </a:lnTo>
                  <a:lnTo>
                    <a:pt x="110" y="47"/>
                  </a:lnTo>
                  <a:lnTo>
                    <a:pt x="119" y="38"/>
                  </a:lnTo>
                  <a:lnTo>
                    <a:pt x="119" y="26"/>
                  </a:lnTo>
                  <a:lnTo>
                    <a:pt x="110" y="26"/>
                  </a:lnTo>
                  <a:lnTo>
                    <a:pt x="110" y="17"/>
                  </a:lnTo>
                  <a:lnTo>
                    <a:pt x="119" y="9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0" y="9"/>
                  </a:lnTo>
                  <a:lnTo>
                    <a:pt x="102" y="9"/>
                  </a:lnTo>
                  <a:lnTo>
                    <a:pt x="98" y="9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2" y="26"/>
                  </a:lnTo>
                  <a:lnTo>
                    <a:pt x="64" y="34"/>
                  </a:lnTo>
                  <a:lnTo>
                    <a:pt x="64" y="38"/>
                  </a:lnTo>
                  <a:lnTo>
                    <a:pt x="55" y="47"/>
                  </a:lnTo>
                  <a:lnTo>
                    <a:pt x="47" y="47"/>
                  </a:lnTo>
                  <a:lnTo>
                    <a:pt x="38" y="47"/>
                  </a:lnTo>
                  <a:lnTo>
                    <a:pt x="17" y="47"/>
                  </a:lnTo>
                  <a:lnTo>
                    <a:pt x="9" y="47"/>
                  </a:lnTo>
                  <a:lnTo>
                    <a:pt x="0" y="55"/>
                  </a:lnTo>
                  <a:lnTo>
                    <a:pt x="0" y="64"/>
                  </a:lnTo>
                  <a:lnTo>
                    <a:pt x="9" y="8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32400" y="5848200"/>
              <a:ext cx="111240" cy="9684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3" y="38"/>
                  </a:moveTo>
                  <a:lnTo>
                    <a:pt x="30" y="38"/>
                  </a:lnTo>
                  <a:lnTo>
                    <a:pt x="17" y="38"/>
                  </a:lnTo>
                  <a:lnTo>
                    <a:pt x="17" y="30"/>
                  </a:lnTo>
                  <a:lnTo>
                    <a:pt x="0" y="30"/>
                  </a:lnTo>
                  <a:lnTo>
                    <a:pt x="0" y="13"/>
                  </a:ln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  <a:lnTo>
                    <a:pt x="26" y="0"/>
                  </a:lnTo>
                  <a:lnTo>
                    <a:pt x="30" y="8"/>
                  </a:lnTo>
                  <a:lnTo>
                    <a:pt x="43" y="8"/>
                  </a:lnTo>
                  <a:lnTo>
                    <a:pt x="43" y="13"/>
                  </a:lnTo>
                  <a:lnTo>
                    <a:pt x="43" y="21"/>
                  </a:lnTo>
                  <a:lnTo>
                    <a:pt x="43" y="30"/>
                  </a:lnTo>
                  <a:lnTo>
                    <a:pt x="43" y="38"/>
                  </a:lnTo>
                  <a:lnTo>
                    <a:pt x="30" y="38"/>
                  </a:lnTo>
                  <a:lnTo>
                    <a:pt x="43" y="3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92880" y="5456160"/>
              <a:ext cx="110880" cy="9684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3" y="38"/>
                  </a:moveTo>
                  <a:lnTo>
                    <a:pt x="30" y="38"/>
                  </a:lnTo>
                  <a:lnTo>
                    <a:pt x="17" y="38"/>
                  </a:lnTo>
                  <a:lnTo>
                    <a:pt x="17" y="30"/>
                  </a:lnTo>
                  <a:lnTo>
                    <a:pt x="0" y="30"/>
                  </a:lnTo>
                  <a:lnTo>
                    <a:pt x="0" y="13"/>
                  </a:ln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  <a:lnTo>
                    <a:pt x="26" y="0"/>
                  </a:lnTo>
                  <a:lnTo>
                    <a:pt x="30" y="8"/>
                  </a:lnTo>
                  <a:lnTo>
                    <a:pt x="43" y="8"/>
                  </a:lnTo>
                  <a:lnTo>
                    <a:pt x="43" y="13"/>
                  </a:lnTo>
                  <a:lnTo>
                    <a:pt x="43" y="21"/>
                  </a:lnTo>
                  <a:lnTo>
                    <a:pt x="43" y="30"/>
                  </a:lnTo>
                  <a:lnTo>
                    <a:pt x="43" y="38"/>
                  </a:lnTo>
                  <a:lnTo>
                    <a:pt x="30" y="38"/>
                  </a:lnTo>
                  <a:lnTo>
                    <a:pt x="43" y="3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91160" y="5719680"/>
              <a:ext cx="206280" cy="24912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42" y="97"/>
                  </a:moveTo>
                  <a:lnTo>
                    <a:pt x="25" y="89"/>
                  </a:lnTo>
                  <a:lnTo>
                    <a:pt x="34" y="89"/>
                  </a:lnTo>
                  <a:lnTo>
                    <a:pt x="34" y="80"/>
                  </a:lnTo>
                  <a:lnTo>
                    <a:pt x="25" y="80"/>
                  </a:lnTo>
                  <a:lnTo>
                    <a:pt x="9" y="80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9" y="55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9" y="34"/>
                  </a:lnTo>
                  <a:lnTo>
                    <a:pt x="17" y="34"/>
                  </a:lnTo>
                  <a:lnTo>
                    <a:pt x="25" y="25"/>
                  </a:lnTo>
                  <a:lnTo>
                    <a:pt x="25" y="17"/>
                  </a:lnTo>
                  <a:lnTo>
                    <a:pt x="34" y="17"/>
                  </a:lnTo>
                  <a:lnTo>
                    <a:pt x="34" y="25"/>
                  </a:lnTo>
                  <a:lnTo>
                    <a:pt x="25" y="34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2" y="34"/>
                  </a:lnTo>
                  <a:lnTo>
                    <a:pt x="42" y="25"/>
                  </a:lnTo>
                  <a:lnTo>
                    <a:pt x="51" y="25"/>
                  </a:lnTo>
                  <a:lnTo>
                    <a:pt x="59" y="25"/>
                  </a:lnTo>
                  <a:lnTo>
                    <a:pt x="64" y="17"/>
                  </a:lnTo>
                  <a:lnTo>
                    <a:pt x="59" y="8"/>
                  </a:lnTo>
                  <a:lnTo>
                    <a:pt x="51" y="8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72" y="8"/>
                  </a:lnTo>
                  <a:lnTo>
                    <a:pt x="81" y="8"/>
                  </a:lnTo>
                  <a:lnTo>
                    <a:pt x="72" y="17"/>
                  </a:lnTo>
                  <a:lnTo>
                    <a:pt x="81" y="34"/>
                  </a:lnTo>
                  <a:lnTo>
                    <a:pt x="72" y="42"/>
                  </a:lnTo>
                  <a:lnTo>
                    <a:pt x="59" y="55"/>
                  </a:lnTo>
                  <a:lnTo>
                    <a:pt x="64" y="63"/>
                  </a:lnTo>
                  <a:lnTo>
                    <a:pt x="59" y="80"/>
                  </a:lnTo>
                  <a:lnTo>
                    <a:pt x="51" y="80"/>
                  </a:lnTo>
                  <a:lnTo>
                    <a:pt x="42" y="89"/>
                  </a:lnTo>
                  <a:lnTo>
                    <a:pt x="51" y="97"/>
                  </a:lnTo>
                  <a:lnTo>
                    <a:pt x="42" y="9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70640" y="5638680"/>
              <a:ext cx="83880" cy="666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25" y="26"/>
                  </a:moveTo>
                  <a:lnTo>
                    <a:pt x="17" y="26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33" y="17"/>
                  </a:lnTo>
                  <a:lnTo>
                    <a:pt x="33" y="26"/>
                  </a:lnTo>
                  <a:lnTo>
                    <a:pt x="25" y="2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78640" y="5638680"/>
              <a:ext cx="42840" cy="666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7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7" y="9"/>
                  </a:lnTo>
                  <a:lnTo>
                    <a:pt x="17" y="17"/>
                  </a:lnTo>
                  <a:lnTo>
                    <a:pt x="8" y="17"/>
                  </a:lnTo>
                  <a:lnTo>
                    <a:pt x="8" y="2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00000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78640" y="5638680"/>
              <a:ext cx="42840" cy="666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7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7" y="9"/>
                  </a:lnTo>
                  <a:lnTo>
                    <a:pt x="17" y="17"/>
                  </a:lnTo>
                  <a:lnTo>
                    <a:pt x="8" y="17"/>
                  </a:lnTo>
                  <a:lnTo>
                    <a:pt x="8" y="26"/>
                  </a:lnTo>
                  <a:lnTo>
                    <a:pt x="0" y="17"/>
                  </a:lnTo>
                </a:path>
              </a:pathLst>
            </a:custGeom>
            <a:solidFill>
              <a:srgbClr val="4c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89720" y="2747880"/>
              <a:ext cx="106200" cy="11736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8" y="46"/>
                  </a:moveTo>
                  <a:lnTo>
                    <a:pt x="17" y="38"/>
                  </a:lnTo>
                  <a:lnTo>
                    <a:pt x="17" y="29"/>
                  </a:lnTo>
                  <a:lnTo>
                    <a:pt x="25" y="29"/>
                  </a:lnTo>
                  <a:lnTo>
                    <a:pt x="34" y="29"/>
                  </a:lnTo>
                  <a:lnTo>
                    <a:pt x="42" y="8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8" y="8"/>
                  </a:lnTo>
                  <a:lnTo>
                    <a:pt x="8" y="17"/>
                  </a:lnTo>
                  <a:lnTo>
                    <a:pt x="8" y="21"/>
                  </a:lnTo>
                  <a:lnTo>
                    <a:pt x="0" y="29"/>
                  </a:lnTo>
                  <a:lnTo>
                    <a:pt x="8" y="38"/>
                  </a:lnTo>
                  <a:lnTo>
                    <a:pt x="8" y="46"/>
                  </a:lnTo>
                  <a:close/>
                </a:path>
              </a:pathLst>
            </a:custGeom>
            <a:solidFill>
              <a:srgbClr val="b00000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37120" y="2205000"/>
              <a:ext cx="2565360" cy="2755800"/>
            </a:xfrm>
            <a:custGeom>
              <a:avLst/>
              <a:gdLst/>
              <a:ahLst/>
              <a:rect l="l" t="t" r="r" b="b"/>
              <a:pathLst>
                <a:path w="1004" h="1076">
                  <a:moveTo>
                    <a:pt x="275" y="1008"/>
                  </a:moveTo>
                  <a:lnTo>
                    <a:pt x="284" y="1008"/>
                  </a:lnTo>
                  <a:lnTo>
                    <a:pt x="284" y="1013"/>
                  </a:lnTo>
                  <a:lnTo>
                    <a:pt x="292" y="1021"/>
                  </a:lnTo>
                  <a:lnTo>
                    <a:pt x="301" y="1013"/>
                  </a:lnTo>
                  <a:lnTo>
                    <a:pt x="301" y="1008"/>
                  </a:lnTo>
                  <a:lnTo>
                    <a:pt x="301" y="996"/>
                  </a:lnTo>
                  <a:lnTo>
                    <a:pt x="292" y="991"/>
                  </a:lnTo>
                  <a:lnTo>
                    <a:pt x="309" y="975"/>
                  </a:lnTo>
                  <a:lnTo>
                    <a:pt x="309" y="966"/>
                  </a:lnTo>
                  <a:lnTo>
                    <a:pt x="318" y="958"/>
                  </a:lnTo>
                  <a:lnTo>
                    <a:pt x="318" y="949"/>
                  </a:lnTo>
                  <a:lnTo>
                    <a:pt x="326" y="945"/>
                  </a:lnTo>
                  <a:lnTo>
                    <a:pt x="330" y="945"/>
                  </a:lnTo>
                  <a:lnTo>
                    <a:pt x="339" y="945"/>
                  </a:lnTo>
                  <a:lnTo>
                    <a:pt x="347" y="919"/>
                  </a:lnTo>
                  <a:lnTo>
                    <a:pt x="347" y="894"/>
                  </a:lnTo>
                  <a:lnTo>
                    <a:pt x="347" y="890"/>
                  </a:lnTo>
                  <a:lnTo>
                    <a:pt x="347" y="881"/>
                  </a:lnTo>
                  <a:lnTo>
                    <a:pt x="339" y="864"/>
                  </a:lnTo>
                  <a:lnTo>
                    <a:pt x="339" y="856"/>
                  </a:lnTo>
                  <a:lnTo>
                    <a:pt x="364" y="839"/>
                  </a:lnTo>
                  <a:lnTo>
                    <a:pt x="364" y="830"/>
                  </a:lnTo>
                  <a:lnTo>
                    <a:pt x="364" y="818"/>
                  </a:lnTo>
                  <a:lnTo>
                    <a:pt x="364" y="809"/>
                  </a:lnTo>
                  <a:lnTo>
                    <a:pt x="356" y="801"/>
                  </a:lnTo>
                  <a:lnTo>
                    <a:pt x="347" y="792"/>
                  </a:lnTo>
                  <a:lnTo>
                    <a:pt x="347" y="784"/>
                  </a:lnTo>
                  <a:lnTo>
                    <a:pt x="347" y="780"/>
                  </a:lnTo>
                  <a:lnTo>
                    <a:pt x="356" y="763"/>
                  </a:lnTo>
                  <a:lnTo>
                    <a:pt x="356" y="754"/>
                  </a:lnTo>
                  <a:lnTo>
                    <a:pt x="356" y="737"/>
                  </a:lnTo>
                  <a:lnTo>
                    <a:pt x="347" y="729"/>
                  </a:lnTo>
                  <a:lnTo>
                    <a:pt x="347" y="725"/>
                  </a:lnTo>
                  <a:lnTo>
                    <a:pt x="347" y="708"/>
                  </a:lnTo>
                  <a:lnTo>
                    <a:pt x="356" y="699"/>
                  </a:lnTo>
                  <a:lnTo>
                    <a:pt x="356" y="682"/>
                  </a:lnTo>
                  <a:lnTo>
                    <a:pt x="356" y="669"/>
                  </a:lnTo>
                  <a:lnTo>
                    <a:pt x="356" y="652"/>
                  </a:lnTo>
                  <a:lnTo>
                    <a:pt x="364" y="636"/>
                  </a:lnTo>
                  <a:lnTo>
                    <a:pt x="373" y="627"/>
                  </a:lnTo>
                  <a:lnTo>
                    <a:pt x="390" y="619"/>
                  </a:lnTo>
                  <a:lnTo>
                    <a:pt x="390" y="627"/>
                  </a:lnTo>
                  <a:lnTo>
                    <a:pt x="394" y="627"/>
                  </a:lnTo>
                  <a:lnTo>
                    <a:pt x="402" y="619"/>
                  </a:lnTo>
                  <a:lnTo>
                    <a:pt x="411" y="614"/>
                  </a:lnTo>
                  <a:lnTo>
                    <a:pt x="419" y="614"/>
                  </a:lnTo>
                  <a:lnTo>
                    <a:pt x="436" y="614"/>
                  </a:lnTo>
                  <a:lnTo>
                    <a:pt x="445" y="606"/>
                  </a:lnTo>
                  <a:lnTo>
                    <a:pt x="436" y="589"/>
                  </a:lnTo>
                  <a:lnTo>
                    <a:pt x="436" y="580"/>
                  </a:lnTo>
                  <a:lnTo>
                    <a:pt x="436" y="572"/>
                  </a:lnTo>
                  <a:lnTo>
                    <a:pt x="428" y="559"/>
                  </a:lnTo>
                  <a:lnTo>
                    <a:pt x="436" y="551"/>
                  </a:lnTo>
                  <a:lnTo>
                    <a:pt x="449" y="542"/>
                  </a:lnTo>
                  <a:lnTo>
                    <a:pt x="449" y="534"/>
                  </a:lnTo>
                  <a:lnTo>
                    <a:pt x="458" y="508"/>
                  </a:lnTo>
                  <a:lnTo>
                    <a:pt x="458" y="504"/>
                  </a:lnTo>
                  <a:lnTo>
                    <a:pt x="458" y="496"/>
                  </a:lnTo>
                  <a:lnTo>
                    <a:pt x="458" y="479"/>
                  </a:lnTo>
                  <a:lnTo>
                    <a:pt x="466" y="470"/>
                  </a:lnTo>
                  <a:lnTo>
                    <a:pt x="474" y="453"/>
                  </a:lnTo>
                  <a:lnTo>
                    <a:pt x="474" y="441"/>
                  </a:lnTo>
                  <a:lnTo>
                    <a:pt x="491" y="432"/>
                  </a:lnTo>
                  <a:lnTo>
                    <a:pt x="504" y="424"/>
                  </a:lnTo>
                  <a:lnTo>
                    <a:pt x="513" y="415"/>
                  </a:lnTo>
                  <a:lnTo>
                    <a:pt x="513" y="407"/>
                  </a:lnTo>
                  <a:lnTo>
                    <a:pt x="513" y="394"/>
                  </a:lnTo>
                  <a:lnTo>
                    <a:pt x="530" y="386"/>
                  </a:lnTo>
                  <a:lnTo>
                    <a:pt x="547" y="369"/>
                  </a:lnTo>
                  <a:lnTo>
                    <a:pt x="547" y="360"/>
                  </a:lnTo>
                  <a:lnTo>
                    <a:pt x="555" y="352"/>
                  </a:lnTo>
                  <a:lnTo>
                    <a:pt x="547" y="339"/>
                  </a:lnTo>
                  <a:lnTo>
                    <a:pt x="538" y="330"/>
                  </a:lnTo>
                  <a:lnTo>
                    <a:pt x="547" y="322"/>
                  </a:lnTo>
                  <a:lnTo>
                    <a:pt x="555" y="313"/>
                  </a:lnTo>
                  <a:lnTo>
                    <a:pt x="576" y="297"/>
                  </a:lnTo>
                  <a:lnTo>
                    <a:pt x="576" y="288"/>
                  </a:lnTo>
                  <a:lnTo>
                    <a:pt x="585" y="275"/>
                  </a:lnTo>
                  <a:lnTo>
                    <a:pt x="593" y="275"/>
                  </a:lnTo>
                  <a:lnTo>
                    <a:pt x="610" y="280"/>
                  </a:lnTo>
                  <a:lnTo>
                    <a:pt x="619" y="280"/>
                  </a:lnTo>
                  <a:lnTo>
                    <a:pt x="619" y="275"/>
                  </a:lnTo>
                  <a:lnTo>
                    <a:pt x="619" y="258"/>
                  </a:lnTo>
                  <a:lnTo>
                    <a:pt x="631" y="250"/>
                  </a:lnTo>
                  <a:lnTo>
                    <a:pt x="640" y="258"/>
                  </a:lnTo>
                  <a:lnTo>
                    <a:pt x="648" y="258"/>
                  </a:lnTo>
                  <a:lnTo>
                    <a:pt x="648" y="250"/>
                  </a:lnTo>
                  <a:lnTo>
                    <a:pt x="657" y="225"/>
                  </a:lnTo>
                  <a:lnTo>
                    <a:pt x="674" y="233"/>
                  </a:lnTo>
                  <a:lnTo>
                    <a:pt x="674" y="225"/>
                  </a:lnTo>
                  <a:lnTo>
                    <a:pt x="674" y="212"/>
                  </a:lnTo>
                  <a:lnTo>
                    <a:pt x="674" y="203"/>
                  </a:lnTo>
                  <a:lnTo>
                    <a:pt x="686" y="203"/>
                  </a:lnTo>
                  <a:lnTo>
                    <a:pt x="686" y="186"/>
                  </a:lnTo>
                  <a:lnTo>
                    <a:pt x="695" y="174"/>
                  </a:lnTo>
                  <a:lnTo>
                    <a:pt x="703" y="174"/>
                  </a:lnTo>
                  <a:lnTo>
                    <a:pt x="712" y="178"/>
                  </a:lnTo>
                  <a:lnTo>
                    <a:pt x="729" y="186"/>
                  </a:lnTo>
                  <a:lnTo>
                    <a:pt x="729" y="195"/>
                  </a:lnTo>
                  <a:lnTo>
                    <a:pt x="737" y="212"/>
                  </a:lnTo>
                  <a:lnTo>
                    <a:pt x="741" y="212"/>
                  </a:lnTo>
                  <a:lnTo>
                    <a:pt x="750" y="212"/>
                  </a:lnTo>
                  <a:lnTo>
                    <a:pt x="758" y="220"/>
                  </a:lnTo>
                  <a:lnTo>
                    <a:pt x="784" y="220"/>
                  </a:lnTo>
                  <a:lnTo>
                    <a:pt x="792" y="212"/>
                  </a:lnTo>
                  <a:lnTo>
                    <a:pt x="796" y="212"/>
                  </a:lnTo>
                  <a:lnTo>
                    <a:pt x="805" y="225"/>
                  </a:lnTo>
                  <a:lnTo>
                    <a:pt x="822" y="220"/>
                  </a:lnTo>
                  <a:lnTo>
                    <a:pt x="830" y="220"/>
                  </a:lnTo>
                  <a:lnTo>
                    <a:pt x="830" y="212"/>
                  </a:lnTo>
                  <a:lnTo>
                    <a:pt x="839" y="195"/>
                  </a:lnTo>
                  <a:lnTo>
                    <a:pt x="847" y="186"/>
                  </a:lnTo>
                  <a:lnTo>
                    <a:pt x="847" y="178"/>
                  </a:lnTo>
                  <a:lnTo>
                    <a:pt x="847" y="174"/>
                  </a:lnTo>
                  <a:lnTo>
                    <a:pt x="847" y="165"/>
                  </a:lnTo>
                  <a:lnTo>
                    <a:pt x="852" y="148"/>
                  </a:lnTo>
                  <a:lnTo>
                    <a:pt x="852" y="119"/>
                  </a:lnTo>
                  <a:lnTo>
                    <a:pt x="860" y="110"/>
                  </a:lnTo>
                  <a:lnTo>
                    <a:pt x="877" y="110"/>
                  </a:lnTo>
                  <a:lnTo>
                    <a:pt x="894" y="102"/>
                  </a:lnTo>
                  <a:lnTo>
                    <a:pt x="902" y="93"/>
                  </a:lnTo>
                  <a:lnTo>
                    <a:pt x="911" y="93"/>
                  </a:lnTo>
                  <a:lnTo>
                    <a:pt x="902" y="110"/>
                  </a:lnTo>
                  <a:lnTo>
                    <a:pt x="924" y="119"/>
                  </a:lnTo>
                  <a:lnTo>
                    <a:pt x="932" y="119"/>
                  </a:lnTo>
                  <a:lnTo>
                    <a:pt x="941" y="123"/>
                  </a:lnTo>
                  <a:lnTo>
                    <a:pt x="949" y="131"/>
                  </a:lnTo>
                  <a:lnTo>
                    <a:pt x="949" y="140"/>
                  </a:lnTo>
                  <a:lnTo>
                    <a:pt x="941" y="148"/>
                  </a:lnTo>
                  <a:lnTo>
                    <a:pt x="941" y="165"/>
                  </a:lnTo>
                  <a:lnTo>
                    <a:pt x="941" y="174"/>
                  </a:lnTo>
                  <a:lnTo>
                    <a:pt x="941" y="178"/>
                  </a:lnTo>
                  <a:lnTo>
                    <a:pt x="941" y="186"/>
                  </a:lnTo>
                  <a:lnTo>
                    <a:pt x="949" y="186"/>
                  </a:lnTo>
                  <a:lnTo>
                    <a:pt x="949" y="186"/>
                  </a:lnTo>
                  <a:lnTo>
                    <a:pt x="953" y="161"/>
                  </a:lnTo>
                  <a:lnTo>
                    <a:pt x="962" y="140"/>
                  </a:lnTo>
                  <a:lnTo>
                    <a:pt x="979" y="131"/>
                  </a:lnTo>
                  <a:lnTo>
                    <a:pt x="1000" y="127"/>
                  </a:lnTo>
                  <a:lnTo>
                    <a:pt x="1004" y="102"/>
                  </a:lnTo>
                  <a:lnTo>
                    <a:pt x="1004" y="102"/>
                  </a:lnTo>
                  <a:lnTo>
                    <a:pt x="987" y="102"/>
                  </a:lnTo>
                  <a:lnTo>
                    <a:pt x="979" y="102"/>
                  </a:lnTo>
                  <a:lnTo>
                    <a:pt x="987" y="93"/>
                  </a:lnTo>
                  <a:lnTo>
                    <a:pt x="987" y="76"/>
                  </a:lnTo>
                  <a:lnTo>
                    <a:pt x="979" y="68"/>
                  </a:lnTo>
                  <a:lnTo>
                    <a:pt x="987" y="68"/>
                  </a:lnTo>
                  <a:lnTo>
                    <a:pt x="996" y="64"/>
                  </a:lnTo>
                  <a:lnTo>
                    <a:pt x="996" y="55"/>
                  </a:lnTo>
                  <a:lnTo>
                    <a:pt x="996" y="47"/>
                  </a:lnTo>
                  <a:lnTo>
                    <a:pt x="987" y="47"/>
                  </a:lnTo>
                  <a:lnTo>
                    <a:pt x="987" y="38"/>
                  </a:lnTo>
                  <a:lnTo>
                    <a:pt x="970" y="38"/>
                  </a:lnTo>
                  <a:lnTo>
                    <a:pt x="957" y="47"/>
                  </a:lnTo>
                  <a:lnTo>
                    <a:pt x="957" y="30"/>
                  </a:lnTo>
                  <a:lnTo>
                    <a:pt x="941" y="30"/>
                  </a:lnTo>
                  <a:lnTo>
                    <a:pt x="932" y="21"/>
                  </a:lnTo>
                  <a:lnTo>
                    <a:pt x="915" y="38"/>
                  </a:lnTo>
                  <a:lnTo>
                    <a:pt x="915" y="47"/>
                  </a:lnTo>
                  <a:lnTo>
                    <a:pt x="911" y="55"/>
                  </a:lnTo>
                  <a:lnTo>
                    <a:pt x="902" y="38"/>
                  </a:lnTo>
                  <a:lnTo>
                    <a:pt x="902" y="30"/>
                  </a:lnTo>
                  <a:lnTo>
                    <a:pt x="911" y="21"/>
                  </a:lnTo>
                  <a:lnTo>
                    <a:pt x="911" y="13"/>
                  </a:lnTo>
                  <a:lnTo>
                    <a:pt x="911" y="0"/>
                  </a:lnTo>
                  <a:lnTo>
                    <a:pt x="902" y="0"/>
                  </a:lnTo>
                  <a:lnTo>
                    <a:pt x="885" y="13"/>
                  </a:lnTo>
                  <a:lnTo>
                    <a:pt x="885" y="21"/>
                  </a:lnTo>
                  <a:lnTo>
                    <a:pt x="869" y="30"/>
                  </a:lnTo>
                  <a:lnTo>
                    <a:pt x="869" y="55"/>
                  </a:lnTo>
                  <a:lnTo>
                    <a:pt x="869" y="64"/>
                  </a:lnTo>
                  <a:lnTo>
                    <a:pt x="860" y="55"/>
                  </a:lnTo>
                  <a:lnTo>
                    <a:pt x="860" y="47"/>
                  </a:lnTo>
                  <a:lnTo>
                    <a:pt x="852" y="38"/>
                  </a:lnTo>
                  <a:lnTo>
                    <a:pt x="852" y="30"/>
                  </a:lnTo>
                  <a:lnTo>
                    <a:pt x="852" y="21"/>
                  </a:lnTo>
                  <a:lnTo>
                    <a:pt x="852" y="13"/>
                  </a:lnTo>
                  <a:lnTo>
                    <a:pt x="847" y="13"/>
                  </a:lnTo>
                  <a:lnTo>
                    <a:pt x="847" y="21"/>
                  </a:lnTo>
                  <a:lnTo>
                    <a:pt x="847" y="30"/>
                  </a:lnTo>
                  <a:lnTo>
                    <a:pt x="839" y="47"/>
                  </a:lnTo>
                  <a:lnTo>
                    <a:pt x="830" y="64"/>
                  </a:lnTo>
                  <a:lnTo>
                    <a:pt x="822" y="76"/>
                  </a:lnTo>
                  <a:lnTo>
                    <a:pt x="822" y="68"/>
                  </a:lnTo>
                  <a:lnTo>
                    <a:pt x="822" y="64"/>
                  </a:lnTo>
                  <a:lnTo>
                    <a:pt x="822" y="47"/>
                  </a:lnTo>
                  <a:lnTo>
                    <a:pt x="839" y="38"/>
                  </a:lnTo>
                  <a:lnTo>
                    <a:pt x="839" y="30"/>
                  </a:lnTo>
                  <a:lnTo>
                    <a:pt x="847" y="13"/>
                  </a:lnTo>
                  <a:lnTo>
                    <a:pt x="852" y="8"/>
                  </a:lnTo>
                  <a:lnTo>
                    <a:pt x="847" y="0"/>
                  </a:lnTo>
                  <a:lnTo>
                    <a:pt x="822" y="13"/>
                  </a:lnTo>
                  <a:lnTo>
                    <a:pt x="813" y="8"/>
                  </a:lnTo>
                  <a:lnTo>
                    <a:pt x="805" y="13"/>
                  </a:lnTo>
                  <a:lnTo>
                    <a:pt x="805" y="21"/>
                  </a:lnTo>
                  <a:lnTo>
                    <a:pt x="822" y="30"/>
                  </a:lnTo>
                  <a:lnTo>
                    <a:pt x="796" y="38"/>
                  </a:lnTo>
                  <a:lnTo>
                    <a:pt x="788" y="30"/>
                  </a:lnTo>
                  <a:lnTo>
                    <a:pt x="784" y="38"/>
                  </a:lnTo>
                  <a:lnTo>
                    <a:pt x="784" y="55"/>
                  </a:lnTo>
                  <a:lnTo>
                    <a:pt x="775" y="55"/>
                  </a:lnTo>
                  <a:lnTo>
                    <a:pt x="784" y="64"/>
                  </a:lnTo>
                  <a:lnTo>
                    <a:pt x="767" y="76"/>
                  </a:lnTo>
                  <a:lnTo>
                    <a:pt x="758" y="64"/>
                  </a:lnTo>
                  <a:lnTo>
                    <a:pt x="750" y="68"/>
                  </a:lnTo>
                  <a:lnTo>
                    <a:pt x="750" y="76"/>
                  </a:lnTo>
                  <a:lnTo>
                    <a:pt x="750" y="85"/>
                  </a:lnTo>
                  <a:lnTo>
                    <a:pt x="741" y="93"/>
                  </a:lnTo>
                  <a:lnTo>
                    <a:pt x="733" y="85"/>
                  </a:lnTo>
                  <a:lnTo>
                    <a:pt x="729" y="85"/>
                  </a:lnTo>
                  <a:lnTo>
                    <a:pt x="729" y="93"/>
                  </a:lnTo>
                  <a:lnTo>
                    <a:pt x="720" y="85"/>
                  </a:lnTo>
                  <a:lnTo>
                    <a:pt x="712" y="85"/>
                  </a:lnTo>
                  <a:lnTo>
                    <a:pt x="703" y="93"/>
                  </a:lnTo>
                  <a:lnTo>
                    <a:pt x="703" y="102"/>
                  </a:lnTo>
                  <a:lnTo>
                    <a:pt x="695" y="102"/>
                  </a:lnTo>
                  <a:lnTo>
                    <a:pt x="686" y="110"/>
                  </a:lnTo>
                  <a:lnTo>
                    <a:pt x="686" y="123"/>
                  </a:lnTo>
                  <a:lnTo>
                    <a:pt x="695" y="131"/>
                  </a:lnTo>
                  <a:lnTo>
                    <a:pt x="695" y="148"/>
                  </a:lnTo>
                  <a:lnTo>
                    <a:pt x="686" y="140"/>
                  </a:lnTo>
                  <a:lnTo>
                    <a:pt x="678" y="131"/>
                  </a:lnTo>
                  <a:lnTo>
                    <a:pt x="669" y="131"/>
                  </a:lnTo>
                  <a:lnTo>
                    <a:pt x="665" y="148"/>
                  </a:lnTo>
                  <a:lnTo>
                    <a:pt x="657" y="131"/>
                  </a:lnTo>
                  <a:lnTo>
                    <a:pt x="648" y="140"/>
                  </a:lnTo>
                  <a:lnTo>
                    <a:pt x="648" y="157"/>
                  </a:lnTo>
                  <a:lnTo>
                    <a:pt x="657" y="174"/>
                  </a:lnTo>
                  <a:lnTo>
                    <a:pt x="657" y="178"/>
                  </a:lnTo>
                  <a:lnTo>
                    <a:pt x="648" y="174"/>
                  </a:lnTo>
                  <a:lnTo>
                    <a:pt x="640" y="157"/>
                  </a:lnTo>
                  <a:lnTo>
                    <a:pt x="640" y="174"/>
                  </a:lnTo>
                  <a:lnTo>
                    <a:pt x="631" y="186"/>
                  </a:lnTo>
                  <a:lnTo>
                    <a:pt x="623" y="178"/>
                  </a:lnTo>
                  <a:lnTo>
                    <a:pt x="623" y="165"/>
                  </a:lnTo>
                  <a:lnTo>
                    <a:pt x="614" y="174"/>
                  </a:lnTo>
                  <a:lnTo>
                    <a:pt x="614" y="195"/>
                  </a:lnTo>
                  <a:lnTo>
                    <a:pt x="610" y="195"/>
                  </a:lnTo>
                  <a:lnTo>
                    <a:pt x="602" y="195"/>
                  </a:lnTo>
                  <a:lnTo>
                    <a:pt x="593" y="203"/>
                  </a:lnTo>
                  <a:lnTo>
                    <a:pt x="602" y="212"/>
                  </a:lnTo>
                  <a:lnTo>
                    <a:pt x="593" y="220"/>
                  </a:lnTo>
                  <a:lnTo>
                    <a:pt x="585" y="225"/>
                  </a:lnTo>
                  <a:lnTo>
                    <a:pt x="585" y="233"/>
                  </a:lnTo>
                  <a:lnTo>
                    <a:pt x="593" y="241"/>
                  </a:lnTo>
                  <a:lnTo>
                    <a:pt x="585" y="250"/>
                  </a:lnTo>
                  <a:lnTo>
                    <a:pt x="559" y="250"/>
                  </a:lnTo>
                  <a:lnTo>
                    <a:pt x="559" y="241"/>
                  </a:lnTo>
                  <a:lnTo>
                    <a:pt x="551" y="250"/>
                  </a:lnTo>
                  <a:lnTo>
                    <a:pt x="551" y="258"/>
                  </a:lnTo>
                  <a:lnTo>
                    <a:pt x="551" y="275"/>
                  </a:lnTo>
                  <a:lnTo>
                    <a:pt x="551" y="280"/>
                  </a:lnTo>
                  <a:lnTo>
                    <a:pt x="547" y="297"/>
                  </a:lnTo>
                  <a:lnTo>
                    <a:pt x="547" y="280"/>
                  </a:lnTo>
                  <a:lnTo>
                    <a:pt x="547" y="267"/>
                  </a:lnTo>
                  <a:lnTo>
                    <a:pt x="547" y="258"/>
                  </a:lnTo>
                  <a:lnTo>
                    <a:pt x="538" y="267"/>
                  </a:lnTo>
                  <a:lnTo>
                    <a:pt x="530" y="267"/>
                  </a:lnTo>
                  <a:lnTo>
                    <a:pt x="521" y="267"/>
                  </a:lnTo>
                  <a:lnTo>
                    <a:pt x="513" y="275"/>
                  </a:lnTo>
                  <a:lnTo>
                    <a:pt x="521" y="275"/>
                  </a:lnTo>
                  <a:lnTo>
                    <a:pt x="530" y="280"/>
                  </a:lnTo>
                  <a:lnTo>
                    <a:pt x="530" y="288"/>
                  </a:lnTo>
                  <a:lnTo>
                    <a:pt x="521" y="280"/>
                  </a:lnTo>
                  <a:lnTo>
                    <a:pt x="513" y="288"/>
                  </a:lnTo>
                  <a:lnTo>
                    <a:pt x="504" y="280"/>
                  </a:lnTo>
                  <a:lnTo>
                    <a:pt x="496" y="280"/>
                  </a:lnTo>
                  <a:lnTo>
                    <a:pt x="496" y="297"/>
                  </a:lnTo>
                  <a:lnTo>
                    <a:pt x="491" y="305"/>
                  </a:lnTo>
                  <a:lnTo>
                    <a:pt x="513" y="297"/>
                  </a:lnTo>
                  <a:lnTo>
                    <a:pt x="521" y="305"/>
                  </a:lnTo>
                  <a:lnTo>
                    <a:pt x="521" y="313"/>
                  </a:lnTo>
                  <a:lnTo>
                    <a:pt x="504" y="313"/>
                  </a:lnTo>
                  <a:lnTo>
                    <a:pt x="496" y="313"/>
                  </a:lnTo>
                  <a:lnTo>
                    <a:pt x="491" y="322"/>
                  </a:lnTo>
                  <a:lnTo>
                    <a:pt x="491" y="330"/>
                  </a:lnTo>
                  <a:lnTo>
                    <a:pt x="504" y="330"/>
                  </a:lnTo>
                  <a:lnTo>
                    <a:pt x="504" y="343"/>
                  </a:lnTo>
                  <a:lnTo>
                    <a:pt x="496" y="343"/>
                  </a:lnTo>
                  <a:lnTo>
                    <a:pt x="491" y="343"/>
                  </a:lnTo>
                  <a:lnTo>
                    <a:pt x="483" y="352"/>
                  </a:lnTo>
                  <a:lnTo>
                    <a:pt x="474" y="360"/>
                  </a:lnTo>
                  <a:lnTo>
                    <a:pt x="458" y="352"/>
                  </a:lnTo>
                  <a:lnTo>
                    <a:pt x="449" y="360"/>
                  </a:lnTo>
                  <a:lnTo>
                    <a:pt x="449" y="369"/>
                  </a:lnTo>
                  <a:lnTo>
                    <a:pt x="449" y="377"/>
                  </a:lnTo>
                  <a:lnTo>
                    <a:pt x="441" y="377"/>
                  </a:lnTo>
                  <a:lnTo>
                    <a:pt x="436" y="386"/>
                  </a:lnTo>
                  <a:lnTo>
                    <a:pt x="441" y="394"/>
                  </a:lnTo>
                  <a:lnTo>
                    <a:pt x="436" y="398"/>
                  </a:lnTo>
                  <a:lnTo>
                    <a:pt x="419" y="398"/>
                  </a:lnTo>
                  <a:lnTo>
                    <a:pt x="428" y="407"/>
                  </a:lnTo>
                  <a:lnTo>
                    <a:pt x="436" y="415"/>
                  </a:lnTo>
                  <a:lnTo>
                    <a:pt x="441" y="407"/>
                  </a:lnTo>
                  <a:lnTo>
                    <a:pt x="441" y="424"/>
                  </a:lnTo>
                  <a:lnTo>
                    <a:pt x="428" y="424"/>
                  </a:lnTo>
                  <a:lnTo>
                    <a:pt x="419" y="424"/>
                  </a:lnTo>
                  <a:lnTo>
                    <a:pt x="419" y="432"/>
                  </a:lnTo>
                  <a:lnTo>
                    <a:pt x="428" y="441"/>
                  </a:lnTo>
                  <a:lnTo>
                    <a:pt x="419" y="449"/>
                  </a:lnTo>
                  <a:lnTo>
                    <a:pt x="411" y="449"/>
                  </a:lnTo>
                  <a:lnTo>
                    <a:pt x="402" y="453"/>
                  </a:lnTo>
                  <a:lnTo>
                    <a:pt x="394" y="462"/>
                  </a:lnTo>
                  <a:lnTo>
                    <a:pt x="402" y="470"/>
                  </a:lnTo>
                  <a:lnTo>
                    <a:pt x="402" y="479"/>
                  </a:lnTo>
                  <a:lnTo>
                    <a:pt x="394" y="487"/>
                  </a:lnTo>
                  <a:lnTo>
                    <a:pt x="386" y="479"/>
                  </a:lnTo>
                  <a:lnTo>
                    <a:pt x="386" y="470"/>
                  </a:lnTo>
                  <a:lnTo>
                    <a:pt x="377" y="487"/>
                  </a:lnTo>
                  <a:lnTo>
                    <a:pt x="377" y="496"/>
                  </a:lnTo>
                  <a:lnTo>
                    <a:pt x="386" y="496"/>
                  </a:lnTo>
                  <a:lnTo>
                    <a:pt x="386" y="508"/>
                  </a:lnTo>
                  <a:lnTo>
                    <a:pt x="377" y="517"/>
                  </a:lnTo>
                  <a:lnTo>
                    <a:pt x="373" y="517"/>
                  </a:lnTo>
                  <a:lnTo>
                    <a:pt x="373" y="534"/>
                  </a:lnTo>
                  <a:lnTo>
                    <a:pt x="364" y="542"/>
                  </a:lnTo>
                  <a:lnTo>
                    <a:pt x="356" y="542"/>
                  </a:lnTo>
                  <a:lnTo>
                    <a:pt x="356" y="551"/>
                  </a:lnTo>
                  <a:lnTo>
                    <a:pt x="364" y="551"/>
                  </a:lnTo>
                  <a:lnTo>
                    <a:pt x="364" y="559"/>
                  </a:lnTo>
                  <a:lnTo>
                    <a:pt x="364" y="563"/>
                  </a:lnTo>
                  <a:lnTo>
                    <a:pt x="356" y="572"/>
                  </a:lnTo>
                  <a:lnTo>
                    <a:pt x="339" y="563"/>
                  </a:lnTo>
                  <a:lnTo>
                    <a:pt x="339" y="559"/>
                  </a:lnTo>
                  <a:lnTo>
                    <a:pt x="330" y="551"/>
                  </a:lnTo>
                  <a:lnTo>
                    <a:pt x="322" y="559"/>
                  </a:lnTo>
                  <a:lnTo>
                    <a:pt x="318" y="563"/>
                  </a:lnTo>
                  <a:lnTo>
                    <a:pt x="309" y="563"/>
                  </a:lnTo>
                  <a:lnTo>
                    <a:pt x="301" y="563"/>
                  </a:lnTo>
                  <a:lnTo>
                    <a:pt x="301" y="580"/>
                  </a:lnTo>
                  <a:lnTo>
                    <a:pt x="292" y="589"/>
                  </a:lnTo>
                  <a:lnTo>
                    <a:pt x="284" y="606"/>
                  </a:lnTo>
                  <a:lnTo>
                    <a:pt x="275" y="606"/>
                  </a:lnTo>
                  <a:lnTo>
                    <a:pt x="267" y="606"/>
                  </a:lnTo>
                  <a:lnTo>
                    <a:pt x="267" y="614"/>
                  </a:lnTo>
                  <a:lnTo>
                    <a:pt x="267" y="627"/>
                  </a:lnTo>
                  <a:lnTo>
                    <a:pt x="263" y="619"/>
                  </a:lnTo>
                  <a:lnTo>
                    <a:pt x="254" y="627"/>
                  </a:lnTo>
                  <a:lnTo>
                    <a:pt x="246" y="636"/>
                  </a:lnTo>
                  <a:lnTo>
                    <a:pt x="237" y="627"/>
                  </a:lnTo>
                  <a:lnTo>
                    <a:pt x="229" y="636"/>
                  </a:lnTo>
                  <a:lnTo>
                    <a:pt x="220" y="644"/>
                  </a:lnTo>
                  <a:lnTo>
                    <a:pt x="212" y="644"/>
                  </a:lnTo>
                  <a:lnTo>
                    <a:pt x="212" y="661"/>
                  </a:lnTo>
                  <a:lnTo>
                    <a:pt x="208" y="652"/>
                  </a:lnTo>
                  <a:lnTo>
                    <a:pt x="195" y="652"/>
                  </a:lnTo>
                  <a:lnTo>
                    <a:pt x="208" y="661"/>
                  </a:lnTo>
                  <a:lnTo>
                    <a:pt x="208" y="669"/>
                  </a:lnTo>
                  <a:lnTo>
                    <a:pt x="195" y="669"/>
                  </a:lnTo>
                  <a:lnTo>
                    <a:pt x="191" y="661"/>
                  </a:lnTo>
                  <a:lnTo>
                    <a:pt x="182" y="669"/>
                  </a:lnTo>
                  <a:lnTo>
                    <a:pt x="174" y="669"/>
                  </a:lnTo>
                  <a:lnTo>
                    <a:pt x="165" y="669"/>
                  </a:lnTo>
                  <a:lnTo>
                    <a:pt x="157" y="669"/>
                  </a:lnTo>
                  <a:lnTo>
                    <a:pt x="157" y="674"/>
                  </a:lnTo>
                  <a:lnTo>
                    <a:pt x="165" y="691"/>
                  </a:lnTo>
                  <a:lnTo>
                    <a:pt x="157" y="691"/>
                  </a:lnTo>
                  <a:lnTo>
                    <a:pt x="148" y="691"/>
                  </a:lnTo>
                  <a:lnTo>
                    <a:pt x="131" y="682"/>
                  </a:lnTo>
                  <a:lnTo>
                    <a:pt x="127" y="682"/>
                  </a:lnTo>
                  <a:lnTo>
                    <a:pt x="119" y="691"/>
                  </a:lnTo>
                  <a:lnTo>
                    <a:pt x="127" y="699"/>
                  </a:lnTo>
                  <a:lnTo>
                    <a:pt x="127" y="708"/>
                  </a:lnTo>
                  <a:lnTo>
                    <a:pt x="119" y="708"/>
                  </a:lnTo>
                  <a:lnTo>
                    <a:pt x="102" y="708"/>
                  </a:lnTo>
                  <a:lnTo>
                    <a:pt x="93" y="725"/>
                  </a:lnTo>
                  <a:lnTo>
                    <a:pt x="93" y="708"/>
                  </a:lnTo>
                  <a:lnTo>
                    <a:pt x="85" y="708"/>
                  </a:lnTo>
                  <a:lnTo>
                    <a:pt x="80" y="716"/>
                  </a:lnTo>
                  <a:lnTo>
                    <a:pt x="72" y="708"/>
                  </a:lnTo>
                  <a:lnTo>
                    <a:pt x="64" y="708"/>
                  </a:lnTo>
                  <a:lnTo>
                    <a:pt x="55" y="708"/>
                  </a:lnTo>
                  <a:lnTo>
                    <a:pt x="55" y="716"/>
                  </a:lnTo>
                  <a:lnTo>
                    <a:pt x="55" y="725"/>
                  </a:lnTo>
                  <a:lnTo>
                    <a:pt x="64" y="729"/>
                  </a:lnTo>
                  <a:lnTo>
                    <a:pt x="72" y="729"/>
                  </a:lnTo>
                  <a:lnTo>
                    <a:pt x="72" y="737"/>
                  </a:lnTo>
                  <a:lnTo>
                    <a:pt x="64" y="737"/>
                  </a:lnTo>
                  <a:lnTo>
                    <a:pt x="55" y="746"/>
                  </a:lnTo>
                  <a:lnTo>
                    <a:pt x="38" y="746"/>
                  </a:lnTo>
                  <a:lnTo>
                    <a:pt x="38" y="754"/>
                  </a:lnTo>
                  <a:lnTo>
                    <a:pt x="47" y="763"/>
                  </a:lnTo>
                  <a:lnTo>
                    <a:pt x="47" y="771"/>
                  </a:lnTo>
                  <a:lnTo>
                    <a:pt x="30" y="763"/>
                  </a:lnTo>
                  <a:lnTo>
                    <a:pt x="30" y="771"/>
                  </a:lnTo>
                  <a:lnTo>
                    <a:pt x="30" y="780"/>
                  </a:lnTo>
                  <a:lnTo>
                    <a:pt x="38" y="792"/>
                  </a:lnTo>
                  <a:lnTo>
                    <a:pt x="55" y="792"/>
                  </a:lnTo>
                  <a:lnTo>
                    <a:pt x="55" y="801"/>
                  </a:lnTo>
                  <a:lnTo>
                    <a:pt x="47" y="801"/>
                  </a:lnTo>
                  <a:lnTo>
                    <a:pt x="30" y="792"/>
                  </a:lnTo>
                  <a:lnTo>
                    <a:pt x="30" y="801"/>
                  </a:lnTo>
                  <a:lnTo>
                    <a:pt x="30" y="809"/>
                  </a:lnTo>
                  <a:lnTo>
                    <a:pt x="38" y="826"/>
                  </a:lnTo>
                  <a:lnTo>
                    <a:pt x="47" y="830"/>
                  </a:lnTo>
                  <a:lnTo>
                    <a:pt x="38" y="839"/>
                  </a:lnTo>
                  <a:lnTo>
                    <a:pt x="30" y="830"/>
                  </a:lnTo>
                  <a:lnTo>
                    <a:pt x="25" y="839"/>
                  </a:lnTo>
                  <a:lnTo>
                    <a:pt x="25" y="847"/>
                  </a:lnTo>
                  <a:lnTo>
                    <a:pt x="38" y="856"/>
                  </a:lnTo>
                  <a:lnTo>
                    <a:pt x="30" y="856"/>
                  </a:lnTo>
                  <a:lnTo>
                    <a:pt x="25" y="856"/>
                  </a:lnTo>
                  <a:lnTo>
                    <a:pt x="25" y="864"/>
                  </a:lnTo>
                  <a:lnTo>
                    <a:pt x="30" y="873"/>
                  </a:lnTo>
                  <a:lnTo>
                    <a:pt x="38" y="881"/>
                  </a:lnTo>
                  <a:lnTo>
                    <a:pt x="55" y="881"/>
                  </a:lnTo>
                  <a:lnTo>
                    <a:pt x="72" y="873"/>
                  </a:lnTo>
                  <a:lnTo>
                    <a:pt x="55" y="890"/>
                  </a:lnTo>
                  <a:lnTo>
                    <a:pt x="47" y="894"/>
                  </a:lnTo>
                  <a:lnTo>
                    <a:pt x="38" y="902"/>
                  </a:lnTo>
                  <a:lnTo>
                    <a:pt x="55" y="919"/>
                  </a:lnTo>
                  <a:lnTo>
                    <a:pt x="47" y="919"/>
                  </a:lnTo>
                  <a:lnTo>
                    <a:pt x="38" y="919"/>
                  </a:lnTo>
                  <a:lnTo>
                    <a:pt x="30" y="928"/>
                  </a:lnTo>
                  <a:lnTo>
                    <a:pt x="25" y="919"/>
                  </a:lnTo>
                  <a:lnTo>
                    <a:pt x="17" y="919"/>
                  </a:lnTo>
                  <a:lnTo>
                    <a:pt x="8" y="936"/>
                  </a:lnTo>
                  <a:lnTo>
                    <a:pt x="8" y="945"/>
                  </a:lnTo>
                  <a:lnTo>
                    <a:pt x="0" y="958"/>
                  </a:lnTo>
                  <a:lnTo>
                    <a:pt x="8" y="966"/>
                  </a:lnTo>
                  <a:lnTo>
                    <a:pt x="25" y="945"/>
                  </a:lnTo>
                  <a:lnTo>
                    <a:pt x="38" y="945"/>
                  </a:lnTo>
                  <a:lnTo>
                    <a:pt x="38" y="949"/>
                  </a:lnTo>
                  <a:lnTo>
                    <a:pt x="38" y="966"/>
                  </a:lnTo>
                  <a:lnTo>
                    <a:pt x="30" y="966"/>
                  </a:lnTo>
                  <a:lnTo>
                    <a:pt x="30" y="983"/>
                  </a:lnTo>
                  <a:lnTo>
                    <a:pt x="25" y="991"/>
                  </a:lnTo>
                  <a:lnTo>
                    <a:pt x="25" y="983"/>
                  </a:lnTo>
                  <a:lnTo>
                    <a:pt x="17" y="991"/>
                  </a:lnTo>
                  <a:lnTo>
                    <a:pt x="17" y="996"/>
                  </a:lnTo>
                  <a:lnTo>
                    <a:pt x="17" y="1013"/>
                  </a:lnTo>
                  <a:lnTo>
                    <a:pt x="17" y="1021"/>
                  </a:lnTo>
                  <a:lnTo>
                    <a:pt x="30" y="1038"/>
                  </a:lnTo>
                  <a:lnTo>
                    <a:pt x="55" y="1047"/>
                  </a:lnTo>
                  <a:lnTo>
                    <a:pt x="38" y="1059"/>
                  </a:lnTo>
                  <a:lnTo>
                    <a:pt x="55" y="1068"/>
                  </a:lnTo>
                  <a:lnTo>
                    <a:pt x="64" y="1059"/>
                  </a:lnTo>
                  <a:lnTo>
                    <a:pt x="64" y="1076"/>
                  </a:lnTo>
                  <a:lnTo>
                    <a:pt x="85" y="1076"/>
                  </a:lnTo>
                  <a:lnTo>
                    <a:pt x="102" y="1076"/>
                  </a:lnTo>
                  <a:lnTo>
                    <a:pt x="119" y="1068"/>
                  </a:lnTo>
                  <a:lnTo>
                    <a:pt x="119" y="1076"/>
                  </a:lnTo>
                  <a:lnTo>
                    <a:pt x="131" y="1068"/>
                  </a:lnTo>
                  <a:lnTo>
                    <a:pt x="144" y="1059"/>
                  </a:lnTo>
                  <a:lnTo>
                    <a:pt x="148" y="1047"/>
                  </a:lnTo>
                  <a:lnTo>
                    <a:pt x="157" y="1038"/>
                  </a:lnTo>
                  <a:lnTo>
                    <a:pt x="182" y="1030"/>
                  </a:lnTo>
                  <a:lnTo>
                    <a:pt x="182" y="1021"/>
                  </a:lnTo>
                  <a:lnTo>
                    <a:pt x="191" y="1013"/>
                  </a:lnTo>
                  <a:lnTo>
                    <a:pt x="208" y="1013"/>
                  </a:lnTo>
                  <a:lnTo>
                    <a:pt x="208" y="1021"/>
                  </a:lnTo>
                  <a:lnTo>
                    <a:pt x="212" y="1030"/>
                  </a:lnTo>
                  <a:lnTo>
                    <a:pt x="229" y="1021"/>
                  </a:lnTo>
                  <a:lnTo>
                    <a:pt x="229" y="1008"/>
                  </a:lnTo>
                  <a:lnTo>
                    <a:pt x="246" y="991"/>
                  </a:lnTo>
                  <a:lnTo>
                    <a:pt x="246" y="975"/>
                  </a:lnTo>
                  <a:lnTo>
                    <a:pt x="237" y="966"/>
                  </a:lnTo>
                  <a:lnTo>
                    <a:pt x="254" y="949"/>
                  </a:lnTo>
                  <a:lnTo>
                    <a:pt x="263" y="945"/>
                  </a:lnTo>
                  <a:lnTo>
                    <a:pt x="267" y="936"/>
                  </a:lnTo>
                  <a:lnTo>
                    <a:pt x="275" y="936"/>
                  </a:lnTo>
                  <a:lnTo>
                    <a:pt x="275" y="949"/>
                  </a:lnTo>
                  <a:lnTo>
                    <a:pt x="267" y="958"/>
                  </a:lnTo>
                  <a:lnTo>
                    <a:pt x="263" y="958"/>
                  </a:lnTo>
                  <a:lnTo>
                    <a:pt x="263" y="975"/>
                  </a:lnTo>
                  <a:lnTo>
                    <a:pt x="267" y="975"/>
                  </a:lnTo>
                  <a:lnTo>
                    <a:pt x="292" y="991"/>
                  </a:lnTo>
                  <a:lnTo>
                    <a:pt x="275" y="1008"/>
                  </a:lnTo>
                  <a:close/>
                </a:path>
              </a:pathLst>
            </a:custGeom>
            <a:solidFill>
              <a:srgbClr val="b00000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45240" y="2720880"/>
              <a:ext cx="1396800" cy="2900160"/>
            </a:xfrm>
            <a:custGeom>
              <a:avLst/>
              <a:gdLst/>
              <a:ahLst/>
              <a:rect l="l" t="t" r="r" b="b"/>
              <a:pathLst>
                <a:path w="547" h="1132">
                  <a:moveTo>
                    <a:pt x="547" y="250"/>
                  </a:moveTo>
                  <a:lnTo>
                    <a:pt x="547" y="238"/>
                  </a:lnTo>
                  <a:lnTo>
                    <a:pt x="538" y="229"/>
                  </a:lnTo>
                  <a:lnTo>
                    <a:pt x="530" y="212"/>
                  </a:lnTo>
                  <a:lnTo>
                    <a:pt x="530" y="204"/>
                  </a:lnTo>
                  <a:lnTo>
                    <a:pt x="530" y="191"/>
                  </a:lnTo>
                  <a:lnTo>
                    <a:pt x="530" y="174"/>
                  </a:lnTo>
                  <a:lnTo>
                    <a:pt x="538" y="166"/>
                  </a:lnTo>
                  <a:lnTo>
                    <a:pt x="530" y="157"/>
                  </a:lnTo>
                  <a:lnTo>
                    <a:pt x="530" y="149"/>
                  </a:lnTo>
                  <a:lnTo>
                    <a:pt x="521" y="140"/>
                  </a:lnTo>
                  <a:lnTo>
                    <a:pt x="521" y="136"/>
                  </a:lnTo>
                  <a:lnTo>
                    <a:pt x="521" y="127"/>
                  </a:lnTo>
                  <a:lnTo>
                    <a:pt x="521" y="119"/>
                  </a:lnTo>
                  <a:lnTo>
                    <a:pt x="505" y="119"/>
                  </a:lnTo>
                  <a:lnTo>
                    <a:pt x="513" y="110"/>
                  </a:lnTo>
                  <a:lnTo>
                    <a:pt x="513" y="102"/>
                  </a:lnTo>
                  <a:lnTo>
                    <a:pt x="513" y="94"/>
                  </a:lnTo>
                  <a:lnTo>
                    <a:pt x="513" y="85"/>
                  </a:lnTo>
                  <a:lnTo>
                    <a:pt x="513" y="77"/>
                  </a:lnTo>
                  <a:lnTo>
                    <a:pt x="505" y="72"/>
                  </a:lnTo>
                  <a:lnTo>
                    <a:pt x="505" y="55"/>
                  </a:lnTo>
                  <a:lnTo>
                    <a:pt x="500" y="55"/>
                  </a:lnTo>
                  <a:lnTo>
                    <a:pt x="483" y="47"/>
                  </a:lnTo>
                  <a:lnTo>
                    <a:pt x="466" y="38"/>
                  </a:lnTo>
                  <a:lnTo>
                    <a:pt x="458" y="38"/>
                  </a:lnTo>
                  <a:lnTo>
                    <a:pt x="449" y="30"/>
                  </a:lnTo>
                  <a:lnTo>
                    <a:pt x="445" y="30"/>
                  </a:lnTo>
                  <a:lnTo>
                    <a:pt x="445" y="17"/>
                  </a:lnTo>
                  <a:lnTo>
                    <a:pt x="428" y="9"/>
                  </a:lnTo>
                  <a:lnTo>
                    <a:pt x="411" y="0"/>
                  </a:lnTo>
                  <a:lnTo>
                    <a:pt x="394" y="0"/>
                  </a:lnTo>
                  <a:lnTo>
                    <a:pt x="394" y="9"/>
                  </a:lnTo>
                  <a:lnTo>
                    <a:pt x="394" y="22"/>
                  </a:lnTo>
                  <a:lnTo>
                    <a:pt x="394" y="30"/>
                  </a:lnTo>
                  <a:lnTo>
                    <a:pt x="382" y="22"/>
                  </a:lnTo>
                  <a:lnTo>
                    <a:pt x="373" y="47"/>
                  </a:lnTo>
                  <a:lnTo>
                    <a:pt x="373" y="55"/>
                  </a:lnTo>
                  <a:lnTo>
                    <a:pt x="365" y="55"/>
                  </a:lnTo>
                  <a:lnTo>
                    <a:pt x="356" y="47"/>
                  </a:lnTo>
                  <a:lnTo>
                    <a:pt x="339" y="55"/>
                  </a:lnTo>
                  <a:lnTo>
                    <a:pt x="339" y="72"/>
                  </a:lnTo>
                  <a:lnTo>
                    <a:pt x="339" y="77"/>
                  </a:lnTo>
                  <a:lnTo>
                    <a:pt x="331" y="77"/>
                  </a:lnTo>
                  <a:lnTo>
                    <a:pt x="318" y="72"/>
                  </a:lnTo>
                  <a:lnTo>
                    <a:pt x="310" y="72"/>
                  </a:lnTo>
                  <a:lnTo>
                    <a:pt x="301" y="85"/>
                  </a:lnTo>
                  <a:lnTo>
                    <a:pt x="301" y="94"/>
                  </a:lnTo>
                  <a:lnTo>
                    <a:pt x="276" y="110"/>
                  </a:lnTo>
                  <a:lnTo>
                    <a:pt x="272" y="119"/>
                  </a:lnTo>
                  <a:lnTo>
                    <a:pt x="263" y="127"/>
                  </a:lnTo>
                  <a:lnTo>
                    <a:pt x="272" y="136"/>
                  </a:lnTo>
                  <a:lnTo>
                    <a:pt x="276" y="149"/>
                  </a:lnTo>
                  <a:lnTo>
                    <a:pt x="272" y="157"/>
                  </a:lnTo>
                  <a:lnTo>
                    <a:pt x="272" y="166"/>
                  </a:lnTo>
                  <a:lnTo>
                    <a:pt x="255" y="183"/>
                  </a:lnTo>
                  <a:lnTo>
                    <a:pt x="238" y="191"/>
                  </a:lnTo>
                  <a:lnTo>
                    <a:pt x="238" y="204"/>
                  </a:lnTo>
                  <a:lnTo>
                    <a:pt x="238" y="212"/>
                  </a:lnTo>
                  <a:lnTo>
                    <a:pt x="229" y="221"/>
                  </a:lnTo>
                  <a:lnTo>
                    <a:pt x="216" y="229"/>
                  </a:lnTo>
                  <a:lnTo>
                    <a:pt x="199" y="238"/>
                  </a:lnTo>
                  <a:lnTo>
                    <a:pt x="199" y="250"/>
                  </a:lnTo>
                  <a:lnTo>
                    <a:pt x="191" y="267"/>
                  </a:lnTo>
                  <a:lnTo>
                    <a:pt x="183" y="276"/>
                  </a:lnTo>
                  <a:lnTo>
                    <a:pt x="183" y="293"/>
                  </a:lnTo>
                  <a:lnTo>
                    <a:pt x="183" y="301"/>
                  </a:lnTo>
                  <a:lnTo>
                    <a:pt x="183" y="305"/>
                  </a:lnTo>
                  <a:lnTo>
                    <a:pt x="174" y="331"/>
                  </a:lnTo>
                  <a:lnTo>
                    <a:pt x="174" y="339"/>
                  </a:lnTo>
                  <a:lnTo>
                    <a:pt x="161" y="348"/>
                  </a:lnTo>
                  <a:lnTo>
                    <a:pt x="153" y="356"/>
                  </a:lnTo>
                  <a:lnTo>
                    <a:pt x="161" y="369"/>
                  </a:lnTo>
                  <a:lnTo>
                    <a:pt x="161" y="377"/>
                  </a:lnTo>
                  <a:lnTo>
                    <a:pt x="161" y="386"/>
                  </a:lnTo>
                  <a:lnTo>
                    <a:pt x="166" y="403"/>
                  </a:lnTo>
                  <a:lnTo>
                    <a:pt x="161" y="411"/>
                  </a:lnTo>
                  <a:lnTo>
                    <a:pt x="144" y="411"/>
                  </a:lnTo>
                  <a:lnTo>
                    <a:pt x="136" y="411"/>
                  </a:lnTo>
                  <a:lnTo>
                    <a:pt x="127" y="416"/>
                  </a:lnTo>
                  <a:lnTo>
                    <a:pt x="119" y="424"/>
                  </a:lnTo>
                  <a:lnTo>
                    <a:pt x="111" y="424"/>
                  </a:lnTo>
                  <a:lnTo>
                    <a:pt x="111" y="416"/>
                  </a:lnTo>
                  <a:lnTo>
                    <a:pt x="98" y="424"/>
                  </a:lnTo>
                  <a:lnTo>
                    <a:pt x="89" y="433"/>
                  </a:lnTo>
                  <a:lnTo>
                    <a:pt x="81" y="449"/>
                  </a:lnTo>
                  <a:lnTo>
                    <a:pt x="81" y="466"/>
                  </a:lnTo>
                  <a:lnTo>
                    <a:pt x="81" y="479"/>
                  </a:lnTo>
                  <a:lnTo>
                    <a:pt x="81" y="496"/>
                  </a:lnTo>
                  <a:lnTo>
                    <a:pt x="72" y="505"/>
                  </a:lnTo>
                  <a:lnTo>
                    <a:pt x="72" y="522"/>
                  </a:lnTo>
                  <a:lnTo>
                    <a:pt x="72" y="526"/>
                  </a:lnTo>
                  <a:lnTo>
                    <a:pt x="81" y="534"/>
                  </a:lnTo>
                  <a:lnTo>
                    <a:pt x="81" y="551"/>
                  </a:lnTo>
                  <a:lnTo>
                    <a:pt x="81" y="560"/>
                  </a:lnTo>
                  <a:lnTo>
                    <a:pt x="72" y="577"/>
                  </a:lnTo>
                  <a:lnTo>
                    <a:pt x="72" y="581"/>
                  </a:lnTo>
                  <a:lnTo>
                    <a:pt x="72" y="589"/>
                  </a:lnTo>
                  <a:lnTo>
                    <a:pt x="81" y="598"/>
                  </a:lnTo>
                  <a:lnTo>
                    <a:pt x="89" y="606"/>
                  </a:lnTo>
                  <a:lnTo>
                    <a:pt x="89" y="615"/>
                  </a:lnTo>
                  <a:lnTo>
                    <a:pt x="89" y="627"/>
                  </a:lnTo>
                  <a:lnTo>
                    <a:pt x="89" y="636"/>
                  </a:lnTo>
                  <a:lnTo>
                    <a:pt x="64" y="653"/>
                  </a:lnTo>
                  <a:lnTo>
                    <a:pt x="64" y="661"/>
                  </a:lnTo>
                  <a:lnTo>
                    <a:pt x="72" y="678"/>
                  </a:lnTo>
                  <a:lnTo>
                    <a:pt x="72" y="687"/>
                  </a:lnTo>
                  <a:lnTo>
                    <a:pt x="72" y="691"/>
                  </a:lnTo>
                  <a:lnTo>
                    <a:pt x="72" y="716"/>
                  </a:lnTo>
                  <a:lnTo>
                    <a:pt x="64" y="742"/>
                  </a:lnTo>
                  <a:lnTo>
                    <a:pt x="55" y="742"/>
                  </a:lnTo>
                  <a:lnTo>
                    <a:pt x="47" y="742"/>
                  </a:lnTo>
                  <a:lnTo>
                    <a:pt x="39" y="746"/>
                  </a:lnTo>
                  <a:lnTo>
                    <a:pt x="39" y="755"/>
                  </a:lnTo>
                  <a:lnTo>
                    <a:pt x="34" y="763"/>
                  </a:lnTo>
                  <a:lnTo>
                    <a:pt x="34" y="772"/>
                  </a:lnTo>
                  <a:lnTo>
                    <a:pt x="17" y="788"/>
                  </a:lnTo>
                  <a:lnTo>
                    <a:pt x="26" y="793"/>
                  </a:lnTo>
                  <a:lnTo>
                    <a:pt x="26" y="805"/>
                  </a:lnTo>
                  <a:lnTo>
                    <a:pt x="26" y="810"/>
                  </a:lnTo>
                  <a:lnTo>
                    <a:pt x="17" y="818"/>
                  </a:lnTo>
                  <a:lnTo>
                    <a:pt x="9" y="810"/>
                  </a:lnTo>
                  <a:lnTo>
                    <a:pt x="9" y="805"/>
                  </a:lnTo>
                  <a:lnTo>
                    <a:pt x="0" y="805"/>
                  </a:lnTo>
                  <a:lnTo>
                    <a:pt x="0" y="805"/>
                  </a:lnTo>
                  <a:lnTo>
                    <a:pt x="0" y="818"/>
                  </a:lnTo>
                  <a:lnTo>
                    <a:pt x="0" y="827"/>
                  </a:lnTo>
                  <a:lnTo>
                    <a:pt x="0" y="844"/>
                  </a:lnTo>
                  <a:lnTo>
                    <a:pt x="0" y="852"/>
                  </a:lnTo>
                  <a:lnTo>
                    <a:pt x="0" y="856"/>
                  </a:lnTo>
                  <a:lnTo>
                    <a:pt x="0" y="865"/>
                  </a:lnTo>
                  <a:lnTo>
                    <a:pt x="0" y="873"/>
                  </a:lnTo>
                  <a:lnTo>
                    <a:pt x="9" y="873"/>
                  </a:lnTo>
                  <a:lnTo>
                    <a:pt x="9" y="890"/>
                  </a:lnTo>
                  <a:lnTo>
                    <a:pt x="17" y="882"/>
                  </a:lnTo>
                  <a:lnTo>
                    <a:pt x="26" y="890"/>
                  </a:lnTo>
                  <a:lnTo>
                    <a:pt x="17" y="907"/>
                  </a:lnTo>
                  <a:lnTo>
                    <a:pt x="17" y="911"/>
                  </a:lnTo>
                  <a:lnTo>
                    <a:pt x="17" y="920"/>
                  </a:lnTo>
                  <a:lnTo>
                    <a:pt x="17" y="928"/>
                  </a:lnTo>
                  <a:lnTo>
                    <a:pt x="17" y="945"/>
                  </a:lnTo>
                  <a:lnTo>
                    <a:pt x="17" y="954"/>
                  </a:lnTo>
                  <a:lnTo>
                    <a:pt x="26" y="962"/>
                  </a:lnTo>
                  <a:lnTo>
                    <a:pt x="17" y="971"/>
                  </a:lnTo>
                  <a:lnTo>
                    <a:pt x="17" y="983"/>
                  </a:lnTo>
                  <a:lnTo>
                    <a:pt x="26" y="992"/>
                  </a:lnTo>
                  <a:lnTo>
                    <a:pt x="34" y="992"/>
                  </a:lnTo>
                  <a:lnTo>
                    <a:pt x="34" y="1017"/>
                  </a:lnTo>
                  <a:lnTo>
                    <a:pt x="47" y="1022"/>
                  </a:lnTo>
                  <a:lnTo>
                    <a:pt x="47" y="1030"/>
                  </a:lnTo>
                  <a:lnTo>
                    <a:pt x="47" y="1038"/>
                  </a:lnTo>
                  <a:lnTo>
                    <a:pt x="43" y="1038"/>
                  </a:lnTo>
                  <a:lnTo>
                    <a:pt x="43" y="1047"/>
                  </a:lnTo>
                  <a:lnTo>
                    <a:pt x="34" y="1055"/>
                  </a:lnTo>
                  <a:lnTo>
                    <a:pt x="34" y="1064"/>
                  </a:lnTo>
                  <a:lnTo>
                    <a:pt x="34" y="1072"/>
                  </a:lnTo>
                  <a:lnTo>
                    <a:pt x="43" y="1077"/>
                  </a:lnTo>
                  <a:lnTo>
                    <a:pt x="43" y="1085"/>
                  </a:lnTo>
                  <a:lnTo>
                    <a:pt x="47" y="1094"/>
                  </a:lnTo>
                  <a:lnTo>
                    <a:pt x="47" y="1102"/>
                  </a:lnTo>
                  <a:lnTo>
                    <a:pt x="47" y="1119"/>
                  </a:lnTo>
                  <a:lnTo>
                    <a:pt x="43" y="1127"/>
                  </a:lnTo>
                  <a:lnTo>
                    <a:pt x="47" y="1132"/>
                  </a:lnTo>
                  <a:lnTo>
                    <a:pt x="55" y="1127"/>
                  </a:lnTo>
                  <a:lnTo>
                    <a:pt x="64" y="1132"/>
                  </a:lnTo>
                  <a:lnTo>
                    <a:pt x="89" y="1127"/>
                  </a:lnTo>
                  <a:lnTo>
                    <a:pt x="98" y="1132"/>
                  </a:lnTo>
                  <a:lnTo>
                    <a:pt x="102" y="1132"/>
                  </a:lnTo>
                  <a:lnTo>
                    <a:pt x="111" y="1132"/>
                  </a:lnTo>
                  <a:lnTo>
                    <a:pt x="111" y="1127"/>
                  </a:lnTo>
                  <a:lnTo>
                    <a:pt x="111" y="1110"/>
                  </a:lnTo>
                  <a:lnTo>
                    <a:pt x="111" y="1094"/>
                  </a:lnTo>
                  <a:lnTo>
                    <a:pt x="119" y="1085"/>
                  </a:lnTo>
                  <a:lnTo>
                    <a:pt x="127" y="1085"/>
                  </a:lnTo>
                  <a:lnTo>
                    <a:pt x="136" y="1085"/>
                  </a:lnTo>
                  <a:lnTo>
                    <a:pt x="144" y="1077"/>
                  </a:lnTo>
                  <a:lnTo>
                    <a:pt x="136" y="1077"/>
                  </a:lnTo>
                  <a:lnTo>
                    <a:pt x="144" y="1072"/>
                  </a:lnTo>
                  <a:lnTo>
                    <a:pt x="161" y="1064"/>
                  </a:lnTo>
                  <a:lnTo>
                    <a:pt x="174" y="1072"/>
                  </a:lnTo>
                  <a:lnTo>
                    <a:pt x="174" y="1077"/>
                  </a:lnTo>
                  <a:lnTo>
                    <a:pt x="183" y="1077"/>
                  </a:lnTo>
                  <a:lnTo>
                    <a:pt x="199" y="1077"/>
                  </a:lnTo>
                  <a:lnTo>
                    <a:pt x="208" y="1077"/>
                  </a:lnTo>
                  <a:lnTo>
                    <a:pt x="208" y="1064"/>
                  </a:lnTo>
                  <a:lnTo>
                    <a:pt x="208" y="1055"/>
                  </a:lnTo>
                  <a:lnTo>
                    <a:pt x="221" y="1030"/>
                  </a:lnTo>
                  <a:lnTo>
                    <a:pt x="221" y="1017"/>
                  </a:lnTo>
                  <a:lnTo>
                    <a:pt x="229" y="1009"/>
                  </a:lnTo>
                  <a:lnTo>
                    <a:pt x="238" y="1000"/>
                  </a:lnTo>
                  <a:lnTo>
                    <a:pt x="238" y="992"/>
                  </a:lnTo>
                  <a:lnTo>
                    <a:pt x="229" y="992"/>
                  </a:lnTo>
                  <a:lnTo>
                    <a:pt x="238" y="975"/>
                  </a:lnTo>
                  <a:lnTo>
                    <a:pt x="246" y="971"/>
                  </a:lnTo>
                  <a:lnTo>
                    <a:pt x="238" y="962"/>
                  </a:lnTo>
                  <a:lnTo>
                    <a:pt x="238" y="954"/>
                  </a:lnTo>
                  <a:lnTo>
                    <a:pt x="238" y="945"/>
                  </a:lnTo>
                  <a:lnTo>
                    <a:pt x="246" y="937"/>
                  </a:lnTo>
                  <a:lnTo>
                    <a:pt x="246" y="928"/>
                  </a:lnTo>
                  <a:lnTo>
                    <a:pt x="255" y="911"/>
                  </a:lnTo>
                  <a:lnTo>
                    <a:pt x="255" y="907"/>
                  </a:lnTo>
                  <a:lnTo>
                    <a:pt x="255" y="899"/>
                  </a:lnTo>
                  <a:lnTo>
                    <a:pt x="246" y="882"/>
                  </a:lnTo>
                  <a:lnTo>
                    <a:pt x="263" y="873"/>
                  </a:lnTo>
                  <a:lnTo>
                    <a:pt x="238" y="865"/>
                  </a:lnTo>
                  <a:lnTo>
                    <a:pt x="246" y="856"/>
                  </a:lnTo>
                  <a:lnTo>
                    <a:pt x="263" y="865"/>
                  </a:lnTo>
                  <a:lnTo>
                    <a:pt x="272" y="865"/>
                  </a:lnTo>
                  <a:lnTo>
                    <a:pt x="284" y="852"/>
                  </a:lnTo>
                  <a:lnTo>
                    <a:pt x="284" y="844"/>
                  </a:lnTo>
                  <a:lnTo>
                    <a:pt x="284" y="835"/>
                  </a:lnTo>
                  <a:lnTo>
                    <a:pt x="293" y="835"/>
                  </a:lnTo>
                  <a:lnTo>
                    <a:pt x="301" y="835"/>
                  </a:lnTo>
                  <a:lnTo>
                    <a:pt x="310" y="844"/>
                  </a:lnTo>
                  <a:lnTo>
                    <a:pt x="318" y="827"/>
                  </a:lnTo>
                  <a:lnTo>
                    <a:pt x="327" y="818"/>
                  </a:lnTo>
                  <a:lnTo>
                    <a:pt x="339" y="810"/>
                  </a:lnTo>
                  <a:lnTo>
                    <a:pt x="327" y="805"/>
                  </a:lnTo>
                  <a:lnTo>
                    <a:pt x="327" y="793"/>
                  </a:lnTo>
                  <a:lnTo>
                    <a:pt x="335" y="788"/>
                  </a:lnTo>
                  <a:lnTo>
                    <a:pt x="339" y="788"/>
                  </a:lnTo>
                  <a:lnTo>
                    <a:pt x="356" y="763"/>
                  </a:lnTo>
                  <a:lnTo>
                    <a:pt x="348" y="755"/>
                  </a:lnTo>
                  <a:lnTo>
                    <a:pt x="348" y="742"/>
                  </a:lnTo>
                  <a:lnTo>
                    <a:pt x="335" y="746"/>
                  </a:lnTo>
                  <a:lnTo>
                    <a:pt x="335" y="742"/>
                  </a:lnTo>
                  <a:lnTo>
                    <a:pt x="335" y="733"/>
                  </a:lnTo>
                  <a:lnTo>
                    <a:pt x="327" y="725"/>
                  </a:lnTo>
                  <a:lnTo>
                    <a:pt x="318" y="716"/>
                  </a:lnTo>
                  <a:lnTo>
                    <a:pt x="318" y="708"/>
                  </a:lnTo>
                  <a:lnTo>
                    <a:pt x="318" y="699"/>
                  </a:lnTo>
                  <a:lnTo>
                    <a:pt x="301" y="708"/>
                  </a:lnTo>
                  <a:lnTo>
                    <a:pt x="293" y="699"/>
                  </a:lnTo>
                  <a:lnTo>
                    <a:pt x="284" y="691"/>
                  </a:lnTo>
                  <a:lnTo>
                    <a:pt x="284" y="678"/>
                  </a:lnTo>
                  <a:lnTo>
                    <a:pt x="276" y="670"/>
                  </a:lnTo>
                  <a:lnTo>
                    <a:pt x="276" y="661"/>
                  </a:lnTo>
                  <a:lnTo>
                    <a:pt x="272" y="653"/>
                  </a:lnTo>
                  <a:lnTo>
                    <a:pt x="276" y="653"/>
                  </a:lnTo>
                  <a:lnTo>
                    <a:pt x="284" y="644"/>
                  </a:lnTo>
                  <a:lnTo>
                    <a:pt x="284" y="627"/>
                  </a:lnTo>
                  <a:lnTo>
                    <a:pt x="284" y="623"/>
                  </a:lnTo>
                  <a:lnTo>
                    <a:pt x="284" y="606"/>
                  </a:lnTo>
                  <a:lnTo>
                    <a:pt x="293" y="606"/>
                  </a:lnTo>
                  <a:lnTo>
                    <a:pt x="284" y="598"/>
                  </a:lnTo>
                  <a:lnTo>
                    <a:pt x="293" y="589"/>
                  </a:lnTo>
                  <a:lnTo>
                    <a:pt x="293" y="577"/>
                  </a:lnTo>
                  <a:lnTo>
                    <a:pt x="301" y="568"/>
                  </a:lnTo>
                  <a:lnTo>
                    <a:pt x="301" y="551"/>
                  </a:lnTo>
                  <a:lnTo>
                    <a:pt x="276" y="551"/>
                  </a:lnTo>
                  <a:lnTo>
                    <a:pt x="276" y="534"/>
                  </a:lnTo>
                  <a:lnTo>
                    <a:pt x="284" y="526"/>
                  </a:lnTo>
                  <a:lnTo>
                    <a:pt x="301" y="534"/>
                  </a:lnTo>
                  <a:lnTo>
                    <a:pt x="310" y="526"/>
                  </a:lnTo>
                  <a:lnTo>
                    <a:pt x="318" y="526"/>
                  </a:lnTo>
                  <a:lnTo>
                    <a:pt x="327" y="522"/>
                  </a:lnTo>
                  <a:lnTo>
                    <a:pt x="335" y="522"/>
                  </a:lnTo>
                  <a:lnTo>
                    <a:pt x="348" y="513"/>
                  </a:lnTo>
                  <a:lnTo>
                    <a:pt x="339" y="505"/>
                  </a:lnTo>
                  <a:lnTo>
                    <a:pt x="356" y="488"/>
                  </a:lnTo>
                  <a:lnTo>
                    <a:pt x="348" y="479"/>
                  </a:lnTo>
                  <a:lnTo>
                    <a:pt x="365" y="479"/>
                  </a:lnTo>
                  <a:lnTo>
                    <a:pt x="373" y="466"/>
                  </a:lnTo>
                  <a:lnTo>
                    <a:pt x="382" y="471"/>
                  </a:lnTo>
                  <a:lnTo>
                    <a:pt x="394" y="466"/>
                  </a:lnTo>
                  <a:lnTo>
                    <a:pt x="390" y="458"/>
                  </a:lnTo>
                  <a:lnTo>
                    <a:pt x="394" y="449"/>
                  </a:lnTo>
                  <a:lnTo>
                    <a:pt x="403" y="449"/>
                  </a:lnTo>
                  <a:lnTo>
                    <a:pt x="420" y="441"/>
                  </a:lnTo>
                  <a:lnTo>
                    <a:pt x="420" y="424"/>
                  </a:lnTo>
                  <a:lnTo>
                    <a:pt x="420" y="416"/>
                  </a:lnTo>
                  <a:lnTo>
                    <a:pt x="420" y="411"/>
                  </a:lnTo>
                  <a:lnTo>
                    <a:pt x="428" y="394"/>
                  </a:lnTo>
                  <a:lnTo>
                    <a:pt x="437" y="394"/>
                  </a:lnTo>
                  <a:lnTo>
                    <a:pt x="445" y="377"/>
                  </a:lnTo>
                  <a:lnTo>
                    <a:pt x="454" y="369"/>
                  </a:lnTo>
                  <a:lnTo>
                    <a:pt x="445" y="360"/>
                  </a:lnTo>
                  <a:lnTo>
                    <a:pt x="445" y="356"/>
                  </a:lnTo>
                  <a:lnTo>
                    <a:pt x="445" y="339"/>
                  </a:lnTo>
                  <a:lnTo>
                    <a:pt x="445" y="322"/>
                  </a:lnTo>
                  <a:lnTo>
                    <a:pt x="454" y="314"/>
                  </a:lnTo>
                  <a:lnTo>
                    <a:pt x="454" y="305"/>
                  </a:lnTo>
                  <a:lnTo>
                    <a:pt x="454" y="301"/>
                  </a:lnTo>
                  <a:lnTo>
                    <a:pt x="458" y="293"/>
                  </a:lnTo>
                  <a:lnTo>
                    <a:pt x="475" y="293"/>
                  </a:lnTo>
                  <a:lnTo>
                    <a:pt x="475" y="276"/>
                  </a:lnTo>
                  <a:lnTo>
                    <a:pt x="475" y="259"/>
                  </a:lnTo>
                  <a:lnTo>
                    <a:pt x="475" y="250"/>
                  </a:lnTo>
                  <a:lnTo>
                    <a:pt x="483" y="250"/>
                  </a:lnTo>
                  <a:lnTo>
                    <a:pt x="492" y="259"/>
                  </a:lnTo>
                  <a:lnTo>
                    <a:pt x="509" y="246"/>
                  </a:lnTo>
                  <a:lnTo>
                    <a:pt x="513" y="250"/>
                  </a:lnTo>
                  <a:lnTo>
                    <a:pt x="521" y="250"/>
                  </a:lnTo>
                  <a:lnTo>
                    <a:pt x="530" y="250"/>
                  </a:lnTo>
                  <a:lnTo>
                    <a:pt x="538" y="259"/>
                  </a:lnTo>
                  <a:lnTo>
                    <a:pt x="547" y="25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97520" y="2439720"/>
              <a:ext cx="1190880" cy="2194200"/>
            </a:xfrm>
            <a:custGeom>
              <a:avLst/>
              <a:gdLst/>
              <a:ahLst/>
              <a:rect l="l" t="t" r="r" b="b"/>
              <a:pathLst>
                <a:path w="466" h="856">
                  <a:moveTo>
                    <a:pt x="263" y="93"/>
                  </a:moveTo>
                  <a:lnTo>
                    <a:pt x="255" y="93"/>
                  </a:lnTo>
                  <a:lnTo>
                    <a:pt x="255" y="85"/>
                  </a:lnTo>
                  <a:lnTo>
                    <a:pt x="255" y="81"/>
                  </a:lnTo>
                  <a:lnTo>
                    <a:pt x="255" y="72"/>
                  </a:lnTo>
                  <a:lnTo>
                    <a:pt x="255" y="55"/>
                  </a:lnTo>
                  <a:lnTo>
                    <a:pt x="263" y="47"/>
                  </a:lnTo>
                  <a:lnTo>
                    <a:pt x="263" y="38"/>
                  </a:lnTo>
                  <a:lnTo>
                    <a:pt x="255" y="30"/>
                  </a:lnTo>
                  <a:lnTo>
                    <a:pt x="246" y="26"/>
                  </a:lnTo>
                  <a:lnTo>
                    <a:pt x="238" y="26"/>
                  </a:lnTo>
                  <a:lnTo>
                    <a:pt x="216" y="17"/>
                  </a:lnTo>
                  <a:lnTo>
                    <a:pt x="225" y="0"/>
                  </a:lnTo>
                  <a:lnTo>
                    <a:pt x="216" y="0"/>
                  </a:lnTo>
                  <a:lnTo>
                    <a:pt x="208" y="9"/>
                  </a:lnTo>
                  <a:lnTo>
                    <a:pt x="191" y="17"/>
                  </a:lnTo>
                  <a:lnTo>
                    <a:pt x="174" y="17"/>
                  </a:lnTo>
                  <a:lnTo>
                    <a:pt x="166" y="26"/>
                  </a:lnTo>
                  <a:lnTo>
                    <a:pt x="166" y="55"/>
                  </a:lnTo>
                  <a:lnTo>
                    <a:pt x="161" y="72"/>
                  </a:lnTo>
                  <a:lnTo>
                    <a:pt x="161" y="81"/>
                  </a:lnTo>
                  <a:lnTo>
                    <a:pt x="161" y="85"/>
                  </a:lnTo>
                  <a:lnTo>
                    <a:pt x="161" y="93"/>
                  </a:lnTo>
                  <a:lnTo>
                    <a:pt x="153" y="102"/>
                  </a:lnTo>
                  <a:lnTo>
                    <a:pt x="144" y="119"/>
                  </a:lnTo>
                  <a:lnTo>
                    <a:pt x="144" y="127"/>
                  </a:lnTo>
                  <a:lnTo>
                    <a:pt x="136" y="127"/>
                  </a:lnTo>
                  <a:lnTo>
                    <a:pt x="119" y="132"/>
                  </a:lnTo>
                  <a:lnTo>
                    <a:pt x="110" y="119"/>
                  </a:lnTo>
                  <a:lnTo>
                    <a:pt x="102" y="119"/>
                  </a:lnTo>
                  <a:lnTo>
                    <a:pt x="98" y="127"/>
                  </a:lnTo>
                  <a:lnTo>
                    <a:pt x="72" y="127"/>
                  </a:lnTo>
                  <a:lnTo>
                    <a:pt x="64" y="119"/>
                  </a:lnTo>
                  <a:lnTo>
                    <a:pt x="55" y="119"/>
                  </a:lnTo>
                  <a:lnTo>
                    <a:pt x="47" y="119"/>
                  </a:lnTo>
                  <a:lnTo>
                    <a:pt x="43" y="102"/>
                  </a:lnTo>
                  <a:lnTo>
                    <a:pt x="43" y="93"/>
                  </a:lnTo>
                  <a:lnTo>
                    <a:pt x="26" y="85"/>
                  </a:lnTo>
                  <a:lnTo>
                    <a:pt x="17" y="81"/>
                  </a:lnTo>
                  <a:lnTo>
                    <a:pt x="9" y="81"/>
                  </a:lnTo>
                  <a:lnTo>
                    <a:pt x="0" y="93"/>
                  </a:lnTo>
                  <a:lnTo>
                    <a:pt x="0" y="110"/>
                  </a:lnTo>
                  <a:lnTo>
                    <a:pt x="17" y="119"/>
                  </a:lnTo>
                  <a:lnTo>
                    <a:pt x="34" y="127"/>
                  </a:lnTo>
                  <a:lnTo>
                    <a:pt x="34" y="140"/>
                  </a:lnTo>
                  <a:lnTo>
                    <a:pt x="43" y="140"/>
                  </a:lnTo>
                  <a:lnTo>
                    <a:pt x="47" y="148"/>
                  </a:lnTo>
                  <a:lnTo>
                    <a:pt x="55" y="148"/>
                  </a:lnTo>
                  <a:lnTo>
                    <a:pt x="72" y="157"/>
                  </a:lnTo>
                  <a:lnTo>
                    <a:pt x="89" y="165"/>
                  </a:lnTo>
                  <a:lnTo>
                    <a:pt x="98" y="165"/>
                  </a:lnTo>
                  <a:lnTo>
                    <a:pt x="98" y="182"/>
                  </a:lnTo>
                  <a:lnTo>
                    <a:pt x="102" y="187"/>
                  </a:lnTo>
                  <a:lnTo>
                    <a:pt x="102" y="195"/>
                  </a:lnTo>
                  <a:lnTo>
                    <a:pt x="102" y="204"/>
                  </a:lnTo>
                  <a:lnTo>
                    <a:pt x="102" y="212"/>
                  </a:lnTo>
                  <a:lnTo>
                    <a:pt x="102" y="220"/>
                  </a:lnTo>
                  <a:lnTo>
                    <a:pt x="98" y="229"/>
                  </a:lnTo>
                  <a:lnTo>
                    <a:pt x="110" y="229"/>
                  </a:lnTo>
                  <a:lnTo>
                    <a:pt x="110" y="237"/>
                  </a:lnTo>
                  <a:lnTo>
                    <a:pt x="110" y="246"/>
                  </a:lnTo>
                  <a:lnTo>
                    <a:pt x="110" y="250"/>
                  </a:lnTo>
                  <a:lnTo>
                    <a:pt x="119" y="259"/>
                  </a:lnTo>
                  <a:lnTo>
                    <a:pt x="119" y="267"/>
                  </a:lnTo>
                  <a:lnTo>
                    <a:pt x="127" y="276"/>
                  </a:lnTo>
                  <a:lnTo>
                    <a:pt x="119" y="284"/>
                  </a:lnTo>
                  <a:lnTo>
                    <a:pt x="119" y="301"/>
                  </a:lnTo>
                  <a:lnTo>
                    <a:pt x="119" y="314"/>
                  </a:lnTo>
                  <a:lnTo>
                    <a:pt x="119" y="322"/>
                  </a:lnTo>
                  <a:lnTo>
                    <a:pt x="127" y="339"/>
                  </a:lnTo>
                  <a:lnTo>
                    <a:pt x="136" y="348"/>
                  </a:lnTo>
                  <a:lnTo>
                    <a:pt x="136" y="360"/>
                  </a:lnTo>
                  <a:lnTo>
                    <a:pt x="144" y="360"/>
                  </a:lnTo>
                  <a:lnTo>
                    <a:pt x="153" y="369"/>
                  </a:lnTo>
                  <a:lnTo>
                    <a:pt x="166" y="369"/>
                  </a:lnTo>
                  <a:lnTo>
                    <a:pt x="166" y="377"/>
                  </a:lnTo>
                  <a:lnTo>
                    <a:pt x="174" y="386"/>
                  </a:lnTo>
                  <a:lnTo>
                    <a:pt x="174" y="394"/>
                  </a:lnTo>
                  <a:lnTo>
                    <a:pt x="174" y="403"/>
                  </a:lnTo>
                  <a:lnTo>
                    <a:pt x="174" y="415"/>
                  </a:lnTo>
                  <a:lnTo>
                    <a:pt x="174" y="424"/>
                  </a:lnTo>
                  <a:lnTo>
                    <a:pt x="183" y="432"/>
                  </a:lnTo>
                  <a:lnTo>
                    <a:pt x="183" y="441"/>
                  </a:lnTo>
                  <a:lnTo>
                    <a:pt x="174" y="441"/>
                  </a:lnTo>
                  <a:lnTo>
                    <a:pt x="166" y="441"/>
                  </a:lnTo>
                  <a:lnTo>
                    <a:pt x="161" y="441"/>
                  </a:lnTo>
                  <a:lnTo>
                    <a:pt x="161" y="449"/>
                  </a:lnTo>
                  <a:lnTo>
                    <a:pt x="144" y="470"/>
                  </a:lnTo>
                  <a:lnTo>
                    <a:pt x="144" y="479"/>
                  </a:lnTo>
                  <a:lnTo>
                    <a:pt x="136" y="496"/>
                  </a:lnTo>
                  <a:lnTo>
                    <a:pt x="127" y="504"/>
                  </a:lnTo>
                  <a:lnTo>
                    <a:pt x="110" y="521"/>
                  </a:lnTo>
                  <a:lnTo>
                    <a:pt x="110" y="526"/>
                  </a:lnTo>
                  <a:lnTo>
                    <a:pt x="110" y="534"/>
                  </a:lnTo>
                  <a:lnTo>
                    <a:pt x="98" y="543"/>
                  </a:lnTo>
                  <a:lnTo>
                    <a:pt x="98" y="551"/>
                  </a:lnTo>
                  <a:lnTo>
                    <a:pt x="98" y="543"/>
                  </a:lnTo>
                  <a:lnTo>
                    <a:pt x="89" y="551"/>
                  </a:lnTo>
                  <a:lnTo>
                    <a:pt x="81" y="559"/>
                  </a:lnTo>
                  <a:lnTo>
                    <a:pt x="81" y="568"/>
                  </a:lnTo>
                  <a:lnTo>
                    <a:pt x="81" y="581"/>
                  </a:lnTo>
                  <a:lnTo>
                    <a:pt x="64" y="589"/>
                  </a:lnTo>
                  <a:lnTo>
                    <a:pt x="55" y="581"/>
                  </a:lnTo>
                  <a:lnTo>
                    <a:pt x="47" y="581"/>
                  </a:lnTo>
                  <a:lnTo>
                    <a:pt x="47" y="598"/>
                  </a:lnTo>
                  <a:lnTo>
                    <a:pt x="34" y="615"/>
                  </a:lnTo>
                  <a:lnTo>
                    <a:pt x="34" y="632"/>
                  </a:lnTo>
                  <a:lnTo>
                    <a:pt x="34" y="636"/>
                  </a:lnTo>
                  <a:lnTo>
                    <a:pt x="43" y="644"/>
                  </a:lnTo>
                  <a:lnTo>
                    <a:pt x="43" y="661"/>
                  </a:lnTo>
                  <a:lnTo>
                    <a:pt x="34" y="670"/>
                  </a:lnTo>
                  <a:lnTo>
                    <a:pt x="34" y="678"/>
                  </a:lnTo>
                  <a:lnTo>
                    <a:pt x="47" y="687"/>
                  </a:lnTo>
                  <a:lnTo>
                    <a:pt x="47" y="691"/>
                  </a:lnTo>
                  <a:lnTo>
                    <a:pt x="47" y="708"/>
                  </a:lnTo>
                  <a:lnTo>
                    <a:pt x="47" y="733"/>
                  </a:lnTo>
                  <a:lnTo>
                    <a:pt x="47" y="746"/>
                  </a:lnTo>
                  <a:lnTo>
                    <a:pt x="34" y="754"/>
                  </a:lnTo>
                  <a:lnTo>
                    <a:pt x="34" y="771"/>
                  </a:lnTo>
                  <a:lnTo>
                    <a:pt x="34" y="780"/>
                  </a:lnTo>
                  <a:lnTo>
                    <a:pt x="47" y="801"/>
                  </a:lnTo>
                  <a:lnTo>
                    <a:pt x="72" y="801"/>
                  </a:lnTo>
                  <a:lnTo>
                    <a:pt x="81" y="809"/>
                  </a:lnTo>
                  <a:lnTo>
                    <a:pt x="98" y="809"/>
                  </a:lnTo>
                  <a:lnTo>
                    <a:pt x="102" y="809"/>
                  </a:lnTo>
                  <a:lnTo>
                    <a:pt x="110" y="826"/>
                  </a:lnTo>
                  <a:lnTo>
                    <a:pt x="110" y="843"/>
                  </a:lnTo>
                  <a:lnTo>
                    <a:pt x="119" y="852"/>
                  </a:lnTo>
                  <a:lnTo>
                    <a:pt x="127" y="856"/>
                  </a:lnTo>
                  <a:lnTo>
                    <a:pt x="153" y="856"/>
                  </a:lnTo>
                  <a:lnTo>
                    <a:pt x="161" y="856"/>
                  </a:lnTo>
                  <a:lnTo>
                    <a:pt x="166" y="843"/>
                  </a:lnTo>
                  <a:lnTo>
                    <a:pt x="174" y="835"/>
                  </a:lnTo>
                  <a:lnTo>
                    <a:pt x="183" y="852"/>
                  </a:lnTo>
                  <a:lnTo>
                    <a:pt x="191" y="843"/>
                  </a:lnTo>
                  <a:lnTo>
                    <a:pt x="199" y="835"/>
                  </a:lnTo>
                  <a:lnTo>
                    <a:pt x="216" y="826"/>
                  </a:lnTo>
                  <a:lnTo>
                    <a:pt x="238" y="818"/>
                  </a:lnTo>
                  <a:lnTo>
                    <a:pt x="246" y="818"/>
                  </a:lnTo>
                  <a:lnTo>
                    <a:pt x="255" y="818"/>
                  </a:lnTo>
                  <a:lnTo>
                    <a:pt x="255" y="809"/>
                  </a:lnTo>
                  <a:lnTo>
                    <a:pt x="255" y="801"/>
                  </a:lnTo>
                  <a:lnTo>
                    <a:pt x="263" y="797"/>
                  </a:lnTo>
                  <a:lnTo>
                    <a:pt x="271" y="809"/>
                  </a:lnTo>
                  <a:lnTo>
                    <a:pt x="276" y="801"/>
                  </a:lnTo>
                  <a:lnTo>
                    <a:pt x="293" y="797"/>
                  </a:lnTo>
                  <a:lnTo>
                    <a:pt x="301" y="780"/>
                  </a:lnTo>
                  <a:lnTo>
                    <a:pt x="310" y="788"/>
                  </a:lnTo>
                  <a:lnTo>
                    <a:pt x="327" y="788"/>
                  </a:lnTo>
                  <a:lnTo>
                    <a:pt x="331" y="788"/>
                  </a:lnTo>
                  <a:lnTo>
                    <a:pt x="339" y="780"/>
                  </a:lnTo>
                  <a:lnTo>
                    <a:pt x="356" y="746"/>
                  </a:lnTo>
                  <a:lnTo>
                    <a:pt x="365" y="737"/>
                  </a:lnTo>
                  <a:lnTo>
                    <a:pt x="373" y="725"/>
                  </a:lnTo>
                  <a:lnTo>
                    <a:pt x="382" y="716"/>
                  </a:lnTo>
                  <a:lnTo>
                    <a:pt x="390" y="708"/>
                  </a:lnTo>
                  <a:lnTo>
                    <a:pt x="394" y="691"/>
                  </a:lnTo>
                  <a:lnTo>
                    <a:pt x="403" y="670"/>
                  </a:lnTo>
                  <a:lnTo>
                    <a:pt x="403" y="678"/>
                  </a:lnTo>
                  <a:lnTo>
                    <a:pt x="411" y="678"/>
                  </a:lnTo>
                  <a:lnTo>
                    <a:pt x="420" y="670"/>
                  </a:lnTo>
                  <a:lnTo>
                    <a:pt x="411" y="661"/>
                  </a:lnTo>
                  <a:lnTo>
                    <a:pt x="420" y="653"/>
                  </a:lnTo>
                  <a:lnTo>
                    <a:pt x="420" y="636"/>
                  </a:lnTo>
                  <a:lnTo>
                    <a:pt x="428" y="632"/>
                  </a:lnTo>
                  <a:lnTo>
                    <a:pt x="437" y="623"/>
                  </a:lnTo>
                  <a:lnTo>
                    <a:pt x="437" y="615"/>
                  </a:lnTo>
                  <a:lnTo>
                    <a:pt x="445" y="598"/>
                  </a:lnTo>
                  <a:lnTo>
                    <a:pt x="458" y="589"/>
                  </a:lnTo>
                  <a:lnTo>
                    <a:pt x="466" y="576"/>
                  </a:lnTo>
                  <a:lnTo>
                    <a:pt x="458" y="559"/>
                  </a:lnTo>
                  <a:lnTo>
                    <a:pt x="454" y="551"/>
                  </a:lnTo>
                  <a:lnTo>
                    <a:pt x="428" y="543"/>
                  </a:lnTo>
                  <a:lnTo>
                    <a:pt x="403" y="534"/>
                  </a:lnTo>
                  <a:lnTo>
                    <a:pt x="394" y="526"/>
                  </a:lnTo>
                  <a:lnTo>
                    <a:pt x="390" y="521"/>
                  </a:lnTo>
                  <a:lnTo>
                    <a:pt x="382" y="521"/>
                  </a:lnTo>
                  <a:lnTo>
                    <a:pt x="373" y="504"/>
                  </a:lnTo>
                  <a:lnTo>
                    <a:pt x="382" y="504"/>
                  </a:lnTo>
                  <a:lnTo>
                    <a:pt x="390" y="504"/>
                  </a:lnTo>
                  <a:lnTo>
                    <a:pt x="394" y="496"/>
                  </a:lnTo>
                  <a:lnTo>
                    <a:pt x="394" y="487"/>
                  </a:lnTo>
                  <a:lnTo>
                    <a:pt x="394" y="479"/>
                  </a:lnTo>
                  <a:lnTo>
                    <a:pt x="390" y="470"/>
                  </a:lnTo>
                  <a:lnTo>
                    <a:pt x="390" y="466"/>
                  </a:lnTo>
                  <a:lnTo>
                    <a:pt x="373" y="466"/>
                  </a:lnTo>
                  <a:lnTo>
                    <a:pt x="373" y="458"/>
                  </a:lnTo>
                  <a:lnTo>
                    <a:pt x="373" y="449"/>
                  </a:lnTo>
                  <a:lnTo>
                    <a:pt x="356" y="441"/>
                  </a:lnTo>
                  <a:lnTo>
                    <a:pt x="373" y="432"/>
                  </a:lnTo>
                  <a:lnTo>
                    <a:pt x="365" y="424"/>
                  </a:lnTo>
                  <a:lnTo>
                    <a:pt x="365" y="415"/>
                  </a:lnTo>
                  <a:lnTo>
                    <a:pt x="356" y="424"/>
                  </a:lnTo>
                  <a:lnTo>
                    <a:pt x="348" y="415"/>
                  </a:lnTo>
                  <a:lnTo>
                    <a:pt x="348" y="411"/>
                  </a:lnTo>
                  <a:lnTo>
                    <a:pt x="348" y="403"/>
                  </a:lnTo>
                  <a:lnTo>
                    <a:pt x="348" y="394"/>
                  </a:lnTo>
                  <a:lnTo>
                    <a:pt x="339" y="386"/>
                  </a:lnTo>
                  <a:lnTo>
                    <a:pt x="339" y="377"/>
                  </a:lnTo>
                  <a:lnTo>
                    <a:pt x="348" y="369"/>
                  </a:lnTo>
                  <a:lnTo>
                    <a:pt x="339" y="356"/>
                  </a:lnTo>
                  <a:lnTo>
                    <a:pt x="348" y="348"/>
                  </a:lnTo>
                  <a:lnTo>
                    <a:pt x="348" y="339"/>
                  </a:lnTo>
                  <a:lnTo>
                    <a:pt x="348" y="331"/>
                  </a:lnTo>
                  <a:lnTo>
                    <a:pt x="339" y="314"/>
                  </a:lnTo>
                  <a:lnTo>
                    <a:pt x="331" y="301"/>
                  </a:lnTo>
                  <a:lnTo>
                    <a:pt x="327" y="293"/>
                  </a:lnTo>
                  <a:lnTo>
                    <a:pt x="310" y="284"/>
                  </a:lnTo>
                  <a:lnTo>
                    <a:pt x="310" y="276"/>
                  </a:lnTo>
                  <a:lnTo>
                    <a:pt x="301" y="267"/>
                  </a:lnTo>
                  <a:lnTo>
                    <a:pt x="293" y="250"/>
                  </a:lnTo>
                  <a:lnTo>
                    <a:pt x="293" y="237"/>
                  </a:lnTo>
                  <a:lnTo>
                    <a:pt x="293" y="229"/>
                  </a:lnTo>
                  <a:lnTo>
                    <a:pt x="293" y="212"/>
                  </a:lnTo>
                  <a:lnTo>
                    <a:pt x="301" y="204"/>
                  </a:lnTo>
                  <a:lnTo>
                    <a:pt x="301" y="195"/>
                  </a:lnTo>
                  <a:lnTo>
                    <a:pt x="301" y="182"/>
                  </a:lnTo>
                  <a:lnTo>
                    <a:pt x="284" y="165"/>
                  </a:lnTo>
                  <a:lnTo>
                    <a:pt x="271" y="157"/>
                  </a:lnTo>
                  <a:lnTo>
                    <a:pt x="271" y="148"/>
                  </a:lnTo>
                  <a:lnTo>
                    <a:pt x="263" y="140"/>
                  </a:lnTo>
                  <a:lnTo>
                    <a:pt x="255" y="132"/>
                  </a:lnTo>
                  <a:lnTo>
                    <a:pt x="246" y="127"/>
                  </a:lnTo>
                  <a:lnTo>
                    <a:pt x="246" y="119"/>
                  </a:lnTo>
                  <a:lnTo>
                    <a:pt x="255" y="110"/>
                  </a:lnTo>
                  <a:lnTo>
                    <a:pt x="255" y="102"/>
                  </a:lnTo>
                  <a:lnTo>
                    <a:pt x="263" y="93"/>
                  </a:lnTo>
                  <a:close/>
                </a:path>
              </a:pathLst>
            </a:custGeom>
            <a:solidFill>
              <a:srgbClr val="f0ab00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45320" y="4890960"/>
              <a:ext cx="633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18440" y="461304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69200" y="445104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16920" y="424152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04040" y="43416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00800" y="408780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34360" y="427644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83520" y="45129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08800" y="4475160"/>
              <a:ext cx="65160" cy="66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800" bIns="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8840" y="4470120"/>
              <a:ext cx="6480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160" bIns="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18360" y="449100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16560" y="478152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7560" y="3286080"/>
              <a:ext cx="6480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2200" y="350964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69120" y="43272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23120" y="417672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9960" y="4354200"/>
              <a:ext cx="6372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91360" y="413352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6760" y="451944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12000" y="42876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02560" y="42033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0120" y="400500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66120" y="40161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97880" y="402408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38920" y="3836880"/>
              <a:ext cx="65160" cy="66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800" bIns="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99240" y="38448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16760" y="390996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00880" y="366552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59840" y="300816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83320" y="35208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18360" y="353052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48600" y="34686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20080" y="323820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99200" y="484632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99360" y="3760560"/>
              <a:ext cx="64800" cy="66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800" bIns="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24680" y="389412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4040" y="450504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88120" y="45813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07160" y="534168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4040" y="433512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53200" y="433044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34160" y="551952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62840" y="4968720"/>
              <a:ext cx="633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57920" y="378108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15200" y="466560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3000" y="469548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4560" y="518148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80160" y="49734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16840" y="464004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1000" y="53877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97520" y="4667040"/>
              <a:ext cx="6372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22960" y="535932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24600" y="54003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59680" y="497664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64200" y="516708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18320" y="303192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7760" y="354312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94440" y="32526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12000" y="337500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40360" y="504504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95920" y="498312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23120" y="417168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53360" y="477180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35640" y="485928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10440" y="5184720"/>
              <a:ext cx="6480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29480" y="481788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69000" y="506412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4880" y="459252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9200" y="50511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03840" y="394308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35840" y="448776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46800" y="499572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24600" y="49701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78560" y="40305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64200" y="482436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9800" y="41274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8600" y="54180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24480" y="544824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78480" y="5695920"/>
              <a:ext cx="651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81560" y="569088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26000" y="550512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70720" y="455580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78520" y="466704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97720" y="451476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080" bIns="1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47800" y="5456160"/>
              <a:ext cx="786960" cy="24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ffffff"/>
                  </a:solidFill>
                  <a:latin typeface="Arial"/>
                </a:rPr>
                <a:t>110 milj. 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02120" y="4520880"/>
              <a:ext cx="786960" cy="24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ffffff"/>
                  </a:solidFill>
                  <a:latin typeface="Arial"/>
                </a:rPr>
                <a:t>369 milj. 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4320" y="4978080"/>
              <a:ext cx="786960" cy="24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ffffff"/>
                  </a:solidFill>
                  <a:latin typeface="Arial"/>
                </a:rPr>
                <a:t>503 milj. 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22360" y="4140000"/>
              <a:ext cx="717120" cy="24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ffffff"/>
                  </a:solidFill>
                  <a:latin typeface="Arial"/>
                </a:rPr>
                <a:t>45 milj. 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JCA (2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0280" y="1988640"/>
            <a:ext cx="3944880" cy="792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utbound Communicatio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27080" y="1989000"/>
            <a:ext cx="394524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bound Communicatio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697280" y="3282840"/>
            <a:ext cx="1903680" cy="203688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791240" y="3624120"/>
            <a:ext cx="833400" cy="4572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84800" y="4137120"/>
            <a:ext cx="833400" cy="4572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683320" y="4708440"/>
            <a:ext cx="834840" cy="4557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340760" y="2997360"/>
            <a:ext cx="1110960" cy="723600"/>
          </a:xfrm>
          <a:prstGeom prst="ellipse">
            <a:avLst/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288200" y="3924360"/>
            <a:ext cx="1203480" cy="83988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ff"/>
                </a:solidFill>
                <a:latin typeface="Arial"/>
              </a:rPr>
              <a:t>Resour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340760" y="5010120"/>
            <a:ext cx="1110960" cy="723960"/>
          </a:xfrm>
          <a:prstGeom prst="ellipse">
            <a:avLst/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642000" y="3395520"/>
            <a:ext cx="657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642000" y="4308480"/>
            <a:ext cx="657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7875720" y="3738600"/>
            <a:ext cx="0" cy="17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7875720" y="4763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834320" y="4821120"/>
            <a:ext cx="914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</a:rPr>
              <a:t>EIS Specific Interfa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84720" y="3827520"/>
            <a:ext cx="995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700" spc="-1" strike="noStrike">
                <a:solidFill>
                  <a:srgbClr val="000000"/>
                </a:solidFill>
                <a:latin typeface="Arial"/>
              </a:rPr>
              <a:t>Bean Client Vie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559560" y="4365720"/>
            <a:ext cx="781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700" spc="-1" strike="noStrike">
                <a:solidFill>
                  <a:srgbClr val="000000"/>
                </a:solidFill>
                <a:latin typeface="Arial"/>
              </a:rPr>
              <a:t>System Contra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</a:rPr>
              <a:t>-life cyc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</a:rPr>
              <a:t>-work mngm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</a:rPr>
              <a:t>-conne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</a:rPr>
              <a:t>-secur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</a:rPr>
              <a:t>-transa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395280" y="2946240"/>
            <a:ext cx="4051440" cy="2787840"/>
            <a:chOff x="395280" y="2946240"/>
            <a:chExt cx="4051440" cy="2787840"/>
          </a:xfrm>
        </p:grpSpPr>
        <p:sp>
          <p:nvSpPr>
            <p:cNvPr id="843" name=""/>
            <p:cNvSpPr/>
            <p:nvPr/>
          </p:nvSpPr>
          <p:spPr>
            <a:xfrm>
              <a:off x="395280" y="3282840"/>
              <a:ext cx="1903320" cy="2036880"/>
            </a:xfrm>
            <a:prstGeom prst="rect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ffff"/>
                  </a:solidFill>
                  <a:latin typeface="Arial"/>
                </a:rPr>
                <a:t>Application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88880" y="3624120"/>
              <a:ext cx="833400" cy="45720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82800" y="4137120"/>
              <a:ext cx="833400" cy="45720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80960" y="4708440"/>
              <a:ext cx="835200" cy="45576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038400" y="2997360"/>
              <a:ext cx="1111320" cy="723600"/>
            </a:xfrm>
            <a:prstGeom prst="ellipse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86200" y="3924360"/>
              <a:ext cx="1203120" cy="839880"/>
            </a:xfrm>
            <a:prstGeom prst="rect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ffffff"/>
                  </a:solidFill>
                  <a:latin typeface="Arial"/>
                </a:rPr>
                <a:t>Outbound Resourc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ffffff"/>
                  </a:solidFill>
                  <a:latin typeface="Arial"/>
                </a:rPr>
                <a:t>Adap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38400" y="5010120"/>
              <a:ext cx="1111320" cy="723960"/>
            </a:xfrm>
            <a:prstGeom prst="ellipse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340000" y="3395520"/>
              <a:ext cx="65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40000" y="4308480"/>
              <a:ext cx="65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3573360" y="3738600"/>
              <a:ext cx="0" cy="17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3573360" y="4763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0360" y="356724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700" spc="-1" strike="noStrike">
                  <a:solidFill>
                    <a:srgbClr val="000000"/>
                  </a:solidFill>
                  <a:latin typeface="Arial"/>
                </a:rPr>
                <a:t>Application-Adapter Contrac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532320" y="4821120"/>
              <a:ext cx="9144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700" spc="-1" strike="noStrike">
                  <a:solidFill>
                    <a:srgbClr val="000000"/>
                  </a:solidFill>
                  <a:latin typeface="Arial"/>
                </a:rPr>
                <a:t>EIS Specific Interfa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59280" y="2946240"/>
              <a:ext cx="10810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i-FI" sz="700" spc="-1" strike="noStrike">
                  <a:solidFill>
                    <a:srgbClr val="000000"/>
                  </a:solidFill>
                  <a:latin typeface="Arial"/>
                </a:rPr>
                <a:t>Session, Entity, MD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257560" y="4365720"/>
              <a:ext cx="78084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i-FI" sz="700" spc="-1" strike="noStrike">
                  <a:solidFill>
                    <a:srgbClr val="000000"/>
                  </a:solidFill>
                  <a:latin typeface="Arial"/>
                </a:rPr>
                <a:t>J2EE-Adapter  Contrac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700" spc="-1" strike="noStrike">
                  <a:solidFill>
                    <a:srgbClr val="000000"/>
                  </a:solidFill>
                  <a:latin typeface="Arial"/>
                </a:rPr>
                <a:t>-life cyc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700" spc="-1" strike="noStrike">
                  <a:solidFill>
                    <a:srgbClr val="000000"/>
                  </a:solidFill>
                  <a:latin typeface="Arial"/>
                </a:rPr>
                <a:t>-work mngm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700" spc="-1" strike="noStrike">
                  <a:solidFill>
                    <a:srgbClr val="000000"/>
                  </a:solidFill>
                  <a:latin typeface="Arial"/>
                </a:rPr>
                <a:t>-connec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700" spc="-1" strike="noStrike">
                  <a:solidFill>
                    <a:srgbClr val="000000"/>
                  </a:solidFill>
                  <a:latin typeface="Arial"/>
                </a:rPr>
                <a:t>-secur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700" spc="-1" strike="noStrike">
                  <a:solidFill>
                    <a:srgbClr val="000000"/>
                  </a:solidFill>
                  <a:latin typeface="Arial"/>
                </a:rPr>
                <a:t>-transac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48000" y="373392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700" spc="-1" strike="noStrike">
                  <a:solidFill>
                    <a:srgbClr val="000000"/>
                  </a:solidFill>
                  <a:latin typeface="Arial"/>
                </a:rPr>
                <a:t>CC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35280" y="357336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2700360" y="356724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700" spc="-1" strike="noStrike">
                <a:solidFill>
                  <a:srgbClr val="000000"/>
                </a:solidFill>
                <a:latin typeface="Arial"/>
              </a:rPr>
              <a:t>Application-Adapter Contra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867280" y="4005360"/>
            <a:ext cx="720720" cy="436320"/>
          </a:xfrm>
          <a:prstGeom prst="ellipse">
            <a:avLst/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Arial"/>
              </a:rPr>
              <a:t>M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7407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443280" y="414972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796000" y="3463920"/>
            <a:ext cx="79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Session, Ent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615636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Web Services ja integraati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30280" y="1844280"/>
            <a:ext cx="8042400" cy="4413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uista että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...ei ole olemassa ”WebServices” –standardia, vaan joukko irrallisia standarde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3040" indent="-2854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XML, HTTP, SOAP, WSDL, UDDI, BPEL4WS + WS-Addressing, WS-Attachments, WS-BusinessActivity, WS-Coordination, WS-Discovery, WS-Enumeration, WS-Eventing, WS-Federation, WS-Inspection, WS-Manageability, WS-MetadataExchange, WS-Notification, WS-PolicyFramework, WS-Provisioning, WS-ReliableMessaging, WS-Resource, WS-Security, WS-Topics, WS-Transactions, WS-Transfer, ... (1000+ sivu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...ei ole olemassa WebServices –arkkitehtuuria, kokonaisarkkitehtuurin muodostaminen haastavaa ja standardien yhteistoiminta usein kyseenala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...eri toteutusten yhteensopivuus ei ole itsestään selvä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tietoturva voi osoittautua ongelmaksi (vaatimukset ratkaisevat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Web Services ja integraatio (2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.. WebServices on kieli-neutraali; se ei sisällä sidontaa ohjelmointikieleen tai ympäristöön – työkaluvalinta avainasem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... se ei sisällä sovellus- tai toimialakohtaisia standard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... se ei tarjoa varsinaisesti ratkaisua olemassa olevaan sovelluskantaan integroitumiseen ja liittymi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 osoittautuu vielä nykyisin usein liian raskaaksi sisäiseen integraatioon (suuret volyymit, XML:n overhead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utt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...tarjoaa mainion kehyksen sovelluksen liityntärajapinnan tekniseen määrittely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...työkaluja on tarjolla runsaa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...mahdollistaa vaiheittaisen käyttöön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...usein myös sovellustoimittajien tuk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soveltuu hyvin organisaatioiden väliseen integraatioon (kunhan hoidat tietoturvan kunto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Esimerkki: JCA ja WebServices arkkitehtuuri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0280" y="4005000"/>
            <a:ext cx="804240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CA adapteri liittyy sovelluspalvelimeen – WebService-sovellus usein erikseen hallittavaan, (puoli)julkiseen web-palvelim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CA adapteri liittyy sovellukseen usein natiivin sovellusprotokollan avulla – WebServices-sovellus usein ”instrumentoidaan” sovelluslogiikan kylk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755640" y="2133720"/>
          <a:ext cx="3527280" cy="13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352728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"/>
          <p:cNvGraphicFramePr/>
          <p:nvPr/>
        </p:nvGraphicFramePr>
        <p:xfrm>
          <a:off x="5030640" y="1773360"/>
          <a:ext cx="357372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0640" y="1773360"/>
                    <a:ext cx="357372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bServices ja Adapterit yhdessä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394488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ebServices määrittelee avoimen, toteutusriippumattoman liittymämekanismin sovelluks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CA määrittelee avoimen liittymämekanismin taustajärjestelmiin Java-kieles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39280" y="4868640"/>
            <a:ext cx="8209080" cy="146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ebServices-toteutus tarvitsee pohjakseen integrointi-ratkaisu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2EE-sovelluksena toteutettu WebService-sovellus, joka integroituu EIS-järjestelmään JCA:n tai jonkin EAI tuotteen avulla – EIS-järjestelmää ei tarvitse muuttaa WS-rajapinnan toteuttamiseks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4356000" y="1604880"/>
          <a:ext cx="4175280" cy="32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604880"/>
                    <a:ext cx="417528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403280" y="2486160"/>
            <a:ext cx="3024360" cy="863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400400" y="218124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ovelluk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71640" y="3932280"/>
            <a:ext cx="7129440" cy="1368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788000" y="2901960"/>
            <a:ext cx="129528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35280" y="3046320"/>
            <a:ext cx="2233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300720" y="2901960"/>
            <a:ext cx="12956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21520" y="53341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Sanomavälitysratkai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908000" y="4437000"/>
            <a:ext cx="1872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1116000" y="4005360"/>
            <a:ext cx="6840720" cy="1224000"/>
            <a:chOff x="1116000" y="4005360"/>
            <a:chExt cx="6840720" cy="1224000"/>
          </a:xfrm>
        </p:grpSpPr>
        <p:grpSp>
          <p:nvGrpSpPr>
            <p:cNvPr id="890" name=""/>
            <p:cNvGrpSpPr/>
            <p:nvPr/>
          </p:nvGrpSpPr>
          <p:grpSpPr>
            <a:xfrm>
              <a:off x="1116000" y="4005360"/>
              <a:ext cx="6840720" cy="1224000"/>
              <a:chOff x="1116000" y="4005360"/>
              <a:chExt cx="6840720" cy="1224000"/>
            </a:xfrm>
          </p:grpSpPr>
          <p:sp>
            <p:nvSpPr>
              <p:cNvPr id="891" name=""/>
              <p:cNvSpPr/>
              <p:nvPr/>
            </p:nvSpPr>
            <p:spPr>
              <a:xfrm>
                <a:off x="1116000" y="4005360"/>
                <a:ext cx="6840720" cy="863640"/>
              </a:xfrm>
              <a:prstGeom prst="leftRightArrow">
                <a:avLst>
                  <a:gd name="adj1" fmla="val 65074"/>
                  <a:gd name="adj2" fmla="val 79795"/>
                </a:avLst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anomaväylä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924360" y="4581720"/>
                <a:ext cx="1224000" cy="647640"/>
              </a:xfrm>
              <a:prstGeom prst="rect">
                <a:avLst/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Sanoma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muokka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5292720" y="4581720"/>
              <a:ext cx="1224000" cy="647640"/>
            </a:xfrm>
            <a:prstGeom prst="rect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Sanoma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reitit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8000" y="630000"/>
            <a:ext cx="87217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Integraatioratkaisun osat – Portaali-integraati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2124000" y="4579920"/>
            <a:ext cx="1511280" cy="1512720"/>
            <a:chOff x="2124000" y="4579920"/>
            <a:chExt cx="1511280" cy="1512720"/>
          </a:xfrm>
        </p:grpSpPr>
        <p:sp>
          <p:nvSpPr>
            <p:cNvPr id="896" name=""/>
            <p:cNvSpPr/>
            <p:nvPr/>
          </p:nvSpPr>
          <p:spPr>
            <a:xfrm>
              <a:off x="2268360" y="4579920"/>
              <a:ext cx="1224000" cy="64764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Prosessi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ohja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2124000" y="5300640"/>
              <a:ext cx="1511280" cy="792000"/>
              <a:chOff x="2124000" y="5300640"/>
              <a:chExt cx="1511280" cy="792000"/>
            </a:xfrm>
          </p:grpSpPr>
          <p:sp>
            <p:nvSpPr>
              <p:cNvPr id="898" name=""/>
              <p:cNvSpPr/>
              <p:nvPr/>
            </p:nvSpPr>
            <p:spPr>
              <a:xfrm>
                <a:off x="2124000" y="5300640"/>
                <a:ext cx="1511280" cy="792000"/>
              </a:xfrm>
              <a:prstGeom prst="rect">
                <a:avLst/>
              </a:pr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Prosessie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mallinn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9" name=""/>
              <p:cNvGrpSpPr/>
              <p:nvPr/>
            </p:nvGrpSpPr>
            <p:grpSpPr>
              <a:xfrm>
                <a:off x="2266560" y="5375160"/>
                <a:ext cx="1168200" cy="214200"/>
                <a:chOff x="2266560" y="5375160"/>
                <a:chExt cx="1168200" cy="21420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22665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4789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69100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9037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1161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05" name=""/>
          <p:cNvSpPr/>
          <p:nvPr/>
        </p:nvSpPr>
        <p:spPr>
          <a:xfrm>
            <a:off x="2048040" y="6219720"/>
            <a:ext cx="16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rosessienhalli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979640" y="3549600"/>
            <a:ext cx="720720" cy="2160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03640" y="3549600"/>
            <a:ext cx="720720" cy="2160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692360" y="347832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ovellussovitti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003640" y="3048120"/>
            <a:ext cx="865440" cy="574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Portaa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442200" y="3048120"/>
            <a:ext cx="1009440" cy="574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Ulkoi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Liittym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04000" y="2109960"/>
            <a:ext cx="432000" cy="43308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227640" y="2109960"/>
            <a:ext cx="432000" cy="43308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80360" y="2108160"/>
            <a:ext cx="431640" cy="43344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150960" y="182232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Ulkoiset järjestelm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435640" y="3693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16720" y="2614680"/>
            <a:ext cx="21600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20000" y="261468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7235640" y="2614680"/>
            <a:ext cx="36036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5207040" y="2138400"/>
            <a:ext cx="706320" cy="90000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4211640" y="154296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siakkaat, Kumppan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yöntekij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48360" y="3693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593120" y="311796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1619280" y="2629080"/>
            <a:ext cx="2665440" cy="576000"/>
            <a:chOff x="1619280" y="2629080"/>
            <a:chExt cx="2665440" cy="576000"/>
          </a:xfrm>
        </p:grpSpPr>
        <p:sp>
          <p:nvSpPr>
            <p:cNvPr id="924" name=""/>
            <p:cNvSpPr/>
            <p:nvPr/>
          </p:nvSpPr>
          <p:spPr>
            <a:xfrm>
              <a:off x="1619280" y="2629080"/>
              <a:ext cx="79236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556000" y="2629080"/>
              <a:ext cx="79236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92720" y="2629080"/>
              <a:ext cx="79200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824040" y="339264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A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37120" y="340668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orta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340000" y="3191040"/>
            <a:ext cx="7128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276720" y="3189240"/>
            <a:ext cx="2156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564000" y="3262320"/>
            <a:ext cx="287280" cy="21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64000" y="38368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411280" y="383868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Portaali-integraati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leisiä vaatimuk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velluksen tietojen esittäminen portaalissa (content aggreg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3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ojen replikointi vs. reaaliaikainen h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vellustapahtumien ja sovellustilojen esittäminen portaalissa (Event Based Workspace, Enterprise Portal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3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rilaiset portlet-teknologiat yhdistettynä sovellusintegraati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vellusten käyttö portaalin lävitse (Portal Workspace, Portal Desk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tegrointi sisällönhallinnan menettelyihin ja järjestelmiin (Content Management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rtaalityypillä on suuri vaikutus vaadittuun integraatiotaso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Portaalityypi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826920" y="1844640"/>
            <a:ext cx="7833600" cy="4826160"/>
            <a:chOff x="826920" y="1844640"/>
            <a:chExt cx="7833600" cy="4826160"/>
          </a:xfrm>
        </p:grpSpPr>
        <p:sp>
          <p:nvSpPr>
            <p:cNvPr id="938" name=""/>
            <p:cNvSpPr/>
            <p:nvPr/>
          </p:nvSpPr>
          <p:spPr>
            <a:xfrm>
              <a:off x="2843280" y="1916280"/>
              <a:ext cx="5473800" cy="4537080"/>
            </a:xfrm>
            <a:prstGeom prst="ellipse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80000" y="2709720"/>
              <a:ext cx="4248000" cy="3024360"/>
            </a:xfrm>
            <a:prstGeom prst="ellipse">
              <a:avLst/>
            </a:prstGeom>
            <a:solidFill>
              <a:srgbClr val="b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05240" y="3235320"/>
              <a:ext cx="2067120" cy="914400"/>
            </a:xfrm>
            <a:prstGeom prst="ellipse">
              <a:avLst/>
            </a:prstGeom>
            <a:solidFill>
              <a:srgbClr val="b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84720" y="4386240"/>
              <a:ext cx="2066760" cy="914400"/>
            </a:xfrm>
            <a:prstGeom prst="ellipse">
              <a:avLst/>
            </a:prstGeom>
            <a:solidFill>
              <a:srgbClr val="b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26920" y="1844640"/>
              <a:ext cx="1368720" cy="4537080"/>
            </a:xfrm>
            <a:prstGeom prst="ellipse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619280" y="3429000"/>
              <a:ext cx="1873080" cy="1655640"/>
            </a:xfrm>
            <a:prstGeom prst="ellipse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62160" y="2084400"/>
              <a:ext cx="154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ffffff"/>
                  </a:solidFill>
                  <a:latin typeface="Arial"/>
                </a:rPr>
                <a:t>Yritysportaa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57840" y="3927600"/>
              <a:ext cx="1081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ffffff"/>
                  </a:solidFill>
                  <a:latin typeface="Arial"/>
                </a:rPr>
                <a:t>Sovellu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ffffff"/>
                  </a:solidFill>
                  <a:latin typeface="Arial"/>
                </a:rPr>
                <a:t>portaa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431600" y="3573360"/>
              <a:ext cx="182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ffffff"/>
                  </a:solidFill>
                  <a:latin typeface="Arial"/>
                </a:rPr>
                <a:t>Tiedotusportaa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31600" y="4653000"/>
              <a:ext cx="185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ffffff"/>
                  </a:solidFill>
                  <a:latin typeface="Arial"/>
                </a:rPr>
                <a:t>Tietämysportaa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951920" y="3860640"/>
              <a:ext cx="125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Sähköis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asioin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portaa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69200" y="2674800"/>
              <a:ext cx="97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Julki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portaa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720920" y="6424560"/>
              <a:ext cx="93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000" spc="-1" strike="noStrike">
                  <a:solidFill>
                    <a:srgbClr val="e87000"/>
                  </a:solidFill>
                  <a:latin typeface="Arial"/>
                </a:rPr>
                <a:t>Lähde: Ov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Portaalityypit (2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iedotusportaa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iedon jakamiseen keskittyvät ”perinteiset” intranet-portaa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ietämysportaa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iedon synnyttämiseen ja käsittelyyn keskittyvät työskentelyportaalit. Portaalissa tapahtuva yhteistyö toisten käyttäjien kanssa ja portaalin ryhmätyö-ominaisuudet korostuuv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ovellusportaa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yöskentelyportaali. Portaali on käyttäjän ”työpöytä”. Portaalin tehokas integraatio operatiivisiin tietojärjestelmiin korost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Yritysportaa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Portaali sisältää edellä mainittuja toiminnalisuuksia. Usein osia portaalista on avoinna myös kumppane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ähköisen asioinnin portaa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ovellusportaali, joka on suunnattu yrityksen ulkopuolisille käyttäjille. Logiikkaa on sovellusportaalia enemmän portaalissa, mutta integraatio operatiivisiin tietojärjestelmiin on edelleen kriittinen tekij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Julkisen Internetin portaa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iedotusportaali internetissä”. Ei useinkaan merkittäviä integraatioita operatiivisiin järjestelmiin – sisällönhallinnan merkitys korostu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826920" y="2347920"/>
            <a:ext cx="6337440" cy="288144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16200000">
            <a:off x="255960" y="3690000"/>
            <a:ext cx="1768680" cy="337320"/>
          </a:xfrm>
          <a:prstGeom prst="rect">
            <a:avLst/>
          </a:prstGeom>
          <a:solidFill>
            <a:srgbClr val="e8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Sovelluspalve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Yleinen portaaliarkkitehtuur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812000" y="3355920"/>
            <a:ext cx="720720" cy="936720"/>
          </a:xfrm>
          <a:prstGeom prst="can">
            <a:avLst>
              <a:gd name="adj" fmla="val 25000"/>
            </a:avLst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79640" y="2563920"/>
            <a:ext cx="5040360" cy="504720"/>
          </a:xfrm>
          <a:prstGeom prst="rect">
            <a:avLst/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Esitystapapalvel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(personointi, mukauttaminen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979640" y="3859200"/>
            <a:ext cx="5040360" cy="504720"/>
          </a:xfrm>
          <a:prstGeom prst="rect">
            <a:avLst/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Portaalipalvel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(työnkulut, yhteistyö, sisältö, luokittelu, haku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979640" y="4506840"/>
            <a:ext cx="5040360" cy="504720"/>
          </a:xfrm>
          <a:prstGeom prst="rect">
            <a:avLst/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Liittymäpalvel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(aggregaatio, integraatio, provisiointi 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6200000">
            <a:off x="360360" y="3534840"/>
            <a:ext cx="2447640" cy="504720"/>
          </a:xfrm>
          <a:prstGeom prst="rect">
            <a:avLst/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Halli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sisältö, käyttäjät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979640" y="3211560"/>
            <a:ext cx="5040360" cy="504720"/>
          </a:xfrm>
          <a:prstGeom prst="rect">
            <a:avLst/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Käyttäjäpalvel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tunnistaminen, konteksti, sessio, profilointi, 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236000" y="3860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608960" y="3567240"/>
            <a:ext cx="113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Metatiet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vara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2846520" y="5516640"/>
            <a:ext cx="1438200" cy="1081080"/>
            <a:chOff x="2846520" y="5516640"/>
            <a:chExt cx="1438200" cy="1081080"/>
          </a:xfrm>
        </p:grpSpPr>
        <p:sp>
          <p:nvSpPr>
            <p:cNvPr id="965" name=""/>
            <p:cNvSpPr/>
            <p:nvPr/>
          </p:nvSpPr>
          <p:spPr>
            <a:xfrm>
              <a:off x="3494160" y="5516640"/>
              <a:ext cx="574920" cy="64764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710160" y="5732640"/>
              <a:ext cx="574560" cy="64764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46520" y="5518080"/>
              <a:ext cx="574920" cy="648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062520" y="5734080"/>
              <a:ext cx="574560" cy="64764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78520" y="5950080"/>
              <a:ext cx="574560" cy="64764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3492360" y="5084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loud"/>
          <p:cNvSpPr/>
          <p:nvPr/>
        </p:nvSpPr>
        <p:spPr>
          <a:xfrm>
            <a:off x="5003640" y="5587920"/>
            <a:ext cx="1731960" cy="968400"/>
          </a:xfrm>
          <a:prstGeom prst="pie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Web-sivust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940360" y="5084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345040" y="5848200"/>
            <a:ext cx="255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Sovellukset, tietokanna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iedostopalveli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2700360" y="1486080"/>
            <a:ext cx="3494160" cy="718560"/>
            <a:chOff x="2700360" y="1486080"/>
            <a:chExt cx="3494160" cy="718560"/>
          </a:xfrm>
        </p:grpSpPr>
        <p:pic>
          <p:nvPicPr>
            <p:cNvPr id="975" name="" descr=""/>
            <p:cNvPicPr/>
            <p:nvPr/>
          </p:nvPicPr>
          <p:blipFill>
            <a:blip r:embed="rId1"/>
            <a:stretch/>
          </p:blipFill>
          <p:spPr>
            <a:xfrm>
              <a:off x="2700360" y="1490400"/>
              <a:ext cx="66672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2"/>
            <a:stretch/>
          </p:blipFill>
          <p:spPr>
            <a:xfrm>
              <a:off x="5527800" y="1486080"/>
              <a:ext cx="66672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3"/>
            <a:stretch/>
          </p:blipFill>
          <p:spPr>
            <a:xfrm>
              <a:off x="3656160" y="1486080"/>
              <a:ext cx="66672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4"/>
            <a:stretch/>
          </p:blipFill>
          <p:spPr>
            <a:xfrm>
              <a:off x="4645080" y="1486080"/>
              <a:ext cx="66672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9" name=""/>
          <p:cNvSpPr/>
          <p:nvPr/>
        </p:nvSpPr>
        <p:spPr>
          <a:xfrm>
            <a:off x="6302880" y="179712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Käyttäj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19000" y="2057400"/>
            <a:ext cx="7537680" cy="4191120"/>
          </a:xfrm>
          <a:prstGeom prst="upArrow">
            <a:avLst>
              <a:gd name="adj1" fmla="val 88611"/>
              <a:gd name="adj2" fmla="val 39583"/>
            </a:avLst>
          </a:prstGeom>
          <a:solidFill>
            <a:srgbClr val="e4e9ec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05080" y="3657600"/>
            <a:ext cx="814320" cy="2514600"/>
          </a:xfrm>
          <a:prstGeom prst="rect">
            <a:avLst/>
          </a:prstGeom>
          <a:solidFill>
            <a:srgbClr val="b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el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viestint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22360" y="3657600"/>
            <a:ext cx="814680" cy="2514600"/>
          </a:xfrm>
          <a:prstGeom prst="rect">
            <a:avLst/>
          </a:prstGeom>
          <a:solidFill>
            <a:srgbClr val="b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ff"/>
                </a:solidFill>
                <a:latin typeface="Arial"/>
              </a:rPr>
              <a:t>Rahoi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ff"/>
                </a:solidFill>
                <a:latin typeface="Arial"/>
              </a:rPr>
              <a:t>j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ff"/>
                </a:solidFill>
                <a:latin typeface="Arial"/>
              </a:rPr>
              <a:t>vakuu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41800" y="3657600"/>
            <a:ext cx="814320" cy="2514600"/>
          </a:xfrm>
          <a:prstGeom prst="rect">
            <a:avLst/>
          </a:prstGeom>
          <a:solidFill>
            <a:srgbClr val="b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ff"/>
                </a:solidFill>
                <a:latin typeface="Arial"/>
              </a:rPr>
              <a:t>Palvel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78160" y="3657600"/>
            <a:ext cx="814680" cy="2514600"/>
          </a:xfrm>
          <a:prstGeom prst="rect">
            <a:avLst/>
          </a:prstGeom>
          <a:solidFill>
            <a:srgbClr val="b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ff"/>
                </a:solidFill>
                <a:latin typeface="Arial"/>
              </a:rPr>
              <a:t>Teollisu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76720" y="3657600"/>
            <a:ext cx="816120" cy="2514600"/>
          </a:xfrm>
          <a:prstGeom prst="rect">
            <a:avLst/>
          </a:prstGeom>
          <a:solidFill>
            <a:srgbClr val="b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ff"/>
                </a:solidFill>
                <a:latin typeface="Arial"/>
              </a:rPr>
              <a:t>Val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06960" y="3657600"/>
            <a:ext cx="814680" cy="2514600"/>
          </a:xfrm>
          <a:prstGeom prst="rect">
            <a:avLst/>
          </a:prstGeom>
          <a:solidFill>
            <a:srgbClr val="b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ff"/>
                </a:solidFill>
                <a:latin typeface="Arial"/>
              </a:rPr>
              <a:t>Kun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15240" y="3657600"/>
            <a:ext cx="814320" cy="2514600"/>
          </a:xfrm>
          <a:prstGeom prst="rect">
            <a:avLst/>
          </a:prstGeom>
          <a:solidFill>
            <a:srgbClr val="b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ff"/>
                </a:solidFill>
                <a:latin typeface="Arial"/>
              </a:rPr>
              <a:t>Terveyd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ff"/>
                </a:solidFill>
                <a:latin typeface="Arial"/>
              </a:rPr>
              <a:t>huo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28760" y="5638680"/>
            <a:ext cx="6477120" cy="533520"/>
            <a:chOff x="1328760" y="5638680"/>
            <a:chExt cx="6477120" cy="533520"/>
          </a:xfrm>
        </p:grpSpPr>
        <p:sp>
          <p:nvSpPr>
            <p:cNvPr id="210" name=""/>
            <p:cNvSpPr/>
            <p:nvPr/>
          </p:nvSpPr>
          <p:spPr>
            <a:xfrm>
              <a:off x="1328760" y="5638680"/>
              <a:ext cx="6477120" cy="53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28760" y="5767200"/>
              <a:ext cx="3825360" cy="307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ffffff"/>
                  </a:solidFill>
                  <a:latin typeface="Arial"/>
                </a:rPr>
                <a:t>Infraratkais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0280" y="620280"/>
            <a:ext cx="833256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M-datan asiakastoimiala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328760" y="4952880"/>
            <a:ext cx="6477120" cy="533160"/>
            <a:chOff x="1328760" y="4952880"/>
            <a:chExt cx="6477120" cy="533160"/>
          </a:xfrm>
        </p:grpSpPr>
        <p:sp>
          <p:nvSpPr>
            <p:cNvPr id="214" name=""/>
            <p:cNvSpPr/>
            <p:nvPr/>
          </p:nvSpPr>
          <p:spPr>
            <a:xfrm>
              <a:off x="1328760" y="4952880"/>
              <a:ext cx="6477120" cy="533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28760" y="4991040"/>
              <a:ext cx="6334560" cy="27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633760" y="5029200"/>
            <a:ext cx="140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i-FI" sz="1400" spc="-1" strike="noStrike">
                <a:solidFill>
                  <a:srgbClr val="ffffff"/>
                </a:solidFill>
                <a:latin typeface="Arial"/>
              </a:rPr>
              <a:t>Toimialariippumattomat erityispalvelut</a:t>
            </a:r>
            <a:r>
              <a:rPr b="1" lang="fi-FI" sz="1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Portaalit ja Integraati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471168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rtaalin sisältö kootaan useasta eri lähtees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rtaalissa työskentelyn tulokset on vietävä operatiivisiin tietojärjestelm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rtaalin asiointiprosessit liittyvät laajempiin liiketoimintaprosesseih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rtaalin hallinnollinen infrastruktuuri on yhteistä muun järjestelmäinfrastruktuurin kans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m. käyttäjienhall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5129640" y="2565360"/>
            <a:ext cx="3837600" cy="2231640"/>
            <a:chOff x="5129640" y="2565360"/>
            <a:chExt cx="3837600" cy="2231640"/>
          </a:xfrm>
        </p:grpSpPr>
        <p:sp>
          <p:nvSpPr>
            <p:cNvPr id="983" name=""/>
            <p:cNvSpPr/>
            <p:nvPr/>
          </p:nvSpPr>
          <p:spPr>
            <a:xfrm>
              <a:off x="5578920" y="3444840"/>
              <a:ext cx="2929320" cy="540720"/>
            </a:xfrm>
            <a:prstGeom prst="rect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Portaa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50880" y="2565360"/>
              <a:ext cx="1037160" cy="473760"/>
            </a:xfrm>
            <a:prstGeom prst="rect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Intra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776360" y="2565360"/>
              <a:ext cx="1037160" cy="473760"/>
            </a:xfrm>
            <a:prstGeom prst="rect">
              <a:avLst/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5129640" y="4257720"/>
              <a:ext cx="1054080" cy="539280"/>
              <a:chOff x="5129640" y="4257720"/>
              <a:chExt cx="1054080" cy="539280"/>
            </a:xfrm>
          </p:grpSpPr>
          <p:sp>
            <p:nvSpPr>
              <p:cNvPr id="987" name=""/>
              <p:cNvSpPr/>
              <p:nvPr/>
            </p:nvSpPr>
            <p:spPr>
              <a:xfrm>
                <a:off x="5150880" y="4324680"/>
                <a:ext cx="365760" cy="472320"/>
              </a:xfrm>
              <a:prstGeom prst="can">
                <a:avLst>
                  <a:gd name="adj" fmla="val 25000"/>
                </a:avLst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761800" y="4324680"/>
                <a:ext cx="365760" cy="472320"/>
              </a:xfrm>
              <a:prstGeom prst="can">
                <a:avLst>
                  <a:gd name="adj" fmla="val 25000"/>
                </a:avLst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129640" y="4257720"/>
                <a:ext cx="1054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Tiedosto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palvelim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451200" y="4324320"/>
              <a:ext cx="1171440" cy="472680"/>
              <a:chOff x="6451200" y="4324320"/>
              <a:chExt cx="1171440" cy="472680"/>
            </a:xfrm>
          </p:grpSpPr>
          <p:sp>
            <p:nvSpPr>
              <p:cNvPr id="991" name=""/>
              <p:cNvSpPr/>
              <p:nvPr/>
            </p:nvSpPr>
            <p:spPr>
              <a:xfrm>
                <a:off x="6555600" y="4324320"/>
                <a:ext cx="366120" cy="472680"/>
              </a:xfrm>
              <a:prstGeom prst="can">
                <a:avLst>
                  <a:gd name="adj" fmla="val 25000"/>
                </a:avLst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165440" y="4324320"/>
                <a:ext cx="365760" cy="472680"/>
              </a:xfrm>
              <a:prstGeom prst="can">
                <a:avLst>
                  <a:gd name="adj" fmla="val 25000"/>
                </a:avLst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451200" y="4394160"/>
                <a:ext cx="117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Sovelluks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7788240" y="4324320"/>
              <a:ext cx="1179000" cy="472680"/>
              <a:chOff x="7788240" y="4324320"/>
              <a:chExt cx="1179000" cy="472680"/>
            </a:xfrm>
          </p:grpSpPr>
          <p:sp>
            <p:nvSpPr>
              <p:cNvPr id="995" name=""/>
              <p:cNvSpPr/>
              <p:nvPr/>
            </p:nvSpPr>
            <p:spPr>
              <a:xfrm>
                <a:off x="7898760" y="4324320"/>
                <a:ext cx="365760" cy="472680"/>
              </a:xfrm>
              <a:prstGeom prst="can">
                <a:avLst>
                  <a:gd name="adj" fmla="val 25000"/>
                </a:avLst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508240" y="4324320"/>
                <a:ext cx="365760" cy="472680"/>
              </a:xfrm>
              <a:prstGeom prst="can">
                <a:avLst>
                  <a:gd name="adj" fmla="val 25000"/>
                </a:avLst>
              </a:prstGeom>
              <a:solidFill>
                <a:srgbClr val="b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788240" y="439416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Tietokanna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6067440" y="3106440"/>
              <a:ext cx="243720" cy="27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7653240" y="3106440"/>
              <a:ext cx="243720" cy="27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5639400" y="4052880"/>
              <a:ext cx="182880" cy="20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8202600" y="4052880"/>
              <a:ext cx="182520" cy="20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042680" y="4052880"/>
              <a:ext cx="0" cy="27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Aggregaatio ja Integraatio – </a:t>
            </a:r>
            <a:br>
              <a:rPr sz="3000"/>
            </a:b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Sisällön Aggregoint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426384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rtaalin sisältö kootaan useasta eri lähtees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ortaalin omat sivut ja templat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isältö haetaan toisista portaaleista, yhdistellään ja kootaan yhteen näkymää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isältö kootaan tiedostopalvelimista, sovellusten esittämästä ja niiden tallentamasta sisällöst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oja ei käsitellä portaalissa vaan ainoastaan esitetään  joten niitä ei tarvitse päivittää alkuperäisiin tietolähteis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106960" y="2349360"/>
            <a:ext cx="3640320" cy="1411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751360" y="3056040"/>
            <a:ext cx="747720" cy="40320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140600" y="2752560"/>
            <a:ext cx="965160" cy="40356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6178680" y="2952720"/>
            <a:ext cx="1392120" cy="30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003640" y="4367160"/>
            <a:ext cx="641520" cy="604800"/>
          </a:xfrm>
          <a:prstGeom prst="can">
            <a:avLst>
              <a:gd name="adj" fmla="val 2500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026120" y="4368960"/>
            <a:ext cx="641520" cy="606240"/>
          </a:xfrm>
          <a:prstGeom prst="can">
            <a:avLst>
              <a:gd name="adj" fmla="val 2500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537160" y="3560400"/>
            <a:ext cx="426960" cy="60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491240" y="3459240"/>
            <a:ext cx="536760" cy="403200"/>
          </a:xfrm>
          <a:prstGeom prst="rect">
            <a:avLst/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891560" y="4367160"/>
            <a:ext cx="641160" cy="604800"/>
          </a:xfrm>
          <a:prstGeom prst="can">
            <a:avLst>
              <a:gd name="adj" fmla="val 2500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7381800" y="3933360"/>
            <a:ext cx="142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 flipV="1">
            <a:off x="7956360" y="3933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740720" y="295272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111280" y="244944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Porta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Cloud"/>
          <p:cNvSpPr/>
          <p:nvPr/>
        </p:nvSpPr>
        <p:spPr>
          <a:xfrm>
            <a:off x="5796000" y="4365720"/>
            <a:ext cx="936720" cy="523800"/>
          </a:xfrm>
          <a:prstGeom prst="pie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 flipV="1">
            <a:off x="6227280" y="3573000"/>
            <a:ext cx="7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Aggregaatio ja Integraatio - Sovellusintegraati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419112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ikäli sovelluksista (tai muista ulkoisista tietolähteistä) aggregoitua tietoa käsitellään portaalissa on muuttuneet tiedot talletettava takaisin sovelluk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rosessi- ja tietoeheys- vaatimukset tuovat vaatimuksia integraatio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jantasaisuus, tietojen olemassaolo,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ovelluslogiikan sijainti ja jakautuminen on huomioi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ovellusten keskinäiset roolit ja sovellusten välistet integraati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508720" y="3213000"/>
            <a:ext cx="3025800" cy="122400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90960" y="328464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orta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516720" y="5299200"/>
            <a:ext cx="934920" cy="865080"/>
          </a:xfrm>
          <a:prstGeom prst="can">
            <a:avLst>
              <a:gd name="adj" fmla="val 25000"/>
            </a:avLst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292720" y="5300640"/>
            <a:ext cx="934920" cy="865080"/>
          </a:xfrm>
          <a:prstGeom prst="can">
            <a:avLst>
              <a:gd name="adj" fmla="val 25000"/>
            </a:avLst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740720" y="5299200"/>
            <a:ext cx="934920" cy="865080"/>
          </a:xfrm>
          <a:prstGeom prst="can">
            <a:avLst>
              <a:gd name="adj" fmla="val 25000"/>
            </a:avLst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1"/>
          <a:stretch/>
        </p:blipFill>
        <p:spPr>
          <a:xfrm>
            <a:off x="6583320" y="2071800"/>
            <a:ext cx="993960" cy="691920"/>
          </a:xfrm>
          <a:prstGeom prst="rect">
            <a:avLst/>
          </a:prstGeom>
          <a:ln w="0">
            <a:noFill/>
          </a:ln>
        </p:spPr>
      </p:pic>
      <p:grpSp>
        <p:nvGrpSpPr>
          <p:cNvPr id="1028" name=""/>
          <p:cNvGrpSpPr/>
          <p:nvPr/>
        </p:nvGrpSpPr>
        <p:grpSpPr>
          <a:xfrm>
            <a:off x="6012000" y="3860280"/>
            <a:ext cx="1944360" cy="216000"/>
            <a:chOff x="6012000" y="3860280"/>
            <a:chExt cx="1944360" cy="216000"/>
          </a:xfrm>
        </p:grpSpPr>
        <p:sp>
          <p:nvSpPr>
            <p:cNvPr id="1029" name=""/>
            <p:cNvSpPr/>
            <p:nvPr/>
          </p:nvSpPr>
          <p:spPr>
            <a:xfrm>
              <a:off x="6012000" y="3860640"/>
              <a:ext cx="422640" cy="21564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265440" y="3859920"/>
              <a:ext cx="422640" cy="21564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-360 h 215640"/>
                <a:gd name="textAreaBottom" fmla="*/ 2156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519240" y="3860640"/>
              <a:ext cx="422640" cy="21564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72680" y="3860640"/>
              <a:ext cx="422640" cy="21564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026480" y="3860640"/>
              <a:ext cx="422640" cy="21564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280280" y="3860640"/>
              <a:ext cx="422640" cy="21564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533720" y="3860640"/>
              <a:ext cx="422640" cy="21564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6" name=""/>
          <p:cNvCxnSpPr>
            <a:stCxn id="1027" idx="1"/>
            <a:endCxn id="1029" idx="0"/>
          </p:cNvCxnSpPr>
          <p:nvPr/>
        </p:nvCxnSpPr>
        <p:spPr>
          <a:xfrm flipV="1" rot="10800000">
            <a:off x="6117480" y="2302560"/>
            <a:ext cx="399240" cy="1665720"/>
          </a:xfrm>
          <a:prstGeom prst="bentConnector3">
            <a:avLst>
              <a:gd name="adj1" fmla="val 1840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7" name=""/>
          <p:cNvGrpSpPr/>
          <p:nvPr/>
        </p:nvGrpSpPr>
        <p:grpSpPr>
          <a:xfrm>
            <a:off x="6664320" y="5445000"/>
            <a:ext cx="644040" cy="216000"/>
            <a:chOff x="6664320" y="5445000"/>
            <a:chExt cx="644040" cy="216000"/>
          </a:xfrm>
        </p:grpSpPr>
        <p:sp>
          <p:nvSpPr>
            <p:cNvPr id="1038" name=""/>
            <p:cNvSpPr/>
            <p:nvPr/>
          </p:nvSpPr>
          <p:spPr>
            <a:xfrm>
              <a:off x="6664320" y="5445000"/>
              <a:ext cx="350640" cy="21600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6846480" y="5445000"/>
              <a:ext cx="421920" cy="21600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360 h 216000"/>
                <a:gd name="textAreaBottom" fmla="*/ 21672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24320" y="5445000"/>
              <a:ext cx="284040" cy="216000"/>
            </a:xfrm>
            <a:custGeom>
              <a:avLst/>
              <a:gdLst>
                <a:gd name="textAreaLeft" fmla="*/ 0 w 284040"/>
                <a:gd name="textAreaRight" fmla="*/ 284040 w 2840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87920" y="5877000"/>
            <a:ext cx="352440" cy="216000"/>
          </a:xfrm>
          <a:custGeom>
            <a:avLst/>
            <a:gdLst>
              <a:gd name="textAreaLeft" fmla="*/ 0 w 352440"/>
              <a:gd name="textAreaRight" fmla="*/ 352800 w 352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5370480" y="5445000"/>
            <a:ext cx="713880" cy="216000"/>
            <a:chOff x="5370480" y="5445000"/>
            <a:chExt cx="713880" cy="216000"/>
          </a:xfrm>
        </p:grpSpPr>
        <p:sp>
          <p:nvSpPr>
            <p:cNvPr id="1043" name=""/>
            <p:cNvSpPr/>
            <p:nvPr/>
          </p:nvSpPr>
          <p:spPr>
            <a:xfrm>
              <a:off x="5370480" y="5445000"/>
              <a:ext cx="324000" cy="21600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565600" y="5445000"/>
              <a:ext cx="324000" cy="21600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760360" y="5445000"/>
              <a:ext cx="324000" cy="21600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6" name=""/>
          <p:cNvCxnSpPr>
            <a:stCxn id="1029" idx="1"/>
            <a:endCxn id="1043" idx="0"/>
          </p:cNvCxnSpPr>
          <p:nvPr/>
        </p:nvCxnSpPr>
        <p:spPr>
          <a:xfrm rot="5400000">
            <a:off x="5072400" y="4455000"/>
            <a:ext cx="1477080" cy="720000"/>
          </a:xfrm>
          <a:prstGeom prst="bentConnector4">
            <a:avLst>
              <a:gd name="adj1" fmla="val 46318"/>
              <a:gd name="adj2" fmla="val 14302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7" name=""/>
          <p:cNvCxnSpPr>
            <a:stCxn id="1045" idx="0"/>
            <a:endCxn id="1030" idx="0"/>
          </p:cNvCxnSpPr>
          <p:nvPr/>
        </p:nvCxnSpPr>
        <p:spPr>
          <a:xfrm flipV="1">
            <a:off x="6084720" y="4075920"/>
            <a:ext cx="339120" cy="1477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8" name=""/>
          <p:cNvCxnSpPr>
            <a:stCxn id="1031" idx="0"/>
            <a:endCxn id="1027" idx="2"/>
          </p:cNvCxnSpPr>
          <p:nvPr/>
        </p:nvCxnSpPr>
        <p:spPr>
          <a:xfrm flipH="1" flipV="1" rot="5400000">
            <a:off x="6226200" y="3088800"/>
            <a:ext cx="1224360" cy="319680"/>
          </a:xfrm>
          <a:prstGeom prst="bentConnector3">
            <a:avLst>
              <a:gd name="adj1" fmla="val 4991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9" name=""/>
          <p:cNvCxnSpPr>
            <a:stCxn id="1033" idx="0"/>
            <a:endCxn id="1038" idx="0"/>
          </p:cNvCxnSpPr>
          <p:nvPr/>
        </p:nvCxnSpPr>
        <p:spPr>
          <a:xfrm rot="5400000">
            <a:off x="6229440" y="4597920"/>
            <a:ext cx="1477080" cy="433800"/>
          </a:xfrm>
          <a:prstGeom prst="bentConnector4">
            <a:avLst>
              <a:gd name="adj1" fmla="val 46318"/>
              <a:gd name="adj2" fmla="val 15705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0" name=""/>
          <p:cNvCxnSpPr>
            <a:stCxn id="1039" idx="0"/>
            <a:endCxn id="1041" idx="0"/>
          </p:cNvCxnSpPr>
          <p:nvPr/>
        </p:nvCxnSpPr>
        <p:spPr>
          <a:xfrm rot="5400000">
            <a:off x="6177600" y="5159160"/>
            <a:ext cx="324720" cy="1328040"/>
          </a:xfrm>
          <a:prstGeom prst="bentConnector4">
            <a:avLst>
              <a:gd name="adj1" fmla="val 33296"/>
              <a:gd name="adj2" fmla="val 12391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1" name=""/>
          <p:cNvCxnSpPr>
            <a:stCxn id="1041" idx="1"/>
            <a:endCxn id="1040" idx="0"/>
          </p:cNvCxnSpPr>
          <p:nvPr/>
        </p:nvCxnSpPr>
        <p:spPr>
          <a:xfrm flipV="1">
            <a:off x="5940000" y="5660640"/>
            <a:ext cx="1191240" cy="3247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2" name=""/>
          <p:cNvCxnSpPr>
            <a:stCxn id="1040" idx="1"/>
            <a:endCxn id="1034" idx="0"/>
          </p:cNvCxnSpPr>
          <p:nvPr/>
        </p:nvCxnSpPr>
        <p:spPr>
          <a:xfrm flipV="1">
            <a:off x="7308720" y="4075920"/>
            <a:ext cx="131040" cy="1477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3" name=""/>
          <p:cNvCxnSpPr>
            <a:stCxn id="1035" idx="0"/>
            <a:endCxn id="1027" idx="3"/>
          </p:cNvCxnSpPr>
          <p:nvPr/>
        </p:nvCxnSpPr>
        <p:spPr>
          <a:xfrm flipH="1" flipV="1">
            <a:off x="7476840" y="2302920"/>
            <a:ext cx="480240" cy="1665720"/>
          </a:xfrm>
          <a:prstGeom prst="bentConnector3">
            <a:avLst>
              <a:gd name="adj1" fmla="val -4763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4" name=""/>
          <p:cNvCxnSpPr>
            <a:stCxn id="1035" idx="1"/>
            <a:endCxn id="1055" idx="0"/>
          </p:cNvCxnSpPr>
          <p:nvPr/>
        </p:nvCxnSpPr>
        <p:spPr>
          <a:xfrm flipH="1" rot="16200000">
            <a:off x="7284240" y="4484880"/>
            <a:ext cx="1369080" cy="5515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5" name=""/>
          <p:cNvSpPr/>
          <p:nvPr/>
        </p:nvSpPr>
        <p:spPr>
          <a:xfrm>
            <a:off x="8028000" y="5445000"/>
            <a:ext cx="431640" cy="503280"/>
          </a:xfrm>
          <a:prstGeom prst="foldedCorner">
            <a:avLst>
              <a:gd name="adj" fmla="val 47425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Integraatiologiikan sijaint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66360" y="3860640"/>
            <a:ext cx="3809880" cy="2664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ortaal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ortaalikomponentti on sidottu useaan operatiiviseen järjestelmää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ovelluslogiikkaa on runsaasti portaali-komponentissa (portleteis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okonaisuuden hallinta usein ongelmall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Olemassa olevat järjestelmäintegraatio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28880" y="3851280"/>
            <a:ext cx="3809880" cy="2673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ntegraatioalustas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ortaalikomponentti on sidoksissa integraatioalustaan (tai vain yhteen operatiiviseen järjestelmää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ovelluslogiikan sijainnissa enemmän vapauk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okonaisuuden hallinta helpompa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957240" y="1824120"/>
            <a:ext cx="2449440" cy="1006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390680" y="2327400"/>
            <a:ext cx="503280" cy="28728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325600" y="2111400"/>
            <a:ext cx="649440" cy="28728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1677960" y="225432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87400" y="3262320"/>
            <a:ext cx="431640" cy="431640"/>
          </a:xfrm>
          <a:prstGeom prst="can">
            <a:avLst>
              <a:gd name="adj" fmla="val 2500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908000" y="3263760"/>
            <a:ext cx="432000" cy="432000"/>
          </a:xfrm>
          <a:prstGeom prst="can">
            <a:avLst>
              <a:gd name="adj" fmla="val 2500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1246320" y="26874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1677600" y="268740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470320" y="2614680"/>
            <a:ext cx="360360" cy="287280"/>
          </a:xfrm>
          <a:prstGeom prst="rect">
            <a:avLst/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16360" y="3262320"/>
            <a:ext cx="431640" cy="431640"/>
          </a:xfrm>
          <a:prstGeom prst="can">
            <a:avLst>
              <a:gd name="adj" fmla="val 2500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2340000" y="29750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757600" y="29750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685960" y="22543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958320" y="18954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orta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1332000" y="2924280"/>
            <a:ext cx="1079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46560" y="1844640"/>
            <a:ext cx="2449800" cy="1006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80000" y="2347920"/>
            <a:ext cx="503280" cy="28728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515280" y="2131920"/>
            <a:ext cx="649080" cy="287280"/>
          </a:xfrm>
          <a:prstGeom prst="rect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5867280" y="227484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076720" y="3282840"/>
            <a:ext cx="432000" cy="432000"/>
          </a:xfrm>
          <a:prstGeom prst="can">
            <a:avLst>
              <a:gd name="adj" fmla="val 2500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097680" y="3284640"/>
            <a:ext cx="431640" cy="431640"/>
          </a:xfrm>
          <a:prstGeom prst="can">
            <a:avLst>
              <a:gd name="adj" fmla="val 2500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435640" y="270792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5866920" y="270792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59640" y="2635200"/>
            <a:ext cx="360360" cy="287280"/>
          </a:xfrm>
          <a:prstGeom prst="rect">
            <a:avLst/>
          </a:prstGeom>
          <a:solidFill>
            <a:srgbClr val="f0a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105680" y="3282840"/>
            <a:ext cx="431640" cy="432000"/>
          </a:xfrm>
          <a:prstGeom prst="can">
            <a:avLst>
              <a:gd name="adj" fmla="val 2500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6529320" y="29955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5964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875640" y="22748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148000" y="19162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orta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5651640" y="3500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403280" y="2486160"/>
            <a:ext cx="3024360" cy="863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400400" y="218124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ovelluk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971640" y="3932280"/>
            <a:ext cx="7129440" cy="1368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788000" y="290196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35280" y="3046320"/>
            <a:ext cx="2233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300720" y="2901960"/>
            <a:ext cx="129564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221520" y="53341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Sanomavälitysratkai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908000" y="4437000"/>
            <a:ext cx="1872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1116000" y="4005360"/>
            <a:ext cx="6840720" cy="1224000"/>
            <a:chOff x="1116000" y="4005360"/>
            <a:chExt cx="6840720" cy="1224000"/>
          </a:xfrm>
        </p:grpSpPr>
        <p:grpSp>
          <p:nvGrpSpPr>
            <p:cNvPr id="1098" name=""/>
            <p:cNvGrpSpPr/>
            <p:nvPr/>
          </p:nvGrpSpPr>
          <p:grpSpPr>
            <a:xfrm>
              <a:off x="1116000" y="4005360"/>
              <a:ext cx="6840720" cy="1224000"/>
              <a:chOff x="1116000" y="4005360"/>
              <a:chExt cx="6840720" cy="1224000"/>
            </a:xfrm>
          </p:grpSpPr>
          <p:sp>
            <p:nvSpPr>
              <p:cNvPr id="1099" name=""/>
              <p:cNvSpPr/>
              <p:nvPr/>
            </p:nvSpPr>
            <p:spPr>
              <a:xfrm>
                <a:off x="1116000" y="4005360"/>
                <a:ext cx="6840720" cy="863640"/>
              </a:xfrm>
              <a:prstGeom prst="leftRightArrow">
                <a:avLst>
                  <a:gd name="adj1" fmla="val 65074"/>
                  <a:gd name="adj2" fmla="val 79795"/>
                </a:avLst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anomaväylä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924360" y="4581720"/>
                <a:ext cx="1224000" cy="647640"/>
              </a:xfrm>
              <a:prstGeom prst="rect">
                <a:avLst/>
              </a:prstGeom>
              <a:solidFill>
                <a:srgbClr val="f0ab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Sanoma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muokka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5292720" y="4581720"/>
              <a:ext cx="1224000" cy="647640"/>
            </a:xfrm>
            <a:prstGeom prst="rect">
              <a:avLst/>
            </a:prstGeom>
            <a:solidFill>
              <a:srgbClr val="f0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Sanoma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reitit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68000" y="630000"/>
            <a:ext cx="87217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Integraatioratkaisun osat – Ulkoiset liittymä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2124000" y="4579920"/>
            <a:ext cx="1511280" cy="1512720"/>
            <a:chOff x="2124000" y="4579920"/>
            <a:chExt cx="1511280" cy="1512720"/>
          </a:xfrm>
        </p:grpSpPr>
        <p:sp>
          <p:nvSpPr>
            <p:cNvPr id="1104" name=""/>
            <p:cNvSpPr/>
            <p:nvPr/>
          </p:nvSpPr>
          <p:spPr>
            <a:xfrm>
              <a:off x="2268360" y="4579920"/>
              <a:ext cx="1224000" cy="647640"/>
            </a:xfrm>
            <a:prstGeom prst="rect">
              <a:avLst/>
            </a:prstGeom>
            <a:solidFill>
              <a:srgbClr val="e87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Prosessi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</a:rPr>
                <a:t>ohja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2124000" y="5300640"/>
              <a:ext cx="1511280" cy="792000"/>
              <a:chOff x="2124000" y="5300640"/>
              <a:chExt cx="1511280" cy="792000"/>
            </a:xfrm>
          </p:grpSpPr>
          <p:sp>
            <p:nvSpPr>
              <p:cNvPr id="1106" name=""/>
              <p:cNvSpPr/>
              <p:nvPr/>
            </p:nvSpPr>
            <p:spPr>
              <a:xfrm>
                <a:off x="2124000" y="5300640"/>
                <a:ext cx="1511280" cy="792000"/>
              </a:xfrm>
              <a:prstGeom prst="rect">
                <a:avLst/>
              </a:prstGeom>
              <a:solidFill>
                <a:srgbClr val="e87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Prosessie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000000"/>
                    </a:solidFill>
                    <a:latin typeface="Arial"/>
                  </a:rPr>
                  <a:t>mallinn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7" name=""/>
              <p:cNvGrpSpPr/>
              <p:nvPr/>
            </p:nvGrpSpPr>
            <p:grpSpPr>
              <a:xfrm>
                <a:off x="2266560" y="5375160"/>
                <a:ext cx="1168200" cy="214200"/>
                <a:chOff x="2266560" y="5375160"/>
                <a:chExt cx="1168200" cy="2142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22665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24789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269100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29037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116160" y="5375160"/>
                  <a:ext cx="318600" cy="214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e87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13" name=""/>
          <p:cNvSpPr/>
          <p:nvPr/>
        </p:nvSpPr>
        <p:spPr>
          <a:xfrm>
            <a:off x="2048040" y="6219720"/>
            <a:ext cx="16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rosessienhalli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979640" y="3549600"/>
            <a:ext cx="720720" cy="2160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03640" y="3549600"/>
            <a:ext cx="720720" cy="21600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92360" y="347832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ovellussovitti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003640" y="3048120"/>
            <a:ext cx="865440" cy="574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Portaa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442200" y="3048120"/>
            <a:ext cx="1009440" cy="57456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Ulkoi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Liittym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804000" y="2109960"/>
            <a:ext cx="432000" cy="43308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227640" y="2109960"/>
            <a:ext cx="432000" cy="43308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380360" y="2108160"/>
            <a:ext cx="431640" cy="433440"/>
          </a:xfrm>
          <a:prstGeom prst="pentagon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150960" y="182232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Ulkoiset järjestelm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435640" y="3693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516720" y="2614680"/>
            <a:ext cx="21600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020000" y="261468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235640" y="2614680"/>
            <a:ext cx="36036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2"/>
          <a:stretch/>
        </p:blipFill>
        <p:spPr>
          <a:xfrm>
            <a:off x="5207040" y="2138400"/>
            <a:ext cx="706320" cy="90000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4211640" y="154296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siakkaat, Kumppan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yöntekij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948360" y="3693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593120" y="311796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619280" y="2629080"/>
            <a:ext cx="2665440" cy="576000"/>
            <a:chOff x="1619280" y="2629080"/>
            <a:chExt cx="2665440" cy="576000"/>
          </a:xfrm>
        </p:grpSpPr>
        <p:sp>
          <p:nvSpPr>
            <p:cNvPr id="1132" name=""/>
            <p:cNvSpPr/>
            <p:nvPr/>
          </p:nvSpPr>
          <p:spPr>
            <a:xfrm>
              <a:off x="1619280" y="2629080"/>
              <a:ext cx="79236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556000" y="2629080"/>
              <a:ext cx="79236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492720" y="2629080"/>
              <a:ext cx="792000" cy="576000"/>
            </a:xfrm>
            <a:prstGeom prst="can">
              <a:avLst>
                <a:gd name="adj" fmla="val 25000"/>
              </a:avLst>
            </a:prstGeom>
            <a:solidFill>
              <a:srgbClr val="b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824040" y="339264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A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137120" y="340668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orta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integra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340000" y="3191040"/>
            <a:ext cx="7128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276720" y="3189240"/>
            <a:ext cx="2156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3564000" y="3262320"/>
            <a:ext cx="287280" cy="21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564000" y="38368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411280" y="383868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Ulkoiset liittymä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voitteena usein yrityksen palvelu-, tilaus- ja hankintaprosessien (osittainen) automatisointi yritysten, ja sen asiakkaiden (ja toimittajien) välill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ritysten välisiä liittymiä – määriteltävä ja kehitettävä yhdessä asiakas- ja toimittajayritysten kan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atii aina prosessitason näkökulmaa sovellusintegraati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sessien tunnistaminen, abstraktointi ja rajapintojen (sopimusten) määrittely avainasema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rityisten välityspalveluiden rooli huomioi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oivat tarjota esim valmiita prosessimäärittelyitä ja piilottavat CBO-kerrok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sein nimenomaan ulkoiset B2B-liitymät tuovat lyhyenaikavalin  ROI:n ja ovat integraatiohankkeen suurin puolestapuh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Kumppani-integraatio –</a:t>
            </a:r>
            <a:br>
              <a:rPr sz="3000"/>
            </a:b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Prosessien näkyvy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333600" y="2303640"/>
            <a:ext cx="716040" cy="246672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122800" y="2303640"/>
            <a:ext cx="716040" cy="2466720"/>
          </a:xfrm>
          <a:prstGeom prst="rect">
            <a:avLst/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Cloud"/>
          <p:cNvSpPr/>
          <p:nvPr/>
        </p:nvSpPr>
        <p:spPr>
          <a:xfrm>
            <a:off x="539640" y="2906640"/>
            <a:ext cx="2579760" cy="1322640"/>
          </a:xfrm>
          <a:prstGeom prst="pie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ksity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Cloud"/>
          <p:cNvSpPr/>
          <p:nvPr/>
        </p:nvSpPr>
        <p:spPr>
          <a:xfrm>
            <a:off x="6267600" y="2960640"/>
            <a:ext cx="2361960" cy="1322280"/>
          </a:xfrm>
          <a:prstGeom prst="pie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ksity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49640" y="257652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4049280" y="317988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049640" y="383868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4049280" y="444024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2403360" y="2576520"/>
            <a:ext cx="93024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2188800" y="3727440"/>
            <a:ext cx="114444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 flipV="1">
            <a:off x="5838480" y="2576520"/>
            <a:ext cx="114444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5838840" y="3838320"/>
            <a:ext cx="1144440" cy="60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276720" y="18194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kinen pros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476520" y="2467080"/>
            <a:ext cx="430200" cy="218880"/>
          </a:xfrm>
          <a:prstGeom prst="roundRect">
            <a:avLst>
              <a:gd name="adj" fmla="val 16667"/>
            </a:avLst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76520" y="3070080"/>
            <a:ext cx="430200" cy="219240"/>
          </a:xfrm>
          <a:prstGeom prst="roundRect">
            <a:avLst>
              <a:gd name="adj" fmla="val 16667"/>
            </a:avLst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476520" y="3727440"/>
            <a:ext cx="430200" cy="220680"/>
          </a:xfrm>
          <a:prstGeom prst="roundRect">
            <a:avLst>
              <a:gd name="adj" fmla="val 16667"/>
            </a:avLst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76520" y="4330800"/>
            <a:ext cx="430200" cy="218880"/>
          </a:xfrm>
          <a:prstGeom prst="roundRect">
            <a:avLst>
              <a:gd name="adj" fmla="val 16667"/>
            </a:avLst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65720" y="2467080"/>
            <a:ext cx="430200" cy="218880"/>
          </a:xfrm>
          <a:prstGeom prst="roundRect">
            <a:avLst>
              <a:gd name="adj" fmla="val 16667"/>
            </a:avLst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265720" y="3070080"/>
            <a:ext cx="430200" cy="219240"/>
          </a:xfrm>
          <a:prstGeom prst="roundRect">
            <a:avLst>
              <a:gd name="adj" fmla="val 16667"/>
            </a:avLst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65720" y="3727440"/>
            <a:ext cx="430200" cy="220680"/>
          </a:xfrm>
          <a:prstGeom prst="roundRect">
            <a:avLst>
              <a:gd name="adj" fmla="val 16667"/>
            </a:avLst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265720" y="4330800"/>
            <a:ext cx="430200" cy="218880"/>
          </a:xfrm>
          <a:prstGeom prst="roundRect">
            <a:avLst>
              <a:gd name="adj" fmla="val 16667"/>
            </a:avLst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691080" y="268596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691080" y="328932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691080" y="394812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479920" y="268596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479920" y="328932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479920" y="394812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34160" y="47005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a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755640" y="5373720"/>
            <a:ext cx="786600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47880" bIns="47880" anchor="t">
            <a:normAutofit fontScale="99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umppani-integraation ydinhaaste on julkisten prosessien sovittamisessa sisäisiin (yksityisiin) prosesseihin ja niitä tukeviin operatiivisiin järjestelmiin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2050920" y="2492280"/>
            <a:ext cx="5183280" cy="3168720"/>
          </a:xfrm>
          <a:prstGeom prst="ellipse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Integraati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tuott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Integraatiotuotteiden taustois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403280" y="1866960"/>
            <a:ext cx="1922400" cy="1201680"/>
          </a:xfrm>
          <a:prstGeom prst="ellipse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Sovelluspalveli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J2EE, .Net, mu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970680" y="3500280"/>
            <a:ext cx="1922400" cy="1202040"/>
          </a:xfrm>
          <a:prstGeom prst="ellipse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Yhteysohjelmist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F yhteydet, H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räajojen hallinta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95280" y="3451320"/>
            <a:ext cx="1922400" cy="1201680"/>
          </a:xfrm>
          <a:prstGeom prst="ellipse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Sanomavälit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OM, Pub/Sub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ultiCast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835280" y="5180040"/>
            <a:ext cx="1922400" cy="1201680"/>
          </a:xfrm>
          <a:prstGeom prst="ellipse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Portaa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isällön aggregointi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ovellusportaalit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105600" y="2030400"/>
            <a:ext cx="1922400" cy="1201680"/>
          </a:xfrm>
          <a:prstGeom prst="ellipse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ehtävänhalli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Workflow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BPA, B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651640" y="5180040"/>
            <a:ext cx="1922400" cy="1201680"/>
          </a:xfrm>
          <a:prstGeom prst="ellipse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B2B ratkais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DI -palvelimet, mu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B2B palvelimet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rot="2467800">
            <a:off x="2662200" y="2852640"/>
            <a:ext cx="760320" cy="486000"/>
          </a:xfrm>
          <a:prstGeom prst="rightArrow">
            <a:avLst>
              <a:gd name="adj1" fmla="val 50000"/>
              <a:gd name="adj2" fmla="val 39111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195640" y="3860640"/>
            <a:ext cx="760320" cy="486000"/>
          </a:xfrm>
          <a:prstGeom prst="rightArrow">
            <a:avLst>
              <a:gd name="adj1" fmla="val 50000"/>
              <a:gd name="adj2" fmla="val 39111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rot="10623600">
            <a:off x="6300360" y="3933720"/>
            <a:ext cx="760320" cy="486000"/>
          </a:xfrm>
          <a:prstGeom prst="rightArrow">
            <a:avLst>
              <a:gd name="adj1" fmla="val 50000"/>
              <a:gd name="adj2" fmla="val 39111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rot="19123800">
            <a:off x="5602320" y="3087360"/>
            <a:ext cx="760320" cy="485640"/>
          </a:xfrm>
          <a:prstGeom prst="rightArrow">
            <a:avLst>
              <a:gd name="adj1" fmla="val 50000"/>
              <a:gd name="adj2" fmla="val 3914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rot="8350800">
            <a:off x="5962320" y="3087360"/>
            <a:ext cx="760320" cy="485640"/>
          </a:xfrm>
          <a:prstGeom prst="rightArrow">
            <a:avLst>
              <a:gd name="adj1" fmla="val 50000"/>
              <a:gd name="adj2" fmla="val 3914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8278200">
            <a:off x="3276720" y="4508280"/>
            <a:ext cx="760320" cy="485640"/>
          </a:xfrm>
          <a:prstGeom prst="rightArrow">
            <a:avLst>
              <a:gd name="adj1" fmla="val 50000"/>
              <a:gd name="adj2" fmla="val 3914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rot="19123800">
            <a:off x="3203640" y="4887720"/>
            <a:ext cx="760320" cy="485640"/>
          </a:xfrm>
          <a:prstGeom prst="rightArrow">
            <a:avLst>
              <a:gd name="adj1" fmla="val 50000"/>
              <a:gd name="adj2" fmla="val 3914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2743800">
            <a:off x="5461200" y="4502880"/>
            <a:ext cx="760320" cy="485640"/>
          </a:xfrm>
          <a:prstGeom prst="rightArrow">
            <a:avLst>
              <a:gd name="adj1" fmla="val 50000"/>
              <a:gd name="adj2" fmla="val 3914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13584000">
            <a:off x="5442480" y="4789800"/>
            <a:ext cx="760320" cy="486000"/>
          </a:xfrm>
          <a:prstGeom prst="rightArrow">
            <a:avLst>
              <a:gd name="adj1" fmla="val 50000"/>
              <a:gd name="adj2" fmla="val 39111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657600" y="1484280"/>
            <a:ext cx="1922400" cy="1201680"/>
          </a:xfrm>
          <a:prstGeom prst="ellipse">
            <a:avLst/>
          </a:prstGeom>
          <a:solidFill>
            <a:srgbClr val="b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Yrityssovelluk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RP, CRM, PD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LM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5400000">
            <a:off x="4289760" y="2589840"/>
            <a:ext cx="760320" cy="485640"/>
          </a:xfrm>
          <a:prstGeom prst="rightArrow">
            <a:avLst>
              <a:gd name="adj1" fmla="val 50000"/>
              <a:gd name="adj2" fmla="val 39140"/>
            </a:avLst>
          </a:prstGeom>
          <a:solidFill>
            <a:srgbClr val="e87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Tuote-/toimittajaesimerkkejä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BEA (WebLogic Integ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WLS:n lisäarvopaketoi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BM (WebSphere Business Integ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austana MQSeries (MOM), MQSeries Integrator (message broker), CrossWorlds (EAI), HOLOSOFX (prosessimallinnus) ja WebSphere Applicatio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crosoft (BizTalk 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lun perin kehitetty B2B-ratkaisuksi (EDI:n tappajak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eeBeyond (ICAN – Integrated Composite Application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essage broker –taustat (S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BCO (BusinessWo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ublish/subscribe ja message broker–teknologia tausta (rendev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eki EAI:ta ennen kuin lyhennettä oli keksit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" descr=""/>
          <p:cNvPicPr/>
          <p:nvPr/>
        </p:nvPicPr>
        <p:blipFill>
          <a:blip r:embed="rId1"/>
          <a:stretch/>
        </p:blipFill>
        <p:spPr>
          <a:xfrm>
            <a:off x="4788000" y="3467160"/>
            <a:ext cx="3960720" cy="2081160"/>
          </a:xfrm>
          <a:prstGeom prst="rect">
            <a:avLst/>
          </a:prstGeom>
          <a:ln w="0">
            <a:noFill/>
          </a:ln>
        </p:spPr>
      </p:pic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.Entäs sitten SOA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29920" y="198864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räs määrittely (W3C): 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 i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chitectural sty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hat promotes business process orchestration of enterprise-level business servi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90680" y="2997360"/>
            <a:ext cx="44416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A:n komponen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velut (serv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ros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rganisaa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UOM: SOA ei ole teknologia ja SOA != Web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i lopuviimeksi ole uusi ajatus – vrt. TPM –teknolog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rostaa palvelu- ja prosessi-näkökulmaa rajapintojen määrittelyn perus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Esittäjästä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M, Ohjelmistotekniikka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yö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elecom Finland / Sonera (1997-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nera Zed ltd (2000-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ovo Group / WM-data (2002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enkuva: Johtava konsultti (IT-strategiat ja -arkkitehtuurit, Integraatioarkkitehtuurit ja –strategiat, projektipäällikkö-tehtäviä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ialueita: Teollisuus, Telecom, Terveydenhuolto, Finan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Mihin SOA:lla pyritään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394488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voitteita (liiketoiminnallinen näkökul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rantaa muutosnopeu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rantaa toiminnan läpinäkyvyyttä ja seurant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hdollistaa prosessien ad hoc yhdistäminen ja optimoi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27080" y="1989000"/>
            <a:ext cx="394524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voitteita (tekninen näkökul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onimutkaisuuden kapselointi (sijainti, tekni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hdollistaa palveluiden monenlainen yhdis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rantaa kommunikaatiota tekniikan ja liiketoiminnan välillä (yhteinen kapseloi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onkreettinen julkisten ja sisäisten rajapintojen erottam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SOA ja WebServi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30280" y="1988640"/>
            <a:ext cx="8042400" cy="201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ikein sovellettuna WebServices tarjoaa hyvän kehyksen SOA-toteutuks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WSDL, UDDI, BPEL4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ytkentä olemassa oleviin taustajärjestelmiin kriittinen ominaisu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vellukset nähdään palvelun tuottajina (vrt. sovellusadapter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UOM! Samankaltaisuus SOA ja WebServices (UDDI) metamallei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509760" y="4286160"/>
            <a:ext cx="3990960" cy="209556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4792680" y="4046400"/>
            <a:ext cx="388296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ja mitäs sitten ESB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SB = Enterprise Service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essageBroker –tyyppisiä tuotteita, jotka ollaan toteutettu uusia teknologioita hyväksi käyttäen ja standardeihin nojaut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hityskielenä Java, sanomaväylänä JMS-toteutus, sovitin-/liittymäteknologiana WebServices (ja usein myös J2EE), transformaatiopalvelut perustuvat XSLT:hen, tietoturva ja A&amp;A ratkaisut nojaavat SSL &amp; LDAP, arkkitehtuurikonseptina 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tegraatioadaptereita usein tarjolla kolmansien osapuolten toteutuksina (J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otekonseptina suunnattu enemmän uusien palveluiden toteutukseen kuin integraatioalustoiksi, vaikka siihenkin niitä voi käyttää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ja mitäs se muu aakkossoppa olikaan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e87000"/>
                </a:solidFill>
                <a:latin typeface="Arial"/>
              </a:rPr>
              <a:t>Menetelmänäkökulmaa sovellusintegraatioon</a:t>
            </a:r>
            <a:endParaRPr b="1" lang="en-US" sz="3000" spc="-1" strike="noStrike">
              <a:solidFill>
                <a:srgbClr val="e87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Onnistuneen integraatioratkaisun osatekijöitä - Hallinnollisest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6624720" cy="4751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knisen kokonaisympäristön tuntemus (IT-arkkitehtuu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ovellukset, niiden toteutustavat ja –arkkitehtuurit, elinkaaret, 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oiminnallisen ympäristön tuntemus (Liiketoiminta-arkkitehtuu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iiketoiminta, ulkoiset ja sisäiset sidosryhmät, järjestelmäriippuvuud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iiketoimintatapahtumat ja niiden päätöstil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äsitteellisen ympäristön tuntemus (Tietoarkkitehtuu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oogiset ja fyysiset tietokokonaisuudet, omistavat prosessit ja järjestelm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uolellinen projektointi ja priorisoi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riippuvuussuhteiden huomiointi, toteutustenvaiheistus, hankkeen taktisen näkökulman konkretisointi, 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ommunikaatio sidosryhm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itouttaminen, odotustenhallinta, hyötyjen kommunikointi erittäin tärkeää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Integraation tarve tunnustetaan – se otetaan osaksi IT-kokonaisuutta ja sen hallinta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ankeet, projektit, budjetointi, priorisoinnit, toimintamallit,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" descr=""/>
          <p:cNvPicPr/>
          <p:nvPr/>
        </p:nvPicPr>
        <p:blipFill>
          <a:blip r:embed="rId1"/>
          <a:stretch/>
        </p:blipFill>
        <p:spPr>
          <a:xfrm>
            <a:off x="7126200" y="2782800"/>
            <a:ext cx="16938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Onnistuneen integraatioratkaisun osatekijöitä - Teknisest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66360" y="1890360"/>
            <a:ext cx="6210360" cy="4778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ääritellään arkkitehtuuri jonka puitteissa integraatiot on toteutet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Ratkaisukonseptit erityyppisten integraatioiden toteuttamisek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uote- ja teknologiavalinnat, standardien rool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Rakennetaan infrastruktuuri jota käyttäen integraatio on toteutet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joympäristö, integraatiotuote, sovellusadapte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arjotaan projekteille riittävä ohjeistus ja tuki ratkaisun käyttämisek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ratkaisun tekniset käyttöohjeet, käytön menettelyt (testaus, tuotantoonvienti, j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itoudutaan yhteisesti sovittuihin pelisääntöihin – ollaan valmiita ”kärsimään” lyhyellä tähtäimellä pitkän tähtäimen tavoitteiden hyväk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79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NIH –syndrooman kurissap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1"/>
          <a:stretch/>
        </p:blipFill>
        <p:spPr>
          <a:xfrm>
            <a:off x="7056360" y="2432160"/>
            <a:ext cx="15130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Integraatioratkaisun käyttöönoton vaikutuksi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29920" y="1988640"/>
            <a:ext cx="6127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ntegraatioiden toteuttamisesta tulee järjestelmällisempä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rojektiyllätykset vähenevä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yörän uudelleen keksiminen” vähen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ntegraation toteutuksen työmäärät pienevät ja kustannukset alenev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ntegraation luotettavuus ja laatu parane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enkilösidonnaisuus ja manuaalinen integraatiotyö vähen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6843600" y="3164040"/>
            <a:ext cx="17146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Resepti integraatioratkaisun kehittämisel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30280" y="1844280"/>
            <a:ext cx="8042400" cy="475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nnista organisaation raj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äärittele tavoitetila ja mittaris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nnista organisaation toimintamalli (proses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nnista liiketoimintamallin herätteet ja lopputi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nnista sovelluk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nnista tietokokonaisuudet ja määrittele tietovirrat (sovellusnäkökulma, prosessinäkökulma,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nnista sovellusten integraatiorajapinnat ja adapteritarp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nnista tiedon esitystapamuutokset ja niiden s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äärittele CBO: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nnista ei toiminnalliset vaatimuk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itse tekninen ratkaisumalli (buy vs. bui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äärittele toimintamallit (kehitys, testaus, tuotantoon vienti, tu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äärittele etenemismalli (hankesuunnitelma, projektoi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äärittele tuotteen/teknologian soveltamisoh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teuta, testaa, vie tuotantoon, toteuta, testaa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e87000"/>
                </a:solidFill>
                <a:latin typeface="Arial"/>
              </a:rPr>
              <a:t>Q&amp;A?</a:t>
            </a:r>
            <a:endParaRPr b="1" lang="en-US" sz="3000" spc="-1" strike="noStrike">
              <a:solidFill>
                <a:srgbClr val="e87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b2b2b2"/>
                </a:solidFill>
                <a:latin typeface="Arial"/>
              </a:rPr>
              <a:t>Joose Niemistö, WM-data Oy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b2b2b2"/>
                </a:solidFill>
                <a:latin typeface="Arial"/>
              </a:rPr>
              <a:t>&lt;joose.niemisto@wmdata.fi&gt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b2b2b2"/>
                </a:solidFill>
                <a:latin typeface="Arial"/>
              </a:rPr>
              <a:t>+358405965972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Esityksestä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äsittelee tietyn tyyppisten (integraatio) projektien ja tuotteiden (EAI) erityispiirtei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tyksessä esitetyt mallit ovat yleisiä, eivätkä viittaa mihinkään yksittäiseen tuottee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Kirjallisuutt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David S. Linthicum: 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hristoph Bussler: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B2B Integration – Concept And Ar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oward Smith, Peter Fingar: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Business Process Management – The Third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David S. Linthicum: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Next Generation Application Integration – From Simple Integration to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gor Hohpe, Bobby Woolf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nterprise Integration Patterns : Designing, Building, and Deploying Messag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Doug Kaye: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osely Coupled: The Missing Pieces of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Screen shottej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crosoft BizTalk Serv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1"/>
          <a:stretch/>
        </p:blipFill>
        <p:spPr>
          <a:xfrm>
            <a:off x="2897280" y="907920"/>
            <a:ext cx="355428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6120000" cy="5772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" descr=""/>
          <p:cNvPicPr/>
          <p:nvPr/>
        </p:nvPicPr>
        <p:blipFill>
          <a:blip r:embed="rId1"/>
          <a:stretch/>
        </p:blipFill>
        <p:spPr>
          <a:xfrm>
            <a:off x="2438280" y="836640"/>
            <a:ext cx="407844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1"/>
          <a:srcRect l="0" t="0" r="52730" b="28209"/>
          <a:stretch/>
        </p:blipFill>
        <p:spPr>
          <a:xfrm>
            <a:off x="1979640" y="1125360"/>
            <a:ext cx="5391000" cy="504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1"/>
          <a:stretch/>
        </p:blipFill>
        <p:spPr>
          <a:xfrm>
            <a:off x="900000" y="80028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" descr=""/>
          <p:cNvPicPr/>
          <p:nvPr/>
        </p:nvPicPr>
        <p:blipFill>
          <a:blip r:embed="rId1"/>
          <a:stretch/>
        </p:blipFill>
        <p:spPr>
          <a:xfrm>
            <a:off x="1474920" y="863640"/>
            <a:ext cx="6481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971640" y="1074600"/>
          <a:ext cx="7056360" cy="487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74600"/>
                    <a:ext cx="7056360" cy="4875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9134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e87000"/>
                </a:solidFill>
                <a:latin typeface="Arial"/>
              </a:rPr>
              <a:t>Mitä sovellusintegraatio on?</a:t>
            </a:r>
            <a:endParaRPr b="1" lang="en-US" sz="3000" spc="-1" strike="noStrike">
              <a:solidFill>
                <a:srgbClr val="e87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1116000" y="330120"/>
            <a:ext cx="691200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1"/>
          <a:stretch/>
        </p:blipFill>
        <p:spPr>
          <a:xfrm>
            <a:off x="611280" y="809640"/>
            <a:ext cx="7561080" cy="542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684360" y="923760"/>
            <a:ext cx="7416720" cy="5097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408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29920" y="63000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i-FI" sz="3000" spc="-1" strike="noStrike">
                <a:solidFill>
                  <a:srgbClr val="000000"/>
                </a:solidFill>
                <a:latin typeface="Arial"/>
              </a:rPr>
              <a:t>Sovellusintegraati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0280" y="1989000"/>
            <a:ext cx="8042400" cy="426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ri lähteistä olevien järjestelmien (koneet, tietoliikenneyhteydet, varusohjelmistot, sovellukset) liittäminen yhteen, siten että ne voivat jakaa tietoa keskenää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terprise Application Integration (EAI) is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unrestricted sharing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among any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connected application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data source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enterprise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” (Linthicum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integrat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that w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depend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ed, may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ompatible techn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main independ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naged” (EAI Consort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M-data</cp:lastModifiedBy>
  <dcterms:modified xsi:type="dcterms:W3CDTF">2004-11-25T18:41:48Z</dcterms:modified>
  <cp:revision>802</cp:revision>
  <dc:subject/>
  <dc:title>PowerPoint Presentation</dc:title>
</cp:coreProperties>
</file>