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0532-1600-4C98-861A-0E861216A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4D8C-8C2F-490E-A989-394D504A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5526-6F46-4487-8F41-EFA4D885B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73B5-697B-458F-99F6-0AA996F06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003F-3B9F-470A-A02A-0F4EFEF0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728C-1E7E-423B-B206-DB5FBE8E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AEF2-AE0A-4922-B1B4-904A3A97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DBA4-D333-43EA-925C-28A79444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9947-ECCC-4BF3-A77D-8E969B48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9E87-D957-4167-A623-BF145CA5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C649-67C2-4CC6-9752-5855EF9F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D02E-B7A5-4FA0-BEFE-A8FF1955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7A22-1D74-462B-B1BA-43A515AA7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fol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9:01:13Z</dcterms:created>
  <dc:creator>holzhäuser</dc:creator>
  <dc:description/>
  <dc:language>en-US</dc:language>
  <cp:lastModifiedBy>holzhäuser</cp:lastModifiedBy>
  <dcterms:modified xsi:type="dcterms:W3CDTF">2005-04-15T09:01:25Z</dcterms:modified>
  <cp:revision>1</cp:revision>
  <dc:subject/>
  <dc:title>Testfolie</dc:title>
</cp:coreProperties>
</file>